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529200" y="586080"/>
            <a:ext cx="421560" cy="466560"/>
            <a:chOff x="529200" y="586080"/>
            <a:chExt cx="421560" cy="466560"/>
          </a:xfrm>
        </p:grpSpPr>
        <p:grpSp>
          <p:nvGrpSpPr>
            <p:cNvPr id="37" name=""/>
            <p:cNvGrpSpPr/>
            <p:nvPr/>
          </p:nvGrpSpPr>
          <p:grpSpPr>
            <a:xfrm>
              <a:off x="529200" y="586080"/>
              <a:ext cx="421560" cy="397440"/>
              <a:chOff x="529200" y="586080"/>
              <a:chExt cx="421560" cy="397440"/>
            </a:xfrm>
          </p:grpSpPr>
          <p:sp>
            <p:nvSpPr>
              <p:cNvPr id="38" name=""/>
              <p:cNvSpPr txBox="1"/>
              <p:nvPr/>
            </p:nvSpPr>
            <p:spPr>
              <a:xfrm rot="694800">
                <a:off x="558720" y="618840"/>
                <a:ext cx="362160" cy="331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5724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メイリオ"/>
                  </a:rPr>
                  <a:t>〆</a:t>
                </a:r>
                <a:endParaRPr b="1" lang="en-US" sz="1800" spc="1" strike="noStrike">
                  <a:ln w="5724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39" name=""/>
              <p:cNvSpPr txBox="1"/>
              <p:nvPr/>
            </p:nvSpPr>
            <p:spPr>
              <a:xfrm rot="694800">
                <a:off x="558720" y="618840"/>
                <a:ext cx="362160" cy="331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99"/>
                    </a:solidFill>
                    <a:latin typeface="メイリオ"/>
                  </a:rPr>
                  <a:t>〆</a:t>
                </a:r>
                <a:endParaRPr b="1" lang="en-US" sz="1800" spc="1" strike="noStrike">
                  <a:ln w="0">
                    <a:noFill/>
                  </a:ln>
                  <a:solidFill>
                    <a:srgbClr val="ffff99"/>
                  </a:solidFill>
                  <a:latin typeface="メイリオ"/>
                  <a:ea typeface="メイリオ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542880" y="903240"/>
              <a:ext cx="395280" cy="149400"/>
              <a:chOff x="542880" y="903240"/>
              <a:chExt cx="395280" cy="149400"/>
            </a:xfrm>
          </p:grpSpPr>
          <p:sp>
            <p:nvSpPr>
              <p:cNvPr id="41" name=""/>
              <p:cNvSpPr txBox="1"/>
              <p:nvPr/>
            </p:nvSpPr>
            <p:spPr>
              <a:xfrm>
                <a:off x="542880" y="903240"/>
                <a:ext cx="39528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5724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メイリオ"/>
                  </a:rPr>
                  <a:t>締切り</a:t>
                </a:r>
                <a:endParaRPr b="1" lang="en-US" sz="1800" spc="1" strike="noStrike">
                  <a:ln w="5724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42" name=""/>
              <p:cNvSpPr txBox="1"/>
              <p:nvPr/>
            </p:nvSpPr>
            <p:spPr>
              <a:xfrm>
                <a:off x="542880" y="903240"/>
                <a:ext cx="39528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締切り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1318680" y="610560"/>
            <a:ext cx="407160" cy="464040"/>
            <a:chOff x="1318680" y="610560"/>
            <a:chExt cx="407160" cy="464040"/>
          </a:xfrm>
        </p:grpSpPr>
        <p:grpSp>
          <p:nvGrpSpPr>
            <p:cNvPr id="44" name=""/>
            <p:cNvGrpSpPr/>
            <p:nvPr/>
          </p:nvGrpSpPr>
          <p:grpSpPr>
            <a:xfrm>
              <a:off x="1318680" y="610560"/>
              <a:ext cx="407160" cy="385560"/>
              <a:chOff x="1318680" y="610560"/>
              <a:chExt cx="407160" cy="385560"/>
            </a:xfrm>
          </p:grpSpPr>
          <p:sp>
            <p:nvSpPr>
              <p:cNvPr id="45" name=""/>
              <p:cNvSpPr/>
              <p:nvPr/>
            </p:nvSpPr>
            <p:spPr>
              <a:xfrm>
                <a:off x="1349280" y="630000"/>
                <a:ext cx="342360" cy="341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447560" y="727920"/>
                <a:ext cx="146520" cy="126360"/>
              </a:xfrm>
              <a:prstGeom prst="hexagon">
                <a:avLst>
                  <a:gd name="adj" fmla="val 28989"/>
                  <a:gd name="vf" fmla="val 115470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390320" y="899640"/>
                <a:ext cx="76320" cy="6228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6960000">
                <a:off x="1407600" y="627120"/>
                <a:ext cx="75960" cy="6228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3624000">
                <a:off x="1326240" y="738360"/>
                <a:ext cx="75960" cy="6228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8504600">
                <a:off x="1551240" y="915840"/>
                <a:ext cx="75960" cy="6228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1026800">
                <a:off x="1573920" y="633240"/>
                <a:ext cx="76680" cy="6192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4450400">
                <a:off x="1641960" y="777240"/>
                <a:ext cx="75960" cy="6228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1320840" y="923760"/>
              <a:ext cx="401760" cy="150840"/>
              <a:chOff x="1320840" y="923760"/>
              <a:chExt cx="401760" cy="150840"/>
            </a:xfrm>
          </p:grpSpPr>
          <p:sp>
            <p:nvSpPr>
              <p:cNvPr id="54" name=""/>
              <p:cNvSpPr txBox="1"/>
              <p:nvPr/>
            </p:nvSpPr>
            <p:spPr>
              <a:xfrm>
                <a:off x="1320840" y="9255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5724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メイリオ"/>
                  </a:rPr>
                  <a:t>キックオフ</a:t>
                </a:r>
                <a:endParaRPr b="1" lang="en-US" sz="1800" spc="1" strike="noStrike">
                  <a:ln w="5724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1322280" y="9237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キックオフ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sp>
        <p:nvSpPr>
          <p:cNvPr id="56" name=""/>
          <p:cNvSpPr/>
          <p:nvPr/>
        </p:nvSpPr>
        <p:spPr>
          <a:xfrm>
            <a:off x="606960" y="260280"/>
            <a:ext cx="118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■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スケジュールパー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5011560"/>
            <a:ext cx="10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■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マーキングパー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631800" y="5300640"/>
            <a:ext cx="217440" cy="216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920880" y="5300640"/>
            <a:ext cx="21744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208160" y="5300640"/>
            <a:ext cx="217440" cy="21600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1496520" y="5300640"/>
            <a:ext cx="217800" cy="2160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1784520" y="5300640"/>
            <a:ext cx="217440" cy="21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 rot="10800000">
            <a:off x="631800" y="5658480"/>
            <a:ext cx="217440" cy="21564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10800000">
            <a:off x="920880" y="5658480"/>
            <a:ext cx="217440" cy="215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 rot="10800000">
            <a:off x="1208160" y="5658480"/>
            <a:ext cx="217440" cy="21564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 rot="10800000">
            <a:off x="1496520" y="5658480"/>
            <a:ext cx="217800" cy="21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 rot="10800000">
            <a:off x="1784520" y="5658480"/>
            <a:ext cx="21744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790720" y="1266840"/>
            <a:ext cx="509760" cy="511200"/>
            <a:chOff x="2790720" y="1266840"/>
            <a:chExt cx="509760" cy="511200"/>
          </a:xfrm>
        </p:grpSpPr>
        <p:sp>
          <p:nvSpPr>
            <p:cNvPr id="69" name=""/>
            <p:cNvSpPr/>
            <p:nvPr/>
          </p:nvSpPr>
          <p:spPr>
            <a:xfrm rot="2700000">
              <a:off x="2865240" y="1341360"/>
              <a:ext cx="360360" cy="360360"/>
            </a:xfrm>
            <a:prstGeom prst="plus">
              <a:avLst>
                <a:gd name="adj" fmla="val 35241"/>
              </a:avLst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844720" y="1628640"/>
              <a:ext cx="399960" cy="149400"/>
              <a:chOff x="2844720" y="1628640"/>
              <a:chExt cx="399960" cy="149400"/>
            </a:xfrm>
          </p:grpSpPr>
          <p:sp>
            <p:nvSpPr>
              <p:cNvPr id="71" name=""/>
              <p:cNvSpPr txBox="1"/>
              <p:nvPr/>
            </p:nvSpPr>
            <p:spPr>
              <a:xfrm>
                <a:off x="2844720" y="162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取消し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2844720" y="162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取消し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631800" y="6019920"/>
            <a:ext cx="217440" cy="288720"/>
          </a:xfrm>
          <a:prstGeom prst="downArrow">
            <a:avLst>
              <a:gd name="adj1" fmla="val 37361"/>
              <a:gd name="adj2" fmla="val 8982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20880" y="6019920"/>
            <a:ext cx="217440" cy="288720"/>
          </a:xfrm>
          <a:prstGeom prst="downArrow">
            <a:avLst>
              <a:gd name="adj1" fmla="val 37361"/>
              <a:gd name="adj2" fmla="val 8982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08160" y="6019920"/>
            <a:ext cx="217440" cy="288720"/>
          </a:xfrm>
          <a:prstGeom prst="downArrow">
            <a:avLst>
              <a:gd name="adj1" fmla="val 37361"/>
              <a:gd name="adj2" fmla="val 89824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96880" y="6019920"/>
            <a:ext cx="217800" cy="288720"/>
          </a:xfrm>
          <a:prstGeom prst="downArrow">
            <a:avLst>
              <a:gd name="adj1" fmla="val 37361"/>
              <a:gd name="adj2" fmla="val 89675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84520" y="6019920"/>
            <a:ext cx="217440" cy="288720"/>
          </a:xfrm>
          <a:prstGeom prst="downArrow">
            <a:avLst>
              <a:gd name="adj1" fmla="val 37361"/>
              <a:gd name="adj2" fmla="val 8982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1800" y="6380280"/>
            <a:ext cx="217440" cy="288720"/>
          </a:xfrm>
          <a:prstGeom prst="downArrow">
            <a:avLst>
              <a:gd name="adj1" fmla="val 37361"/>
              <a:gd name="adj2" fmla="val 8982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20880" y="6380280"/>
            <a:ext cx="217440" cy="288720"/>
          </a:xfrm>
          <a:prstGeom prst="downArrow">
            <a:avLst>
              <a:gd name="adj1" fmla="val 37361"/>
              <a:gd name="adj2" fmla="val 8982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208160" y="6380280"/>
            <a:ext cx="217440" cy="288720"/>
          </a:xfrm>
          <a:prstGeom prst="downArrow">
            <a:avLst>
              <a:gd name="adj1" fmla="val 37361"/>
              <a:gd name="adj2" fmla="val 89824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496880" y="6380280"/>
            <a:ext cx="217800" cy="288720"/>
          </a:xfrm>
          <a:prstGeom prst="downArrow">
            <a:avLst>
              <a:gd name="adj1" fmla="val 37361"/>
              <a:gd name="adj2" fmla="val 89675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784520" y="6380280"/>
            <a:ext cx="217440" cy="288720"/>
          </a:xfrm>
          <a:prstGeom prst="downArrow">
            <a:avLst>
              <a:gd name="adj1" fmla="val 37361"/>
              <a:gd name="adj2" fmla="val 8982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700000">
            <a:off x="2215800" y="5300640"/>
            <a:ext cx="244440" cy="244440"/>
          </a:xfrm>
          <a:prstGeom prst="plus">
            <a:avLst>
              <a:gd name="adj" fmla="val 35241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700000">
            <a:off x="3080880" y="5300640"/>
            <a:ext cx="244440" cy="244440"/>
          </a:xfrm>
          <a:prstGeom prst="plus">
            <a:avLst>
              <a:gd name="adj" fmla="val 35241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700000">
            <a:off x="3368880" y="5300280"/>
            <a:ext cx="244440" cy="244800"/>
          </a:xfrm>
          <a:prstGeom prst="plus">
            <a:avLst>
              <a:gd name="adj" fmla="val 3524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085840" y="2104920"/>
            <a:ext cx="432000" cy="393840"/>
            <a:chOff x="2085840" y="2104920"/>
            <a:chExt cx="432000" cy="393840"/>
          </a:xfrm>
        </p:grpSpPr>
        <p:grpSp>
          <p:nvGrpSpPr>
            <p:cNvPr id="87" name=""/>
            <p:cNvGrpSpPr/>
            <p:nvPr/>
          </p:nvGrpSpPr>
          <p:grpSpPr>
            <a:xfrm>
              <a:off x="2085840" y="2104920"/>
              <a:ext cx="432000" cy="244440"/>
              <a:chOff x="2085840" y="2104920"/>
              <a:chExt cx="432000" cy="24444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085840" y="2104920"/>
                <a:ext cx="432000" cy="244440"/>
                <a:chOff x="2085840" y="2104920"/>
                <a:chExt cx="432000" cy="2444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388240" y="2263320"/>
                  <a:ext cx="86040" cy="86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128320" y="2263320"/>
                  <a:ext cx="86400" cy="86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085840" y="2104920"/>
                  <a:ext cx="432000" cy="201600"/>
                </a:xfrm>
                <a:custGeom>
                  <a:avLst/>
                  <a:gdLst/>
                  <a:ahLst/>
                  <a:rect l="l" t="t" r="r" b="b"/>
                  <a:pathLst>
                    <a:path w="680" h="318">
                      <a:moveTo>
                        <a:pt x="680" y="318"/>
                      </a:moveTo>
                      <a:lnTo>
                        <a:pt x="0" y="318"/>
                      </a:lnTo>
                      <a:lnTo>
                        <a:pt x="0" y="182"/>
                      </a:lnTo>
                      <a:lnTo>
                        <a:pt x="90" y="46"/>
                      </a:lnTo>
                      <a:lnTo>
                        <a:pt x="226" y="46"/>
                      </a:lnTo>
                      <a:lnTo>
                        <a:pt x="226" y="0"/>
                      </a:lnTo>
                      <a:lnTo>
                        <a:pt x="680" y="0"/>
                      </a:lnTo>
                      <a:lnTo>
                        <a:pt x="680" y="3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085840" y="2104920"/>
                <a:ext cx="431640" cy="244080"/>
                <a:chOff x="2085840" y="2104920"/>
                <a:chExt cx="431640" cy="2440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388240" y="2263680"/>
                  <a:ext cx="85680" cy="8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127600" y="2263680"/>
                  <a:ext cx="87120" cy="8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142720" y="2277360"/>
                  <a:ext cx="56880" cy="568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403360" y="2277360"/>
                  <a:ext cx="56880" cy="568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228760" y="2104920"/>
                  <a:ext cx="288720" cy="20088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085840" y="2133000"/>
                  <a:ext cx="142920" cy="172440"/>
                </a:xfrm>
                <a:custGeom>
                  <a:avLst/>
                  <a:gdLst/>
                  <a:ahLst/>
                  <a:rect l="l" t="t" r="r" b="b"/>
                  <a:pathLst>
                    <a:path w="226" h="272">
                      <a:moveTo>
                        <a:pt x="226" y="272"/>
                      </a:moveTo>
                      <a:lnTo>
                        <a:pt x="0" y="272"/>
                      </a:lnTo>
                      <a:lnTo>
                        <a:pt x="0" y="136"/>
                      </a:lnTo>
                      <a:lnTo>
                        <a:pt x="90" y="0"/>
                      </a:lnTo>
                      <a:lnTo>
                        <a:pt x="226" y="0"/>
                      </a:lnTo>
                      <a:lnTo>
                        <a:pt x="226" y="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085840" y="213300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0" y="136"/>
                      </a:moveTo>
                      <a:lnTo>
                        <a:pt x="90" y="136"/>
                      </a:lnTo>
                      <a:lnTo>
                        <a:pt x="90" y="0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287440" y="2104920"/>
                  <a:ext cx="56880" cy="2008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403360" y="2104920"/>
                  <a:ext cx="56880" cy="2008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2101680" y="2349360"/>
              <a:ext cx="400320" cy="149400"/>
              <a:chOff x="2101680" y="2349360"/>
              <a:chExt cx="400320" cy="149400"/>
            </a:xfrm>
          </p:grpSpPr>
          <p:sp>
            <p:nvSpPr>
              <p:cNvPr id="103" name=""/>
              <p:cNvSpPr txBox="1"/>
              <p:nvPr/>
            </p:nvSpPr>
            <p:spPr>
              <a:xfrm>
                <a:off x="2101680" y="23493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配達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>
                <a:off x="2101680" y="23493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配達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2828880" y="2104920"/>
            <a:ext cx="432000" cy="393840"/>
            <a:chOff x="2828880" y="2104920"/>
            <a:chExt cx="432000" cy="393840"/>
          </a:xfrm>
        </p:grpSpPr>
        <p:grpSp>
          <p:nvGrpSpPr>
            <p:cNvPr id="106" name=""/>
            <p:cNvGrpSpPr/>
            <p:nvPr/>
          </p:nvGrpSpPr>
          <p:grpSpPr>
            <a:xfrm>
              <a:off x="2828880" y="2104920"/>
              <a:ext cx="432000" cy="244440"/>
              <a:chOff x="2828880" y="2104920"/>
              <a:chExt cx="432000" cy="24444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2828880" y="2104920"/>
                <a:ext cx="432000" cy="244440"/>
                <a:chOff x="2828880" y="2104920"/>
                <a:chExt cx="432000" cy="2444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131280" y="2263320"/>
                  <a:ext cx="86040" cy="86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871360" y="2263320"/>
                  <a:ext cx="86400" cy="86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828880" y="2104920"/>
                  <a:ext cx="432000" cy="201600"/>
                </a:xfrm>
                <a:custGeom>
                  <a:avLst/>
                  <a:gdLst/>
                  <a:ahLst/>
                  <a:rect l="l" t="t" r="r" b="b"/>
                  <a:pathLst>
                    <a:path w="680" h="318">
                      <a:moveTo>
                        <a:pt x="680" y="318"/>
                      </a:moveTo>
                      <a:lnTo>
                        <a:pt x="0" y="318"/>
                      </a:lnTo>
                      <a:lnTo>
                        <a:pt x="0" y="182"/>
                      </a:lnTo>
                      <a:lnTo>
                        <a:pt x="90" y="46"/>
                      </a:lnTo>
                      <a:lnTo>
                        <a:pt x="226" y="46"/>
                      </a:lnTo>
                      <a:lnTo>
                        <a:pt x="226" y="0"/>
                      </a:lnTo>
                      <a:lnTo>
                        <a:pt x="680" y="0"/>
                      </a:lnTo>
                      <a:lnTo>
                        <a:pt x="680" y="3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828880" y="2104920"/>
                <a:ext cx="431640" cy="244080"/>
                <a:chOff x="2828880" y="2104920"/>
                <a:chExt cx="431640" cy="244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131280" y="2263680"/>
                  <a:ext cx="85680" cy="8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871000" y="2263680"/>
                  <a:ext cx="87120" cy="8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885760" y="2277360"/>
                  <a:ext cx="57240" cy="568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146400" y="2277360"/>
                  <a:ext cx="56880" cy="568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971800" y="2104920"/>
                  <a:ext cx="288720" cy="200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828880" y="2133000"/>
                  <a:ext cx="142920" cy="172440"/>
                </a:xfrm>
                <a:custGeom>
                  <a:avLst/>
                  <a:gdLst/>
                  <a:ahLst/>
                  <a:rect l="l" t="t" r="r" b="b"/>
                  <a:pathLst>
                    <a:path w="226" h="272">
                      <a:moveTo>
                        <a:pt x="226" y="272"/>
                      </a:moveTo>
                      <a:lnTo>
                        <a:pt x="0" y="272"/>
                      </a:lnTo>
                      <a:lnTo>
                        <a:pt x="0" y="136"/>
                      </a:lnTo>
                      <a:lnTo>
                        <a:pt x="90" y="0"/>
                      </a:lnTo>
                      <a:lnTo>
                        <a:pt x="226" y="0"/>
                      </a:lnTo>
                      <a:lnTo>
                        <a:pt x="226" y="272"/>
                      </a:lnTo>
                      <a:close/>
                    </a:path>
                  </a:pathLst>
                </a:cu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828880" y="213300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0" y="136"/>
                      </a:moveTo>
                      <a:lnTo>
                        <a:pt x="90" y="136"/>
                      </a:lnTo>
                      <a:lnTo>
                        <a:pt x="90" y="0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2844720" y="2349360"/>
              <a:ext cx="399960" cy="149400"/>
              <a:chOff x="2844720" y="2349360"/>
              <a:chExt cx="399960" cy="149400"/>
            </a:xfrm>
          </p:grpSpPr>
          <p:sp>
            <p:nvSpPr>
              <p:cNvPr id="120" name=""/>
              <p:cNvSpPr txBox="1"/>
              <p:nvPr/>
            </p:nvSpPr>
            <p:spPr>
              <a:xfrm>
                <a:off x="2844720" y="234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輸送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2844720" y="234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輸送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5022000" y="5011560"/>
            <a:ext cx="8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■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メモパー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97600" y="5300640"/>
            <a:ext cx="1295280" cy="501840"/>
          </a:xfrm>
          <a:prstGeom prst="foldedCorner">
            <a:avLst>
              <a:gd name="adj" fmla="val 6611"/>
            </a:avLst>
          </a:prstGeom>
          <a:solidFill>
            <a:srgbClr val="ffffff"/>
          </a:solidFill>
          <a:ln w="255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メイリオ"/>
              </a:rPr>
              <a:t>文字文字文字文字文字文字文字文字文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4880" y="5300640"/>
            <a:ext cx="1295280" cy="501840"/>
          </a:xfrm>
          <a:prstGeom prst="foldedCorner">
            <a:avLst>
              <a:gd name="adj" fmla="val 6611"/>
            </a:avLst>
          </a:prstGeom>
          <a:solidFill>
            <a:srgbClr val="ffff99"/>
          </a:solidFill>
          <a:ln w="255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メイリオ"/>
              </a:rPr>
              <a:t>文字文字文字文字文字文字文字文字文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85160" y="5300640"/>
            <a:ext cx="1295280" cy="501840"/>
          </a:xfrm>
          <a:prstGeom prst="foldedCorner">
            <a:avLst>
              <a:gd name="adj" fmla="val 6611"/>
            </a:avLst>
          </a:prstGeom>
          <a:solidFill>
            <a:srgbClr val="99ccff"/>
          </a:solidFill>
          <a:ln w="255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メイリオ"/>
              </a:rPr>
              <a:t>文字文字文字文字文字文字文字文字文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83280" y="1413000"/>
            <a:ext cx="402840" cy="360360"/>
            <a:chOff x="5183280" y="1413000"/>
            <a:chExt cx="402840" cy="360360"/>
          </a:xfrm>
        </p:grpSpPr>
        <p:grpSp>
          <p:nvGrpSpPr>
            <p:cNvPr id="127" name=""/>
            <p:cNvGrpSpPr/>
            <p:nvPr/>
          </p:nvGrpSpPr>
          <p:grpSpPr>
            <a:xfrm>
              <a:off x="5189400" y="1413000"/>
              <a:ext cx="390600" cy="266040"/>
              <a:chOff x="5189400" y="1413000"/>
              <a:chExt cx="390600" cy="2660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255280" y="1413000"/>
                <a:ext cx="120600" cy="206280"/>
                <a:chOff x="5255280" y="1413000"/>
                <a:chExt cx="120600" cy="20628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5255280" y="1413000"/>
                  <a:ext cx="120240" cy="206280"/>
                  <a:chOff x="5255280" y="1413000"/>
                  <a:chExt cx="120240" cy="20628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5270400" y="1413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255280" y="1501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255280" y="1560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5255640" y="1413000"/>
                  <a:ext cx="120240" cy="206280"/>
                  <a:chOff x="5255640" y="1413000"/>
                  <a:chExt cx="120240" cy="206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5270760" y="1413000"/>
                    <a:ext cx="90000" cy="885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255640" y="1501560"/>
                    <a:ext cx="120240" cy="1177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255640" y="1560240"/>
                    <a:ext cx="119520" cy="5904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"/>
              <p:cNvGrpSpPr/>
              <p:nvPr/>
            </p:nvGrpSpPr>
            <p:grpSpPr>
              <a:xfrm>
                <a:off x="5390280" y="1413000"/>
                <a:ext cx="120960" cy="206280"/>
                <a:chOff x="5390280" y="1413000"/>
                <a:chExt cx="120960" cy="2062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5390280" y="1413000"/>
                  <a:ext cx="120240" cy="206280"/>
                  <a:chOff x="5390280" y="1413000"/>
                  <a:chExt cx="120240" cy="2062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5405400" y="1413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390280" y="1501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390280" y="1560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5391000" y="1413000"/>
                  <a:ext cx="120240" cy="206280"/>
                  <a:chOff x="5391000" y="1413000"/>
                  <a:chExt cx="120240" cy="2062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5406120" y="1413000"/>
                    <a:ext cx="90000" cy="8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391000" y="1501560"/>
                    <a:ext cx="12024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391000" y="1560240"/>
                    <a:ext cx="119520" cy="59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"/>
              <p:cNvGrpSpPr/>
              <p:nvPr/>
            </p:nvGrpSpPr>
            <p:grpSpPr>
              <a:xfrm>
                <a:off x="5189400" y="1472760"/>
                <a:ext cx="120600" cy="206280"/>
                <a:chOff x="5189400" y="1472760"/>
                <a:chExt cx="120600" cy="20628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5189400" y="1472760"/>
                  <a:ext cx="120240" cy="206280"/>
                  <a:chOff x="5189400" y="1472760"/>
                  <a:chExt cx="120240" cy="2062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5204520" y="147276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189400" y="156132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189400" y="162000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5189760" y="1472760"/>
                  <a:ext cx="120240" cy="206280"/>
                  <a:chOff x="5189760" y="1472760"/>
                  <a:chExt cx="120240" cy="2062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5204880" y="1472760"/>
                    <a:ext cx="90000" cy="88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5189760" y="1561320"/>
                    <a:ext cx="120240" cy="11772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189760" y="1620000"/>
                    <a:ext cx="119520" cy="590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5324040" y="1472760"/>
                <a:ext cx="120600" cy="206280"/>
                <a:chOff x="5324040" y="1472760"/>
                <a:chExt cx="120600" cy="20628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5324040" y="1472760"/>
                  <a:ext cx="120240" cy="206280"/>
                  <a:chOff x="5324040" y="1472760"/>
                  <a:chExt cx="120240" cy="2062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5339160" y="147276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324040" y="156132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324040" y="162000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5324400" y="1472760"/>
                  <a:ext cx="120240" cy="206280"/>
                  <a:chOff x="5324400" y="1472760"/>
                  <a:chExt cx="120240" cy="20628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5339520" y="1472760"/>
                    <a:ext cx="90000" cy="88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324400" y="1561320"/>
                    <a:ext cx="120240" cy="117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324400" y="1620000"/>
                    <a:ext cx="119520" cy="5904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"/>
              <p:cNvGrpSpPr/>
              <p:nvPr/>
            </p:nvGrpSpPr>
            <p:grpSpPr>
              <a:xfrm>
                <a:off x="5459040" y="1472760"/>
                <a:ext cx="120960" cy="206280"/>
                <a:chOff x="5459040" y="1472760"/>
                <a:chExt cx="120960" cy="20628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5459040" y="1472760"/>
                  <a:ext cx="120240" cy="206280"/>
                  <a:chOff x="5459040" y="1472760"/>
                  <a:chExt cx="120240" cy="206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5474160" y="147276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459040" y="156132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459040" y="162000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59760" y="1472760"/>
                  <a:ext cx="120240" cy="206280"/>
                  <a:chOff x="5459760" y="1472760"/>
                  <a:chExt cx="120240" cy="206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74880" y="1472760"/>
                    <a:ext cx="90000" cy="885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59760" y="1561320"/>
                    <a:ext cx="120240" cy="1177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459760" y="1620000"/>
                    <a:ext cx="119520" cy="59040"/>
                  </a:xfrm>
                  <a:prstGeom prst="rect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3" name=""/>
            <p:cNvGrpSpPr/>
            <p:nvPr/>
          </p:nvGrpSpPr>
          <p:grpSpPr>
            <a:xfrm>
              <a:off x="5183280" y="1623960"/>
              <a:ext cx="402840" cy="149400"/>
              <a:chOff x="5183280" y="1623960"/>
              <a:chExt cx="402840" cy="149400"/>
            </a:xfrm>
          </p:grpSpPr>
          <p:sp>
            <p:nvSpPr>
              <p:cNvPr id="174" name=""/>
              <p:cNvSpPr txBox="1"/>
              <p:nvPr/>
            </p:nvSpPr>
            <p:spPr>
              <a:xfrm>
                <a:off x="5186160" y="1623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報告会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5183280" y="1623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報告会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8256240" y="1986120"/>
            <a:ext cx="509760" cy="517320"/>
            <a:chOff x="8256240" y="1986120"/>
            <a:chExt cx="509760" cy="517320"/>
          </a:xfrm>
        </p:grpSpPr>
        <p:sp>
          <p:nvSpPr>
            <p:cNvPr id="177" name=""/>
            <p:cNvSpPr/>
            <p:nvPr/>
          </p:nvSpPr>
          <p:spPr>
            <a:xfrm rot="2700000">
              <a:off x="8330760" y="2060640"/>
              <a:ext cx="360360" cy="360360"/>
            </a:xfrm>
            <a:prstGeom prst="plus">
              <a:avLst>
                <a:gd name="adj" fmla="val 35241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8308800" y="2354400"/>
              <a:ext cx="403560" cy="149040"/>
              <a:chOff x="8308800" y="2354400"/>
              <a:chExt cx="403560" cy="149040"/>
            </a:xfrm>
          </p:grpSpPr>
          <p:sp>
            <p:nvSpPr>
              <p:cNvPr id="179" name=""/>
              <p:cNvSpPr txBox="1"/>
              <p:nvPr/>
            </p:nvSpPr>
            <p:spPr>
              <a:xfrm>
                <a:off x="8312040" y="235440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終了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8308800" y="235440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終了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9072720" y="2133720"/>
            <a:ext cx="403200" cy="369720"/>
            <a:chOff x="9072720" y="2133720"/>
            <a:chExt cx="403200" cy="369720"/>
          </a:xfrm>
        </p:grpSpPr>
        <p:sp>
          <p:nvSpPr>
            <p:cNvPr id="182" name=""/>
            <p:cNvSpPr txBox="1"/>
            <p:nvPr/>
          </p:nvSpPr>
          <p:spPr>
            <a:xfrm>
              <a:off x="9161640" y="2133720"/>
              <a:ext cx="223560" cy="23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Arial Black"/>
                </a:rPr>
                <a:t>!!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9072720" y="2354400"/>
              <a:ext cx="403200" cy="149040"/>
              <a:chOff x="9072720" y="2354400"/>
              <a:chExt cx="403200" cy="149040"/>
            </a:xfrm>
          </p:grpSpPr>
          <p:sp>
            <p:nvSpPr>
              <p:cNvPr id="184" name=""/>
              <p:cNvSpPr txBox="1"/>
              <p:nvPr/>
            </p:nvSpPr>
            <p:spPr>
              <a:xfrm>
                <a:off x="9075960" y="235440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決定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9072720" y="235440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決定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5975280" y="3573360"/>
            <a:ext cx="403200" cy="360360"/>
            <a:chOff x="5975280" y="3573360"/>
            <a:chExt cx="403200" cy="360360"/>
          </a:xfrm>
        </p:grpSpPr>
        <p:grpSp>
          <p:nvGrpSpPr>
            <p:cNvPr id="187" name=""/>
            <p:cNvGrpSpPr/>
            <p:nvPr/>
          </p:nvGrpSpPr>
          <p:grpSpPr>
            <a:xfrm>
              <a:off x="5997600" y="3573360"/>
              <a:ext cx="358920" cy="287280"/>
              <a:chOff x="5997600" y="3573360"/>
              <a:chExt cx="358920" cy="287280"/>
            </a:xfrm>
          </p:grpSpPr>
          <p:sp>
            <p:nvSpPr>
              <p:cNvPr id="188" name=""/>
              <p:cNvSpPr/>
              <p:nvPr/>
            </p:nvSpPr>
            <p:spPr>
              <a:xfrm>
                <a:off x="5997600" y="3573360"/>
                <a:ext cx="358920" cy="287280"/>
              </a:xfrm>
              <a:custGeom>
                <a:avLst/>
                <a:gdLst/>
                <a:ahLst/>
                <a:rect l="l" t="t" r="r" b="b"/>
                <a:pathLst>
                  <a:path w="589" h="772">
                    <a:moveTo>
                      <a:pt x="589" y="681"/>
                    </a:moveTo>
                    <a:lnTo>
                      <a:pt x="499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589" y="0"/>
                    </a:lnTo>
                    <a:lnTo>
                      <a:pt x="589" y="6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ebebeb"/>
                  </a:gs>
                </a:gsLst>
                <a:lin ang="5400000"/>
              </a:gradFill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02160" y="3826800"/>
                <a:ext cx="54360" cy="33840"/>
              </a:xfrm>
              <a:custGeom>
                <a:avLst/>
                <a:gdLst/>
                <a:ahLst/>
                <a:rect l="l" t="t" r="r" b="b"/>
                <a:pathLst>
                  <a:path w="90" h="91">
                    <a:moveTo>
                      <a:pt x="90" y="0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24960" y="365760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24960" y="367452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024960" y="369108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24960" y="370836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24960" y="372528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024960" y="374184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024960" y="375912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024960" y="377568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024960" y="379296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99840" y="3607200"/>
                <a:ext cx="25200" cy="16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51320" y="3607200"/>
                <a:ext cx="25200" cy="16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1720" y="3607200"/>
                <a:ext cx="25200" cy="16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997600" y="3573360"/>
                <a:ext cx="358920" cy="287280"/>
              </a:xfrm>
              <a:custGeom>
                <a:avLst/>
                <a:gdLst/>
                <a:ahLst/>
                <a:rect l="l" t="t" r="r" b="b"/>
                <a:pathLst>
                  <a:path w="589" h="772">
                    <a:moveTo>
                      <a:pt x="589" y="681"/>
                    </a:moveTo>
                    <a:lnTo>
                      <a:pt x="499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589" y="0"/>
                    </a:lnTo>
                    <a:lnTo>
                      <a:pt x="589" y="681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975280" y="3784680"/>
              <a:ext cx="403200" cy="149040"/>
              <a:chOff x="5975280" y="3784680"/>
              <a:chExt cx="403200" cy="149040"/>
            </a:xfrm>
          </p:grpSpPr>
          <p:sp>
            <p:nvSpPr>
              <p:cNvPr id="204" name=""/>
              <p:cNvSpPr txBox="1"/>
              <p:nvPr/>
            </p:nvSpPr>
            <p:spPr>
              <a:xfrm>
                <a:off x="5978520" y="37846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契約書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5975280" y="37846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契約書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2216160" y="5659560"/>
            <a:ext cx="279360" cy="279360"/>
          </a:xfrm>
          <a:prstGeom prst="donut">
            <a:avLst>
              <a:gd name="adj" fmla="val 27273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700000">
            <a:off x="2504880" y="5300640"/>
            <a:ext cx="244440" cy="244440"/>
          </a:xfrm>
          <a:prstGeom prst="plus">
            <a:avLst>
              <a:gd name="adj" fmla="val 3524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700000">
            <a:off x="2792160" y="5300640"/>
            <a:ext cx="244440" cy="244440"/>
          </a:xfrm>
          <a:prstGeom prst="plus">
            <a:avLst>
              <a:gd name="adj" fmla="val 35241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5240" y="5659560"/>
            <a:ext cx="279360" cy="279360"/>
          </a:xfrm>
          <a:prstGeom prst="donut">
            <a:avLst>
              <a:gd name="adj" fmla="val 27273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92520" y="5659560"/>
            <a:ext cx="279360" cy="279360"/>
          </a:xfrm>
          <a:prstGeom prst="donut">
            <a:avLst>
              <a:gd name="adj" fmla="val 27273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81240" y="5659560"/>
            <a:ext cx="279360" cy="279360"/>
          </a:xfrm>
          <a:prstGeom prst="donut">
            <a:avLst>
              <a:gd name="adj" fmla="val 27273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68520" y="5659560"/>
            <a:ext cx="279720" cy="279360"/>
          </a:xfrm>
          <a:prstGeom prst="donut">
            <a:avLst>
              <a:gd name="adj" fmla="val 2727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36800" y="3501360"/>
            <a:ext cx="417960" cy="432360"/>
            <a:chOff x="2836800" y="3501360"/>
            <a:chExt cx="417960" cy="432360"/>
          </a:xfrm>
        </p:grpSpPr>
        <p:grpSp>
          <p:nvGrpSpPr>
            <p:cNvPr id="214" name=""/>
            <p:cNvGrpSpPr/>
            <p:nvPr/>
          </p:nvGrpSpPr>
          <p:grpSpPr>
            <a:xfrm>
              <a:off x="2836800" y="3501360"/>
              <a:ext cx="417960" cy="353520"/>
              <a:chOff x="2836800" y="3501360"/>
              <a:chExt cx="417960" cy="353520"/>
            </a:xfrm>
          </p:grpSpPr>
          <p:sp>
            <p:nvSpPr>
              <p:cNvPr id="215" name=""/>
              <p:cNvSpPr/>
              <p:nvPr/>
            </p:nvSpPr>
            <p:spPr>
              <a:xfrm rot="20700000">
                <a:off x="2865240" y="3543120"/>
                <a:ext cx="360360" cy="26964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700000">
                <a:off x="2859480" y="3565440"/>
                <a:ext cx="360360" cy="179280"/>
              </a:xfrm>
              <a:custGeom>
                <a:avLst/>
                <a:gdLst/>
                <a:ahLst/>
                <a:rect l="l" t="t" r="r" b="b"/>
                <a:pathLst>
                  <a:path w="363" h="181">
                    <a:moveTo>
                      <a:pt x="363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181" y="181"/>
                    </a:lnTo>
                    <a:lnTo>
                      <a:pt x="363" y="136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700000">
                <a:off x="2853720" y="3544560"/>
                <a:ext cx="360360" cy="179280"/>
              </a:xfrm>
              <a:custGeom>
                <a:avLst/>
                <a:gdLst/>
                <a:ahLst/>
                <a:rect l="l" t="t" r="r" b="b"/>
                <a:pathLst>
                  <a:path w="363" h="181">
                    <a:moveTo>
                      <a:pt x="363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181" y="181"/>
                    </a:lnTo>
                    <a:lnTo>
                      <a:pt x="363" y="136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700000">
                <a:off x="2865240" y="3543120"/>
                <a:ext cx="360360" cy="269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43280" y="3784680"/>
              <a:ext cx="403200" cy="149040"/>
              <a:chOff x="2843280" y="3784680"/>
              <a:chExt cx="403200" cy="149040"/>
            </a:xfrm>
          </p:grpSpPr>
          <p:sp>
            <p:nvSpPr>
              <p:cNvPr id="220" name=""/>
              <p:cNvSpPr txBox="1"/>
              <p:nvPr/>
            </p:nvSpPr>
            <p:spPr>
              <a:xfrm>
                <a:off x="2846160" y="378468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メール連絡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2843280" y="37846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メール連絡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1288800" y="3501360"/>
            <a:ext cx="417960" cy="437400"/>
            <a:chOff x="1288800" y="3501360"/>
            <a:chExt cx="417960" cy="437400"/>
          </a:xfrm>
        </p:grpSpPr>
        <p:grpSp>
          <p:nvGrpSpPr>
            <p:cNvPr id="223" name=""/>
            <p:cNvGrpSpPr/>
            <p:nvPr/>
          </p:nvGrpSpPr>
          <p:grpSpPr>
            <a:xfrm>
              <a:off x="1288800" y="3501360"/>
              <a:ext cx="417960" cy="353520"/>
              <a:chOff x="1288800" y="3501360"/>
              <a:chExt cx="417960" cy="353520"/>
            </a:xfrm>
          </p:grpSpPr>
          <p:sp>
            <p:nvSpPr>
              <p:cNvPr id="224" name=""/>
              <p:cNvSpPr/>
              <p:nvPr/>
            </p:nvSpPr>
            <p:spPr>
              <a:xfrm rot="20700000">
                <a:off x="1317240" y="3543120"/>
                <a:ext cx="360360" cy="2696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700000">
                <a:off x="1311480" y="3565440"/>
                <a:ext cx="360360" cy="179280"/>
              </a:xfrm>
              <a:custGeom>
                <a:avLst/>
                <a:gdLst/>
                <a:ahLst/>
                <a:rect l="l" t="t" r="r" b="b"/>
                <a:pathLst>
                  <a:path w="363" h="181">
                    <a:moveTo>
                      <a:pt x="363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181" y="181"/>
                    </a:lnTo>
                    <a:lnTo>
                      <a:pt x="363" y="136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700000">
                <a:off x="1305720" y="3544560"/>
                <a:ext cx="360360" cy="179280"/>
              </a:xfrm>
              <a:custGeom>
                <a:avLst/>
                <a:gdLst/>
                <a:ahLst/>
                <a:rect l="l" t="t" r="r" b="b"/>
                <a:pathLst>
                  <a:path w="363" h="181">
                    <a:moveTo>
                      <a:pt x="363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181" y="181"/>
                    </a:lnTo>
                    <a:lnTo>
                      <a:pt x="363" y="136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700000">
                <a:off x="1317240" y="3543120"/>
                <a:ext cx="360360" cy="269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295280" y="3789360"/>
              <a:ext cx="403200" cy="149400"/>
              <a:chOff x="1295280" y="3789360"/>
              <a:chExt cx="403200" cy="149400"/>
            </a:xfrm>
          </p:grpSpPr>
          <p:sp>
            <p:nvSpPr>
              <p:cNvPr id="229" name=""/>
              <p:cNvSpPr txBox="1"/>
              <p:nvPr/>
            </p:nvSpPr>
            <p:spPr>
              <a:xfrm>
                <a:off x="1298520" y="378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メール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1295280" y="378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メール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31" name=""/>
          <p:cNvGrpSpPr/>
          <p:nvPr/>
        </p:nvGrpSpPr>
        <p:grpSpPr>
          <a:xfrm>
            <a:off x="2095200" y="3501360"/>
            <a:ext cx="417960" cy="437400"/>
            <a:chOff x="2095200" y="3501360"/>
            <a:chExt cx="417960" cy="437400"/>
          </a:xfrm>
        </p:grpSpPr>
        <p:grpSp>
          <p:nvGrpSpPr>
            <p:cNvPr id="232" name=""/>
            <p:cNvGrpSpPr/>
            <p:nvPr/>
          </p:nvGrpSpPr>
          <p:grpSpPr>
            <a:xfrm>
              <a:off x="2095200" y="3501360"/>
              <a:ext cx="417960" cy="353520"/>
              <a:chOff x="2095200" y="3501360"/>
              <a:chExt cx="417960" cy="353520"/>
            </a:xfrm>
          </p:grpSpPr>
          <p:sp>
            <p:nvSpPr>
              <p:cNvPr id="233" name=""/>
              <p:cNvSpPr/>
              <p:nvPr/>
            </p:nvSpPr>
            <p:spPr>
              <a:xfrm rot="20700000">
                <a:off x="2123640" y="3543120"/>
                <a:ext cx="360360" cy="269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700000">
                <a:off x="2117880" y="3565440"/>
                <a:ext cx="360360" cy="179280"/>
              </a:xfrm>
              <a:custGeom>
                <a:avLst/>
                <a:gdLst/>
                <a:ahLst/>
                <a:rect l="l" t="t" r="r" b="b"/>
                <a:pathLst>
                  <a:path w="363" h="181">
                    <a:moveTo>
                      <a:pt x="363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181" y="181"/>
                    </a:lnTo>
                    <a:lnTo>
                      <a:pt x="363" y="136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0700000">
                <a:off x="2112120" y="3544560"/>
                <a:ext cx="360360" cy="179280"/>
              </a:xfrm>
              <a:custGeom>
                <a:avLst/>
                <a:gdLst/>
                <a:ahLst/>
                <a:rect l="l" t="t" r="r" b="b"/>
                <a:pathLst>
                  <a:path w="363" h="181">
                    <a:moveTo>
                      <a:pt x="363" y="0"/>
                    </a:moveTo>
                    <a:lnTo>
                      <a:pt x="0" y="0"/>
                    </a:lnTo>
                    <a:lnTo>
                      <a:pt x="0" y="136"/>
                    </a:lnTo>
                    <a:lnTo>
                      <a:pt x="181" y="181"/>
                    </a:lnTo>
                    <a:lnTo>
                      <a:pt x="363" y="136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0700000">
                <a:off x="2123640" y="3543120"/>
                <a:ext cx="360360" cy="269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100240" y="3789360"/>
              <a:ext cx="403200" cy="149400"/>
              <a:chOff x="2100240" y="3789360"/>
              <a:chExt cx="403200" cy="149400"/>
            </a:xfrm>
          </p:grpSpPr>
          <p:sp>
            <p:nvSpPr>
              <p:cNvPr id="238" name=""/>
              <p:cNvSpPr txBox="1"/>
              <p:nvPr/>
            </p:nvSpPr>
            <p:spPr>
              <a:xfrm>
                <a:off x="2103480" y="378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メール報告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2100240" y="378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メール報告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474840" y="3457800"/>
            <a:ext cx="461880" cy="480960"/>
            <a:chOff x="474840" y="3457800"/>
            <a:chExt cx="461880" cy="480960"/>
          </a:xfrm>
        </p:grpSpPr>
        <p:grpSp>
          <p:nvGrpSpPr>
            <p:cNvPr id="241" name=""/>
            <p:cNvGrpSpPr/>
            <p:nvPr/>
          </p:nvGrpSpPr>
          <p:grpSpPr>
            <a:xfrm>
              <a:off x="474840" y="3457800"/>
              <a:ext cx="442800" cy="368280"/>
              <a:chOff x="474840" y="3457800"/>
              <a:chExt cx="442800" cy="36828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74840" y="3458520"/>
                <a:ext cx="442080" cy="367200"/>
                <a:chOff x="474840" y="3458520"/>
                <a:chExt cx="442080" cy="367200"/>
              </a:xfrm>
            </p:grpSpPr>
            <p:sp>
              <p:nvSpPr>
                <p:cNvPr id="243" name=""/>
                <p:cNvSpPr/>
                <p:nvPr/>
              </p:nvSpPr>
              <p:spPr>
                <a:xfrm rot="18240600">
                  <a:off x="523800" y="3506760"/>
                  <a:ext cx="250200" cy="251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8240600">
                  <a:off x="765000" y="3669480"/>
                  <a:ext cx="35280" cy="107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8240600">
                  <a:off x="822600" y="3705480"/>
                  <a:ext cx="53640" cy="125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74840" y="3457800"/>
                <a:ext cx="442800" cy="368280"/>
                <a:chOff x="474840" y="3457800"/>
                <a:chExt cx="442800" cy="368280"/>
              </a:xfrm>
            </p:grpSpPr>
            <p:sp>
              <p:nvSpPr>
                <p:cNvPr id="247" name=""/>
                <p:cNvSpPr/>
                <p:nvPr/>
              </p:nvSpPr>
              <p:spPr>
                <a:xfrm rot="18240600">
                  <a:off x="766080" y="3668760"/>
                  <a:ext cx="35280" cy="10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18240600">
                  <a:off x="541800" y="3524400"/>
                  <a:ext cx="214920" cy="21564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8240600">
                  <a:off x="523800" y="3506400"/>
                  <a:ext cx="250920" cy="251640"/>
                </a:xfrm>
                <a:prstGeom prst="donut">
                  <a:avLst>
                    <a:gd name="adj" fmla="val 12731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8240600">
                  <a:off x="823680" y="3705480"/>
                  <a:ext cx="53640" cy="1260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536400" y="3789360"/>
              <a:ext cx="400320" cy="149400"/>
              <a:chOff x="536400" y="3789360"/>
              <a:chExt cx="400320" cy="149400"/>
            </a:xfrm>
          </p:grpSpPr>
          <p:sp>
            <p:nvSpPr>
              <p:cNvPr id="252" name=""/>
              <p:cNvSpPr txBox="1"/>
              <p:nvPr/>
            </p:nvSpPr>
            <p:spPr>
              <a:xfrm>
                <a:off x="536400" y="37893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納品検査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536400" y="37893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納品検査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2216160" y="6093000"/>
            <a:ext cx="290520" cy="502560"/>
            <a:chOff x="2216160" y="6093000"/>
            <a:chExt cx="290520" cy="502560"/>
          </a:xfrm>
        </p:grpSpPr>
        <p:grpSp>
          <p:nvGrpSpPr>
            <p:cNvPr id="255" name=""/>
            <p:cNvGrpSpPr/>
            <p:nvPr/>
          </p:nvGrpSpPr>
          <p:grpSpPr>
            <a:xfrm>
              <a:off x="2216160" y="6093000"/>
              <a:ext cx="289080" cy="502560"/>
              <a:chOff x="2216160" y="6093000"/>
              <a:chExt cx="289080" cy="502560"/>
            </a:xfrm>
          </p:grpSpPr>
          <p:sp>
            <p:nvSpPr>
              <p:cNvPr id="256" name=""/>
              <p:cNvSpPr/>
              <p:nvPr/>
            </p:nvSpPr>
            <p:spPr>
              <a:xfrm>
                <a:off x="2252520" y="6093000"/>
                <a:ext cx="216000" cy="2156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16160" y="6308640"/>
                <a:ext cx="289080" cy="2869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16160" y="6451560"/>
                <a:ext cx="287280" cy="144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217600" y="6093000"/>
              <a:ext cx="289080" cy="502560"/>
              <a:chOff x="2217600" y="6093000"/>
              <a:chExt cx="289080" cy="502560"/>
            </a:xfrm>
          </p:grpSpPr>
          <p:sp>
            <p:nvSpPr>
              <p:cNvPr id="260" name=""/>
              <p:cNvSpPr/>
              <p:nvPr/>
            </p:nvSpPr>
            <p:spPr>
              <a:xfrm>
                <a:off x="2253960" y="6093000"/>
                <a:ext cx="216000" cy="2156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17600" y="6308640"/>
                <a:ext cx="289080" cy="2869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17600" y="6451560"/>
                <a:ext cx="287280" cy="1440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2540160" y="6093000"/>
            <a:ext cx="290520" cy="502560"/>
            <a:chOff x="2540160" y="6093000"/>
            <a:chExt cx="290520" cy="502560"/>
          </a:xfrm>
        </p:grpSpPr>
        <p:grpSp>
          <p:nvGrpSpPr>
            <p:cNvPr id="264" name=""/>
            <p:cNvGrpSpPr/>
            <p:nvPr/>
          </p:nvGrpSpPr>
          <p:grpSpPr>
            <a:xfrm>
              <a:off x="2540160" y="6093000"/>
              <a:ext cx="288720" cy="502560"/>
              <a:chOff x="2540160" y="6093000"/>
              <a:chExt cx="288720" cy="502560"/>
            </a:xfrm>
          </p:grpSpPr>
          <p:sp>
            <p:nvSpPr>
              <p:cNvPr id="265" name=""/>
              <p:cNvSpPr/>
              <p:nvPr/>
            </p:nvSpPr>
            <p:spPr>
              <a:xfrm>
                <a:off x="2576160" y="6093000"/>
                <a:ext cx="215640" cy="2156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40160" y="6308640"/>
                <a:ext cx="288720" cy="2869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40160" y="6451560"/>
                <a:ext cx="286920" cy="144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541600" y="6093000"/>
              <a:ext cx="289080" cy="502560"/>
              <a:chOff x="2541600" y="6093000"/>
              <a:chExt cx="289080" cy="502560"/>
            </a:xfrm>
          </p:grpSpPr>
          <p:sp>
            <p:nvSpPr>
              <p:cNvPr id="269" name=""/>
              <p:cNvSpPr/>
              <p:nvPr/>
            </p:nvSpPr>
            <p:spPr>
              <a:xfrm>
                <a:off x="2577960" y="6093000"/>
                <a:ext cx="216000" cy="215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41600" y="6308640"/>
                <a:ext cx="289080" cy="2869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41600" y="6451560"/>
                <a:ext cx="287280" cy="144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2863800" y="6093000"/>
            <a:ext cx="290520" cy="502560"/>
            <a:chOff x="2863800" y="6093000"/>
            <a:chExt cx="290520" cy="502560"/>
          </a:xfrm>
        </p:grpSpPr>
        <p:grpSp>
          <p:nvGrpSpPr>
            <p:cNvPr id="273" name=""/>
            <p:cNvGrpSpPr/>
            <p:nvPr/>
          </p:nvGrpSpPr>
          <p:grpSpPr>
            <a:xfrm>
              <a:off x="2863800" y="6093000"/>
              <a:ext cx="289080" cy="502560"/>
              <a:chOff x="2863800" y="6093000"/>
              <a:chExt cx="289080" cy="502560"/>
            </a:xfrm>
          </p:grpSpPr>
          <p:sp>
            <p:nvSpPr>
              <p:cNvPr id="274" name=""/>
              <p:cNvSpPr/>
              <p:nvPr/>
            </p:nvSpPr>
            <p:spPr>
              <a:xfrm>
                <a:off x="2900160" y="6093000"/>
                <a:ext cx="216000" cy="2156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63800" y="6308640"/>
                <a:ext cx="289080" cy="2869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63800" y="6451560"/>
                <a:ext cx="287280" cy="144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865600" y="6093000"/>
              <a:ext cx="288720" cy="502560"/>
              <a:chOff x="2865600" y="6093000"/>
              <a:chExt cx="288720" cy="502560"/>
            </a:xfrm>
          </p:grpSpPr>
          <p:sp>
            <p:nvSpPr>
              <p:cNvPr id="278" name=""/>
              <p:cNvSpPr/>
              <p:nvPr/>
            </p:nvSpPr>
            <p:spPr>
              <a:xfrm>
                <a:off x="2901600" y="6093000"/>
                <a:ext cx="215640" cy="21564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65600" y="6308640"/>
                <a:ext cx="288720" cy="286920"/>
              </a:xfrm>
              <a:prstGeom prst="ellipse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5600" y="6451560"/>
                <a:ext cx="286920" cy="144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3187800" y="6093000"/>
            <a:ext cx="290520" cy="502560"/>
            <a:chOff x="3187800" y="6093000"/>
            <a:chExt cx="290520" cy="502560"/>
          </a:xfrm>
        </p:grpSpPr>
        <p:grpSp>
          <p:nvGrpSpPr>
            <p:cNvPr id="282" name=""/>
            <p:cNvGrpSpPr/>
            <p:nvPr/>
          </p:nvGrpSpPr>
          <p:grpSpPr>
            <a:xfrm>
              <a:off x="3187800" y="6093000"/>
              <a:ext cx="288720" cy="502560"/>
              <a:chOff x="3187800" y="6093000"/>
              <a:chExt cx="288720" cy="502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223800" y="6093000"/>
                <a:ext cx="215640" cy="2156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87800" y="6308640"/>
                <a:ext cx="288720" cy="2869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187800" y="6451560"/>
                <a:ext cx="286920" cy="144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3189240" y="6093000"/>
              <a:ext cx="289080" cy="502560"/>
              <a:chOff x="3189240" y="6093000"/>
              <a:chExt cx="289080" cy="502560"/>
            </a:xfrm>
          </p:grpSpPr>
          <p:sp>
            <p:nvSpPr>
              <p:cNvPr id="287" name=""/>
              <p:cNvSpPr/>
              <p:nvPr/>
            </p:nvSpPr>
            <p:spPr>
              <a:xfrm>
                <a:off x="3225600" y="6093000"/>
                <a:ext cx="216000" cy="21564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89240" y="6308640"/>
                <a:ext cx="289080" cy="2869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89240" y="6451560"/>
                <a:ext cx="287280" cy="144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3511440" y="6093000"/>
            <a:ext cx="290520" cy="502560"/>
            <a:chOff x="3511440" y="6093000"/>
            <a:chExt cx="290520" cy="502560"/>
          </a:xfrm>
        </p:grpSpPr>
        <p:grpSp>
          <p:nvGrpSpPr>
            <p:cNvPr id="291" name=""/>
            <p:cNvGrpSpPr/>
            <p:nvPr/>
          </p:nvGrpSpPr>
          <p:grpSpPr>
            <a:xfrm>
              <a:off x="3511440" y="6093000"/>
              <a:ext cx="289080" cy="502560"/>
              <a:chOff x="3511440" y="6093000"/>
              <a:chExt cx="289080" cy="502560"/>
            </a:xfrm>
          </p:grpSpPr>
          <p:sp>
            <p:nvSpPr>
              <p:cNvPr id="292" name=""/>
              <p:cNvSpPr/>
              <p:nvPr/>
            </p:nvSpPr>
            <p:spPr>
              <a:xfrm>
                <a:off x="3547800" y="6093000"/>
                <a:ext cx="216000" cy="2156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511440" y="6308640"/>
                <a:ext cx="289080" cy="2869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11440" y="6451560"/>
                <a:ext cx="287280" cy="1440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513240" y="6093000"/>
              <a:ext cx="288720" cy="502560"/>
              <a:chOff x="3513240" y="6093000"/>
              <a:chExt cx="288720" cy="50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3549240" y="6093000"/>
                <a:ext cx="215640" cy="215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13240" y="6308640"/>
                <a:ext cx="288720" cy="286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13240" y="6451560"/>
                <a:ext cx="286920" cy="14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4376880" y="2882520"/>
            <a:ext cx="455400" cy="335520"/>
            <a:chOff x="4376880" y="2882520"/>
            <a:chExt cx="455400" cy="335520"/>
          </a:xfrm>
        </p:grpSpPr>
        <p:grpSp>
          <p:nvGrpSpPr>
            <p:cNvPr id="300" name=""/>
            <p:cNvGrpSpPr/>
            <p:nvPr/>
          </p:nvGrpSpPr>
          <p:grpSpPr>
            <a:xfrm>
              <a:off x="4376880" y="2882520"/>
              <a:ext cx="455400" cy="209880"/>
              <a:chOff x="4376880" y="2882520"/>
              <a:chExt cx="455400" cy="2098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4376880" y="2882520"/>
                <a:ext cx="455400" cy="209880"/>
                <a:chOff x="4376880" y="2882520"/>
                <a:chExt cx="455400" cy="209880"/>
              </a:xfrm>
            </p:grpSpPr>
            <p:sp>
              <p:nvSpPr>
                <p:cNvPr id="302" name=""/>
                <p:cNvSpPr/>
                <p:nvPr/>
              </p:nvSpPr>
              <p:spPr>
                <a:xfrm rot="19522200">
                  <a:off x="4509360" y="2950920"/>
                  <a:ext cx="33120" cy="116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2421600">
                  <a:off x="4561920" y="2943720"/>
                  <a:ext cx="33120" cy="116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8721600">
                  <a:off x="4610880" y="2952000"/>
                  <a:ext cx="33120" cy="116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3321600">
                  <a:off x="4669200" y="2954520"/>
                  <a:ext cx="33120" cy="116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3321600">
                  <a:off x="4699440" y="2908440"/>
                  <a:ext cx="116280" cy="100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2961600">
                  <a:off x="4432320" y="2946240"/>
                  <a:ext cx="33120" cy="16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376880" y="2882520"/>
                <a:ext cx="455400" cy="209880"/>
                <a:chOff x="4376880" y="2882520"/>
                <a:chExt cx="455400" cy="209880"/>
              </a:xfrm>
            </p:grpSpPr>
            <p:sp>
              <p:nvSpPr>
                <p:cNvPr id="309" name=""/>
                <p:cNvSpPr/>
                <p:nvPr/>
              </p:nvSpPr>
              <p:spPr>
                <a:xfrm rot="19522200">
                  <a:off x="4509360" y="2950920"/>
                  <a:ext cx="33120" cy="116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2421600">
                  <a:off x="4561920" y="2943720"/>
                  <a:ext cx="33120" cy="116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8721600">
                  <a:off x="4610880" y="2952000"/>
                  <a:ext cx="33120" cy="116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3321600">
                  <a:off x="4669200" y="2954520"/>
                  <a:ext cx="33120" cy="1166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3321600">
                  <a:off x="4699440" y="2908440"/>
                  <a:ext cx="116280" cy="100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2961600">
                  <a:off x="4432320" y="2946240"/>
                  <a:ext cx="33120" cy="161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4414680" y="3068640"/>
              <a:ext cx="403200" cy="149400"/>
              <a:chOff x="4414680" y="3068640"/>
              <a:chExt cx="403200" cy="149400"/>
            </a:xfrm>
          </p:grpSpPr>
          <p:sp>
            <p:nvSpPr>
              <p:cNvPr id="316" name=""/>
              <p:cNvSpPr txBox="1"/>
              <p:nvPr/>
            </p:nvSpPr>
            <p:spPr>
              <a:xfrm>
                <a:off x="4417920" y="306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開発延期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4414680" y="306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開発延期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598920" y="2882520"/>
            <a:ext cx="455400" cy="335520"/>
            <a:chOff x="3598920" y="2882520"/>
            <a:chExt cx="455400" cy="335520"/>
          </a:xfrm>
        </p:grpSpPr>
        <p:grpSp>
          <p:nvGrpSpPr>
            <p:cNvPr id="319" name=""/>
            <p:cNvGrpSpPr/>
            <p:nvPr/>
          </p:nvGrpSpPr>
          <p:grpSpPr>
            <a:xfrm>
              <a:off x="3598920" y="2882520"/>
              <a:ext cx="455400" cy="209880"/>
              <a:chOff x="3598920" y="2882520"/>
              <a:chExt cx="455400" cy="20988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3598920" y="2882520"/>
                <a:ext cx="455400" cy="209880"/>
                <a:chOff x="3598920" y="2882520"/>
                <a:chExt cx="455400" cy="209880"/>
              </a:xfrm>
            </p:grpSpPr>
            <p:sp>
              <p:nvSpPr>
                <p:cNvPr id="321" name=""/>
                <p:cNvSpPr/>
                <p:nvPr/>
              </p:nvSpPr>
              <p:spPr>
                <a:xfrm rot="19522200">
                  <a:off x="3731400" y="2950920"/>
                  <a:ext cx="33120" cy="116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2421600">
                  <a:off x="3783960" y="2943720"/>
                  <a:ext cx="33120" cy="116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8721600">
                  <a:off x="3832920" y="2952000"/>
                  <a:ext cx="33120" cy="116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3321600">
                  <a:off x="3891240" y="2954520"/>
                  <a:ext cx="33120" cy="116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3321600">
                  <a:off x="3921480" y="2908440"/>
                  <a:ext cx="116280" cy="100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2961600">
                  <a:off x="3654360" y="2946240"/>
                  <a:ext cx="33120" cy="16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3598920" y="2882520"/>
                <a:ext cx="455400" cy="209880"/>
                <a:chOff x="3598920" y="2882520"/>
                <a:chExt cx="455400" cy="209880"/>
              </a:xfrm>
            </p:grpSpPr>
            <p:sp>
              <p:nvSpPr>
                <p:cNvPr id="328" name=""/>
                <p:cNvSpPr/>
                <p:nvPr/>
              </p:nvSpPr>
              <p:spPr>
                <a:xfrm rot="19522200">
                  <a:off x="3731400" y="2950920"/>
                  <a:ext cx="33120" cy="11628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2421600">
                  <a:off x="3783960" y="2943720"/>
                  <a:ext cx="33120" cy="11628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8721600">
                  <a:off x="3832920" y="2952000"/>
                  <a:ext cx="33120" cy="11628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3321600">
                  <a:off x="3891240" y="2954520"/>
                  <a:ext cx="33120" cy="1166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3321600">
                  <a:off x="3921480" y="2908440"/>
                  <a:ext cx="116280" cy="100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2961600">
                  <a:off x="3654360" y="2946240"/>
                  <a:ext cx="33120" cy="16128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"/>
            <p:cNvGrpSpPr/>
            <p:nvPr/>
          </p:nvGrpSpPr>
          <p:grpSpPr>
            <a:xfrm>
              <a:off x="3638520" y="3068640"/>
              <a:ext cx="403200" cy="149400"/>
              <a:chOff x="3638520" y="3068640"/>
              <a:chExt cx="403200" cy="149400"/>
            </a:xfrm>
          </p:grpSpPr>
          <p:sp>
            <p:nvSpPr>
              <p:cNvPr id="335" name=""/>
              <p:cNvSpPr txBox="1"/>
              <p:nvPr/>
            </p:nvSpPr>
            <p:spPr>
              <a:xfrm>
                <a:off x="3641760" y="306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延期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3638520" y="306864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延期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3638520" y="3645000"/>
            <a:ext cx="403200" cy="288720"/>
            <a:chOff x="3638520" y="3645000"/>
            <a:chExt cx="403200" cy="288720"/>
          </a:xfrm>
        </p:grpSpPr>
        <p:grpSp>
          <p:nvGrpSpPr>
            <p:cNvPr id="338" name=""/>
            <p:cNvGrpSpPr/>
            <p:nvPr/>
          </p:nvGrpSpPr>
          <p:grpSpPr>
            <a:xfrm>
              <a:off x="3657600" y="3645000"/>
              <a:ext cx="363600" cy="123840"/>
              <a:chOff x="3657600" y="3645000"/>
              <a:chExt cx="363600" cy="12384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3657600" y="3645000"/>
                <a:ext cx="363600" cy="123840"/>
                <a:chOff x="3657600" y="3645000"/>
                <a:chExt cx="363600" cy="12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719160" y="3691440"/>
                  <a:ext cx="219600" cy="309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6200000">
                  <a:off x="3656880" y="366696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5400000">
                  <a:off x="3896280" y="366696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001400" y="3645000"/>
                  <a:ext cx="19800" cy="123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657600" y="3645000"/>
                  <a:ext cx="19800" cy="123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657600" y="3645000"/>
                <a:ext cx="363600" cy="123840"/>
                <a:chOff x="3657600" y="3645000"/>
                <a:chExt cx="363600" cy="12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719160" y="3691440"/>
                  <a:ext cx="219600" cy="30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6200000">
                  <a:off x="3656880" y="366696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5400000">
                  <a:off x="3896280" y="366696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001400" y="3645000"/>
                  <a:ext cx="19800" cy="1238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657600" y="3645000"/>
                  <a:ext cx="19800" cy="1238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638520" y="3784680"/>
              <a:ext cx="403200" cy="149040"/>
              <a:chOff x="3638520" y="3784680"/>
              <a:chExt cx="403200" cy="149040"/>
            </a:xfrm>
          </p:grpSpPr>
          <p:sp>
            <p:nvSpPr>
              <p:cNvPr id="352" name=""/>
              <p:cNvSpPr txBox="1"/>
              <p:nvPr/>
            </p:nvSpPr>
            <p:spPr>
              <a:xfrm>
                <a:off x="3641760" y="37846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予備期間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3638520" y="378468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予備期間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6737400" y="3573360"/>
            <a:ext cx="403200" cy="365400"/>
            <a:chOff x="6737400" y="3573360"/>
            <a:chExt cx="403200" cy="365400"/>
          </a:xfrm>
        </p:grpSpPr>
        <p:sp>
          <p:nvSpPr>
            <p:cNvPr id="355" name=""/>
            <p:cNvSpPr/>
            <p:nvPr/>
          </p:nvSpPr>
          <p:spPr>
            <a:xfrm>
              <a:off x="6799320" y="3573360"/>
              <a:ext cx="279360" cy="279360"/>
            </a:xfrm>
            <a:prstGeom prst="donut">
              <a:avLst>
                <a:gd name="adj" fmla="val 27273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737400" y="3789360"/>
              <a:ext cx="403200" cy="149400"/>
              <a:chOff x="6737400" y="3789360"/>
              <a:chExt cx="403200" cy="149400"/>
            </a:xfrm>
          </p:grpSpPr>
          <p:sp>
            <p:nvSpPr>
              <p:cNvPr id="357" name=""/>
              <p:cNvSpPr txBox="1"/>
              <p:nvPr/>
            </p:nvSpPr>
            <p:spPr>
              <a:xfrm>
                <a:off x="6740640" y="378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動作確認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6737400" y="378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動作確認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4362120" y="1266840"/>
            <a:ext cx="509760" cy="509760"/>
            <a:chOff x="4362120" y="1266840"/>
            <a:chExt cx="509760" cy="509760"/>
          </a:xfrm>
        </p:grpSpPr>
        <p:sp>
          <p:nvSpPr>
            <p:cNvPr id="360" name=""/>
            <p:cNvSpPr/>
            <p:nvPr/>
          </p:nvSpPr>
          <p:spPr>
            <a:xfrm rot="2700000">
              <a:off x="4436640" y="1341360"/>
              <a:ext cx="360360" cy="360360"/>
            </a:xfrm>
            <a:prstGeom prst="plus">
              <a:avLst>
                <a:gd name="adj" fmla="val 35241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4414680" y="1623960"/>
              <a:ext cx="403200" cy="149400"/>
              <a:chOff x="4414680" y="1623960"/>
              <a:chExt cx="403200" cy="149400"/>
            </a:xfrm>
          </p:grpSpPr>
          <p:sp>
            <p:nvSpPr>
              <p:cNvPr id="362" name=""/>
              <p:cNvSpPr txBox="1"/>
              <p:nvPr/>
            </p:nvSpPr>
            <p:spPr>
              <a:xfrm>
                <a:off x="4417920" y="1623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中止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363" name=""/>
              <p:cNvSpPr txBox="1"/>
              <p:nvPr/>
            </p:nvSpPr>
            <p:spPr>
              <a:xfrm>
                <a:off x="4414680" y="1623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中止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5977080" y="663480"/>
            <a:ext cx="403200" cy="393840"/>
            <a:chOff x="5977080" y="663480"/>
            <a:chExt cx="403200" cy="393840"/>
          </a:xfrm>
        </p:grpSpPr>
        <p:grpSp>
          <p:nvGrpSpPr>
            <p:cNvPr id="365" name=""/>
            <p:cNvGrpSpPr/>
            <p:nvPr/>
          </p:nvGrpSpPr>
          <p:grpSpPr>
            <a:xfrm>
              <a:off x="6022800" y="663480"/>
              <a:ext cx="288720" cy="290520"/>
              <a:chOff x="6022800" y="663480"/>
              <a:chExt cx="288720" cy="290520"/>
            </a:xfrm>
          </p:grpSpPr>
          <p:sp>
            <p:nvSpPr>
              <p:cNvPr id="366" name=""/>
              <p:cNvSpPr/>
              <p:nvPr/>
            </p:nvSpPr>
            <p:spPr>
              <a:xfrm>
                <a:off x="6022800" y="663480"/>
                <a:ext cx="288720" cy="2890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9080"/>
                  <a:gd name="textAreaBottom" fmla="*/ 28908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470" y="11118"/>
                    </a:moveTo>
                    <a:arcTo wR="-6678" hR="-6678" stAng="163749" swAng="-19213286"/>
                    <a:lnTo>
                      <a:pt x="2838" y="3503"/>
                    </a:lnTo>
                    <a:arcTo wR="10800" hR="10800" stAng="-8249537" swAng="19213286"/>
                    <a:lnTo>
                      <a:pt x="-2685" y="10157"/>
                    </a:lnTo>
                    <a:lnTo>
                      <a:pt x="2298" y="5628"/>
                    </a:lnTo>
                    <a:lnTo>
                      <a:pt x="6827" y="10611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22800" y="665280"/>
                <a:ext cx="288720" cy="28872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470" y="11118"/>
                    </a:moveTo>
                    <a:arcTo wR="-6678" hR="-6678" stAng="163749" swAng="-19213286"/>
                    <a:lnTo>
                      <a:pt x="2838" y="3503"/>
                    </a:lnTo>
                    <a:arcTo wR="10800" hR="10800" stAng="-8249537" swAng="19213286"/>
                    <a:lnTo>
                      <a:pt x="-2685" y="10157"/>
                    </a:lnTo>
                    <a:lnTo>
                      <a:pt x="2298" y="5628"/>
                    </a:lnTo>
                    <a:lnTo>
                      <a:pt x="6827" y="10611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977080" y="907920"/>
              <a:ext cx="403200" cy="149400"/>
              <a:chOff x="5977080" y="907920"/>
              <a:chExt cx="403200" cy="149400"/>
            </a:xfrm>
          </p:grpSpPr>
          <p:sp>
            <p:nvSpPr>
              <p:cNvPr id="369" name=""/>
              <p:cNvSpPr txBox="1"/>
              <p:nvPr/>
            </p:nvSpPr>
            <p:spPr>
              <a:xfrm>
                <a:off x="5979960" y="90792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更新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5977080" y="9079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更新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1248120" y="2034360"/>
            <a:ext cx="448920" cy="464400"/>
            <a:chOff x="1248120" y="2034360"/>
            <a:chExt cx="448920" cy="464400"/>
          </a:xfrm>
        </p:grpSpPr>
        <p:grpSp>
          <p:nvGrpSpPr>
            <p:cNvPr id="372" name=""/>
            <p:cNvGrpSpPr/>
            <p:nvPr/>
          </p:nvGrpSpPr>
          <p:grpSpPr>
            <a:xfrm>
              <a:off x="1248120" y="2034360"/>
              <a:ext cx="442440" cy="367560"/>
              <a:chOff x="1248120" y="2034360"/>
              <a:chExt cx="442440" cy="36756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1248120" y="2035080"/>
                <a:ext cx="441720" cy="366840"/>
                <a:chOff x="1248120" y="2035080"/>
                <a:chExt cx="441720" cy="366840"/>
              </a:xfrm>
            </p:grpSpPr>
            <p:sp>
              <p:nvSpPr>
                <p:cNvPr id="374" name=""/>
                <p:cNvSpPr/>
                <p:nvPr/>
              </p:nvSpPr>
              <p:spPr>
                <a:xfrm rot="18240600">
                  <a:off x="1297080" y="2082960"/>
                  <a:ext cx="249840" cy="251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8240600">
                  <a:off x="1538280" y="2245680"/>
                  <a:ext cx="35280" cy="107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8240600">
                  <a:off x="1596240" y="2281680"/>
                  <a:ext cx="53280" cy="125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248120" y="2034360"/>
                <a:ext cx="442440" cy="367560"/>
                <a:chOff x="1248120" y="2034360"/>
                <a:chExt cx="442440" cy="367560"/>
              </a:xfrm>
            </p:grpSpPr>
            <p:sp>
              <p:nvSpPr>
                <p:cNvPr id="378" name=""/>
                <p:cNvSpPr/>
                <p:nvPr/>
              </p:nvSpPr>
              <p:spPr>
                <a:xfrm rot="18240600">
                  <a:off x="1539000" y="2245320"/>
                  <a:ext cx="35280" cy="10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8240600">
                  <a:off x="1315080" y="2101320"/>
                  <a:ext cx="214560" cy="21528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8240600">
                  <a:off x="1296720" y="2082600"/>
                  <a:ext cx="250560" cy="251280"/>
                </a:xfrm>
                <a:prstGeom prst="donut">
                  <a:avLst>
                    <a:gd name="adj" fmla="val 12731"/>
                  </a:avLst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8240600">
                  <a:off x="1596240" y="2281680"/>
                  <a:ext cx="53640" cy="12564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1297080" y="2349360"/>
              <a:ext cx="399960" cy="149400"/>
              <a:chOff x="1297080" y="2349360"/>
              <a:chExt cx="399960" cy="149400"/>
            </a:xfrm>
          </p:grpSpPr>
          <p:sp>
            <p:nvSpPr>
              <p:cNvPr id="383" name=""/>
              <p:cNvSpPr txBox="1"/>
              <p:nvPr/>
            </p:nvSpPr>
            <p:spPr>
              <a:xfrm>
                <a:off x="1297080" y="234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検査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1297080" y="234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検査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2084040" y="2881080"/>
            <a:ext cx="417960" cy="343080"/>
            <a:chOff x="2084040" y="2881080"/>
            <a:chExt cx="417960" cy="343080"/>
          </a:xfrm>
        </p:grpSpPr>
        <p:grpSp>
          <p:nvGrpSpPr>
            <p:cNvPr id="386" name=""/>
            <p:cNvGrpSpPr/>
            <p:nvPr/>
          </p:nvGrpSpPr>
          <p:grpSpPr>
            <a:xfrm>
              <a:off x="2084040" y="2881080"/>
              <a:ext cx="394200" cy="231480"/>
              <a:chOff x="2084040" y="2881080"/>
              <a:chExt cx="394200" cy="23148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2084040" y="2881080"/>
                <a:ext cx="394200" cy="231480"/>
                <a:chOff x="2084040" y="2881080"/>
                <a:chExt cx="394200" cy="231480"/>
              </a:xfrm>
            </p:grpSpPr>
            <p:sp>
              <p:nvSpPr>
                <p:cNvPr id="388" name=""/>
                <p:cNvSpPr/>
                <p:nvPr/>
              </p:nvSpPr>
              <p:spPr>
                <a:xfrm rot="19800000">
                  <a:off x="2122560" y="2924280"/>
                  <a:ext cx="88560" cy="177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3600000">
                  <a:off x="2282040" y="2829600"/>
                  <a:ext cx="71280" cy="3290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2084040" y="2881080"/>
                <a:ext cx="394200" cy="231480"/>
                <a:chOff x="2084040" y="2881080"/>
                <a:chExt cx="394200" cy="231480"/>
              </a:xfrm>
            </p:grpSpPr>
            <p:sp>
              <p:nvSpPr>
                <p:cNvPr id="391" name=""/>
                <p:cNvSpPr/>
                <p:nvPr/>
              </p:nvSpPr>
              <p:spPr>
                <a:xfrm rot="19800000">
                  <a:off x="2122560" y="2924280"/>
                  <a:ext cx="88560" cy="17784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3600000">
                  <a:off x="2282040" y="2829600"/>
                  <a:ext cx="71280" cy="32904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"/>
            <p:cNvGrpSpPr/>
            <p:nvPr/>
          </p:nvGrpSpPr>
          <p:grpSpPr>
            <a:xfrm>
              <a:off x="2101680" y="3075120"/>
              <a:ext cx="400320" cy="149040"/>
              <a:chOff x="2101680" y="3075120"/>
              <a:chExt cx="400320" cy="149040"/>
            </a:xfrm>
          </p:grpSpPr>
          <p:sp>
            <p:nvSpPr>
              <p:cNvPr id="394" name=""/>
              <p:cNvSpPr txBox="1"/>
              <p:nvPr/>
            </p:nvSpPr>
            <p:spPr>
              <a:xfrm>
                <a:off x="2101680" y="307512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チェック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2101680" y="307512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チェック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5168880" y="2109960"/>
            <a:ext cx="432000" cy="388800"/>
            <a:chOff x="5168880" y="2109960"/>
            <a:chExt cx="432000" cy="388800"/>
          </a:xfrm>
        </p:grpSpPr>
        <p:grpSp>
          <p:nvGrpSpPr>
            <p:cNvPr id="397" name=""/>
            <p:cNvGrpSpPr/>
            <p:nvPr/>
          </p:nvGrpSpPr>
          <p:grpSpPr>
            <a:xfrm>
              <a:off x="5168880" y="2109960"/>
              <a:ext cx="432000" cy="288720"/>
              <a:chOff x="5168880" y="2109960"/>
              <a:chExt cx="432000" cy="288720"/>
            </a:xfrm>
          </p:grpSpPr>
          <p:sp>
            <p:nvSpPr>
              <p:cNvPr id="398" name=""/>
              <p:cNvSpPr/>
              <p:nvPr/>
            </p:nvSpPr>
            <p:spPr>
              <a:xfrm>
                <a:off x="5168880" y="2109960"/>
                <a:ext cx="432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5197320" y="2138400"/>
                <a:ext cx="258840" cy="57960"/>
                <a:chOff x="5197320" y="2138400"/>
                <a:chExt cx="258840" cy="579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197320" y="2138400"/>
                  <a:ext cx="39600" cy="5796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247000" y="2138400"/>
                  <a:ext cx="39600" cy="5796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296680" y="2138400"/>
                  <a:ext cx="39240" cy="5796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346360" y="2157840"/>
                  <a:ext cx="19440" cy="38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376600" y="2157840"/>
                  <a:ext cx="19440" cy="38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406480" y="2157840"/>
                  <a:ext cx="19440" cy="38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436720" y="2157840"/>
                  <a:ext cx="19440" cy="38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5183280" y="2349360"/>
              <a:ext cx="402840" cy="149400"/>
              <a:chOff x="5183280" y="2349360"/>
              <a:chExt cx="402840" cy="149400"/>
            </a:xfrm>
          </p:grpSpPr>
          <p:sp>
            <p:nvSpPr>
              <p:cNvPr id="408" name=""/>
              <p:cNvSpPr txBox="1"/>
              <p:nvPr/>
            </p:nvSpPr>
            <p:spPr>
              <a:xfrm>
                <a:off x="5186160" y="234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郵送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5183280" y="234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郵送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383720" y="2059920"/>
            <a:ext cx="466920" cy="466920"/>
            <a:chOff x="4383720" y="2059920"/>
            <a:chExt cx="466920" cy="466920"/>
          </a:xfrm>
        </p:grpSpPr>
        <p:grpSp>
          <p:nvGrpSpPr>
            <p:cNvPr id="411" name=""/>
            <p:cNvGrpSpPr/>
            <p:nvPr/>
          </p:nvGrpSpPr>
          <p:grpSpPr>
            <a:xfrm>
              <a:off x="4383720" y="2059920"/>
              <a:ext cx="466920" cy="466920"/>
              <a:chOff x="4383720" y="2059920"/>
              <a:chExt cx="466920" cy="466920"/>
            </a:xfrm>
          </p:grpSpPr>
          <p:sp>
            <p:nvSpPr>
              <p:cNvPr id="412" name=""/>
              <p:cNvSpPr/>
              <p:nvPr/>
            </p:nvSpPr>
            <p:spPr>
              <a:xfrm rot="2700000">
                <a:off x="4473360" y="2106720"/>
                <a:ext cx="287280" cy="3729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700000">
                <a:off x="4584960" y="2152800"/>
                <a:ext cx="287280" cy="57240"/>
              </a:xfrm>
              <a:custGeom>
                <a:avLst/>
                <a:gdLst>
                  <a:gd name="textAreaLeft" fmla="*/ 49320 w 287280"/>
                  <a:gd name="textAreaRight" fmla="*/ 237960 w 287280"/>
                  <a:gd name="textAreaTop" fmla="*/ 9720 h 57240"/>
                  <a:gd name="textAreaBottom" fmla="*/ 47520 h 5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80" y="21600"/>
                    </a:lnTo>
                    <a:lnTo>
                      <a:pt x="3520" y="2160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4485600" y="2201400"/>
                <a:ext cx="222840" cy="22320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700000">
                <a:off x="4473360" y="2106720"/>
                <a:ext cx="287280" cy="372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416480" y="2354400"/>
              <a:ext cx="399960" cy="149040"/>
              <a:chOff x="4416480" y="2354400"/>
              <a:chExt cx="399960" cy="149040"/>
            </a:xfrm>
          </p:grpSpPr>
          <p:sp>
            <p:nvSpPr>
              <p:cNvPr id="417" name=""/>
              <p:cNvSpPr txBox="1"/>
              <p:nvPr/>
            </p:nvSpPr>
            <p:spPr>
              <a:xfrm>
                <a:off x="4416480" y="235440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持込み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4416480" y="235440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持込み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5184720" y="3532320"/>
            <a:ext cx="399960" cy="401400"/>
            <a:chOff x="5184720" y="3532320"/>
            <a:chExt cx="399960" cy="401400"/>
          </a:xfrm>
        </p:grpSpPr>
        <p:grpSp>
          <p:nvGrpSpPr>
            <p:cNvPr id="420" name=""/>
            <p:cNvGrpSpPr/>
            <p:nvPr/>
          </p:nvGrpSpPr>
          <p:grpSpPr>
            <a:xfrm>
              <a:off x="5239800" y="3532320"/>
              <a:ext cx="288360" cy="287280"/>
              <a:chOff x="5239800" y="3532320"/>
              <a:chExt cx="288360" cy="28728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239800" y="3532320"/>
                <a:ext cx="288360" cy="287280"/>
                <a:chOff x="5239800" y="3532320"/>
                <a:chExt cx="288360" cy="2872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355720" y="3532320"/>
                  <a:ext cx="57600" cy="287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5400000">
                  <a:off x="5355360" y="3531600"/>
                  <a:ext cx="57240" cy="288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2700000">
                  <a:off x="5356080" y="3531240"/>
                  <a:ext cx="57240" cy="2883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8100000">
                  <a:off x="5355720" y="3532320"/>
                  <a:ext cx="57600" cy="287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259600" y="3551040"/>
                  <a:ext cx="249840" cy="2491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278680" y="3570480"/>
                  <a:ext cx="211680" cy="21096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355720" y="3647520"/>
                  <a:ext cx="57600" cy="572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5239800" y="3532320"/>
                <a:ext cx="288360" cy="287280"/>
                <a:chOff x="5239800" y="3532320"/>
                <a:chExt cx="288360" cy="2872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5355720" y="3532320"/>
                  <a:ext cx="57600" cy="287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5400000">
                  <a:off x="5355360" y="3531600"/>
                  <a:ext cx="57240" cy="288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2700000">
                  <a:off x="5356080" y="3531240"/>
                  <a:ext cx="57240" cy="288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8100000">
                  <a:off x="5355720" y="3532320"/>
                  <a:ext cx="57600" cy="287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259600" y="3551040"/>
                  <a:ext cx="249840" cy="24912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278680" y="3570480"/>
                  <a:ext cx="211680" cy="21096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355720" y="3647520"/>
                  <a:ext cx="57600" cy="5724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"/>
            <p:cNvGrpSpPr/>
            <p:nvPr/>
          </p:nvGrpSpPr>
          <p:grpSpPr>
            <a:xfrm>
              <a:off x="5184720" y="3784680"/>
              <a:ext cx="399960" cy="149040"/>
              <a:chOff x="5184720" y="3784680"/>
              <a:chExt cx="399960" cy="149040"/>
            </a:xfrm>
          </p:grpSpPr>
          <p:sp>
            <p:nvSpPr>
              <p:cNvPr id="438" name=""/>
              <p:cNvSpPr txBox="1"/>
              <p:nvPr/>
            </p:nvSpPr>
            <p:spPr>
              <a:xfrm>
                <a:off x="5184720" y="37846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設計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5184720" y="37846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設計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7508880" y="669600"/>
            <a:ext cx="433440" cy="392400"/>
            <a:chOff x="7508880" y="669600"/>
            <a:chExt cx="433440" cy="392400"/>
          </a:xfrm>
        </p:grpSpPr>
        <p:grpSp>
          <p:nvGrpSpPr>
            <p:cNvPr id="441" name=""/>
            <p:cNvGrpSpPr/>
            <p:nvPr/>
          </p:nvGrpSpPr>
          <p:grpSpPr>
            <a:xfrm>
              <a:off x="7508880" y="669600"/>
              <a:ext cx="433440" cy="266040"/>
              <a:chOff x="7508880" y="669600"/>
              <a:chExt cx="433440" cy="26604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7622280" y="669600"/>
                <a:ext cx="320040" cy="266040"/>
                <a:chOff x="7622280" y="669600"/>
                <a:chExt cx="320040" cy="26604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7622280" y="669600"/>
                  <a:ext cx="320040" cy="266040"/>
                  <a:chOff x="7622280" y="669600"/>
                  <a:chExt cx="320040" cy="26604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2700000">
                    <a:off x="771984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20700000">
                    <a:off x="7644240" y="7833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rot="20700000">
                    <a:off x="7623360" y="822600"/>
                    <a:ext cx="18972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20700000">
                    <a:off x="7664040" y="8575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20700000">
                    <a:off x="7719120" y="8827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rot="20700000">
                    <a:off x="7747200" y="753120"/>
                    <a:ext cx="17856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7622280" y="669600"/>
                  <a:ext cx="320040" cy="266040"/>
                  <a:chOff x="7622280" y="669600"/>
                  <a:chExt cx="320040" cy="26604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rot="2700000">
                    <a:off x="771984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rot="20700000">
                    <a:off x="7644240" y="7833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rot="20700000">
                    <a:off x="7623360" y="822600"/>
                    <a:ext cx="18972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0700000">
                    <a:off x="7664040" y="8575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20700000">
                    <a:off x="7719120" y="8827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20700000">
                    <a:off x="7747200" y="753120"/>
                    <a:ext cx="17856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7508880" y="669600"/>
                <a:ext cx="319680" cy="265680"/>
                <a:chOff x="7508880" y="669600"/>
                <a:chExt cx="319680" cy="265680"/>
              </a:xfrm>
            </p:grpSpPr>
            <p:grpSp>
              <p:nvGrpSpPr>
                <p:cNvPr id="458" name=""/>
                <p:cNvGrpSpPr/>
                <p:nvPr/>
              </p:nvGrpSpPr>
              <p:grpSpPr>
                <a:xfrm>
                  <a:off x="7508880" y="669600"/>
                  <a:ext cx="319680" cy="265680"/>
                  <a:chOff x="7508880" y="669600"/>
                  <a:chExt cx="319680" cy="2656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18900000">
                    <a:off x="758052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900000">
                    <a:off x="7661160" y="7833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900000">
                    <a:off x="7637400" y="822600"/>
                    <a:ext cx="18972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H="1" rot="900000">
                    <a:off x="7641360" y="8575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rot="900000">
                    <a:off x="7586280" y="8827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rot="900000">
                    <a:off x="7525080" y="753120"/>
                    <a:ext cx="178560" cy="14940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508880" y="669600"/>
                  <a:ext cx="319680" cy="265680"/>
                  <a:chOff x="7508880" y="669600"/>
                  <a:chExt cx="319680" cy="26568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H="1" rot="18900000">
                    <a:off x="758052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rot="900000">
                    <a:off x="7661160" y="7833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rot="900000">
                    <a:off x="7637400" y="822600"/>
                    <a:ext cx="18972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rot="900000">
                    <a:off x="7641360" y="8575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 rot="900000">
                    <a:off x="7586280" y="8827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 rot="900000">
                    <a:off x="7525080" y="753120"/>
                    <a:ext cx="178560" cy="14940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2" name=""/>
            <p:cNvGrpSpPr/>
            <p:nvPr/>
          </p:nvGrpSpPr>
          <p:grpSpPr>
            <a:xfrm>
              <a:off x="7531200" y="912960"/>
              <a:ext cx="403200" cy="149040"/>
              <a:chOff x="7531200" y="912960"/>
              <a:chExt cx="403200" cy="149040"/>
            </a:xfrm>
          </p:grpSpPr>
          <p:sp>
            <p:nvSpPr>
              <p:cNvPr id="473" name=""/>
              <p:cNvSpPr txBox="1"/>
              <p:nvPr/>
            </p:nvSpPr>
            <p:spPr>
              <a:xfrm>
                <a:off x="7534440" y="9129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契約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7531200" y="9129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契約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5183280" y="2924280"/>
            <a:ext cx="402840" cy="293760"/>
            <a:chOff x="5183280" y="2924280"/>
            <a:chExt cx="402840" cy="293760"/>
          </a:xfrm>
        </p:grpSpPr>
        <p:grpSp>
          <p:nvGrpSpPr>
            <p:cNvPr id="476" name=""/>
            <p:cNvGrpSpPr/>
            <p:nvPr/>
          </p:nvGrpSpPr>
          <p:grpSpPr>
            <a:xfrm>
              <a:off x="5203800" y="2924280"/>
              <a:ext cx="363600" cy="123840"/>
              <a:chOff x="5203800" y="2924280"/>
              <a:chExt cx="363600" cy="12384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5203800" y="2924280"/>
                <a:ext cx="363600" cy="123840"/>
                <a:chOff x="5203800" y="2924280"/>
                <a:chExt cx="363600" cy="12384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5265360" y="2970720"/>
                  <a:ext cx="219600" cy="309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16200000">
                  <a:off x="5203080" y="2946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5400000">
                  <a:off x="5442480" y="2946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547600" y="2924280"/>
                  <a:ext cx="19800" cy="123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203800" y="2924280"/>
                  <a:ext cx="19800" cy="123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203800" y="2924280"/>
                <a:ext cx="363600" cy="123840"/>
                <a:chOff x="5203800" y="2924280"/>
                <a:chExt cx="363600" cy="12384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265360" y="2970720"/>
                  <a:ext cx="219600" cy="30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16200000">
                  <a:off x="5203080" y="2946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5400000">
                  <a:off x="5442480" y="2946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547600" y="2924280"/>
                  <a:ext cx="19800" cy="12384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203800" y="2924280"/>
                  <a:ext cx="19800" cy="12384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5183280" y="3068640"/>
              <a:ext cx="402840" cy="149400"/>
              <a:chOff x="5183280" y="3068640"/>
              <a:chExt cx="402840" cy="149400"/>
            </a:xfrm>
          </p:grpSpPr>
          <p:sp>
            <p:nvSpPr>
              <p:cNvPr id="490" name=""/>
              <p:cNvSpPr txBox="1"/>
              <p:nvPr/>
            </p:nvSpPr>
            <p:spPr>
              <a:xfrm>
                <a:off x="5186160" y="306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開発期間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5183280" y="306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開発期間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5975280" y="2924280"/>
            <a:ext cx="403200" cy="293760"/>
            <a:chOff x="5975280" y="2924280"/>
            <a:chExt cx="403200" cy="293760"/>
          </a:xfrm>
        </p:grpSpPr>
        <p:grpSp>
          <p:nvGrpSpPr>
            <p:cNvPr id="493" name=""/>
            <p:cNvGrpSpPr/>
            <p:nvPr/>
          </p:nvGrpSpPr>
          <p:grpSpPr>
            <a:xfrm>
              <a:off x="5994360" y="2924280"/>
              <a:ext cx="363600" cy="123840"/>
              <a:chOff x="5994360" y="2924280"/>
              <a:chExt cx="363600" cy="12384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5994360" y="2924280"/>
                <a:ext cx="363600" cy="123840"/>
                <a:chOff x="5994360" y="2924280"/>
                <a:chExt cx="363600" cy="12384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055920" y="2970720"/>
                  <a:ext cx="219600" cy="309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16200000">
                  <a:off x="5993640" y="2946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5400000">
                  <a:off x="6233040" y="2946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338160" y="2924280"/>
                  <a:ext cx="19800" cy="123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994360" y="2924280"/>
                  <a:ext cx="19800" cy="123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994360" y="2924280"/>
                <a:ext cx="363600" cy="123840"/>
                <a:chOff x="5994360" y="2924280"/>
                <a:chExt cx="363600" cy="1238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055920" y="2970720"/>
                  <a:ext cx="219600" cy="309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6200000">
                  <a:off x="5993640" y="2946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5400000">
                  <a:off x="6233040" y="2946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338160" y="2924280"/>
                  <a:ext cx="19800" cy="12384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94360" y="2924280"/>
                  <a:ext cx="19800" cy="12384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6" name=""/>
            <p:cNvGrpSpPr/>
            <p:nvPr/>
          </p:nvGrpSpPr>
          <p:grpSpPr>
            <a:xfrm>
              <a:off x="5975280" y="3068640"/>
              <a:ext cx="403200" cy="149400"/>
              <a:chOff x="5975280" y="3068640"/>
              <a:chExt cx="403200" cy="149400"/>
            </a:xfrm>
          </p:grpSpPr>
          <p:sp>
            <p:nvSpPr>
              <p:cNvPr id="507" name=""/>
              <p:cNvSpPr txBox="1"/>
              <p:nvPr/>
            </p:nvSpPr>
            <p:spPr>
              <a:xfrm>
                <a:off x="5978520" y="306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運用期間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5975280" y="306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運用期間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2101680" y="1413000"/>
            <a:ext cx="400320" cy="355320"/>
            <a:chOff x="2101680" y="1413000"/>
            <a:chExt cx="400320" cy="355320"/>
          </a:xfrm>
        </p:grpSpPr>
        <p:grpSp>
          <p:nvGrpSpPr>
            <p:cNvPr id="510" name=""/>
            <p:cNvGrpSpPr/>
            <p:nvPr/>
          </p:nvGrpSpPr>
          <p:grpSpPr>
            <a:xfrm>
              <a:off x="2139840" y="1413000"/>
              <a:ext cx="323640" cy="264960"/>
              <a:chOff x="2139840" y="1413000"/>
              <a:chExt cx="323640" cy="26496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2139840" y="1413000"/>
                <a:ext cx="153000" cy="264960"/>
                <a:chOff x="2139840" y="1413000"/>
                <a:chExt cx="153000" cy="26496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2139840" y="1413000"/>
                  <a:ext cx="152280" cy="264960"/>
                  <a:chOff x="2139840" y="1413000"/>
                  <a:chExt cx="152280" cy="26496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2158920" y="1413000"/>
                    <a:ext cx="113760" cy="11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139840" y="1526760"/>
                    <a:ext cx="152280" cy="15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139840" y="1602000"/>
                    <a:ext cx="151200" cy="7596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2140560" y="1413000"/>
                  <a:ext cx="152280" cy="264960"/>
                  <a:chOff x="2140560" y="1413000"/>
                  <a:chExt cx="152280" cy="26496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2159640" y="1413000"/>
                    <a:ext cx="113760" cy="1137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140560" y="1526760"/>
                    <a:ext cx="152280" cy="151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140560" y="1602000"/>
                    <a:ext cx="151200" cy="759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2310480" y="1413000"/>
                <a:ext cx="153000" cy="264960"/>
                <a:chOff x="2310480" y="1413000"/>
                <a:chExt cx="153000" cy="2649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2310480" y="1413000"/>
                  <a:ext cx="151920" cy="264960"/>
                  <a:chOff x="2310480" y="1413000"/>
                  <a:chExt cx="151920" cy="26496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329560" y="1413000"/>
                    <a:ext cx="113400" cy="11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310480" y="1526760"/>
                    <a:ext cx="151920" cy="15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310480" y="1602000"/>
                    <a:ext cx="150840" cy="7596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2311200" y="1413000"/>
                  <a:ext cx="152280" cy="264960"/>
                  <a:chOff x="2311200" y="1413000"/>
                  <a:chExt cx="152280" cy="26496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2330280" y="1413000"/>
                    <a:ext cx="113760" cy="11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311200" y="1526760"/>
                    <a:ext cx="152280" cy="1512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311200" y="1602000"/>
                    <a:ext cx="151200" cy="75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9" name=""/>
            <p:cNvGrpSpPr/>
            <p:nvPr/>
          </p:nvGrpSpPr>
          <p:grpSpPr>
            <a:xfrm>
              <a:off x="2101680" y="1619280"/>
              <a:ext cx="400320" cy="149040"/>
              <a:chOff x="2101680" y="1619280"/>
              <a:chExt cx="400320" cy="149040"/>
            </a:xfrm>
          </p:grpSpPr>
          <p:sp>
            <p:nvSpPr>
              <p:cNvPr id="530" name=""/>
              <p:cNvSpPr txBox="1"/>
              <p:nvPr/>
            </p:nvSpPr>
            <p:spPr>
              <a:xfrm>
                <a:off x="2101680" y="161928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打合せ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>
                <a:off x="2101680" y="161928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打合せ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1297080" y="1362240"/>
            <a:ext cx="399960" cy="411120"/>
            <a:chOff x="1297080" y="1362240"/>
            <a:chExt cx="399960" cy="411120"/>
          </a:xfrm>
        </p:grpSpPr>
        <p:grpSp>
          <p:nvGrpSpPr>
            <p:cNvPr id="533" name=""/>
            <p:cNvGrpSpPr/>
            <p:nvPr/>
          </p:nvGrpSpPr>
          <p:grpSpPr>
            <a:xfrm>
              <a:off x="1301760" y="1362240"/>
              <a:ext cx="390600" cy="266040"/>
              <a:chOff x="1301760" y="1362240"/>
              <a:chExt cx="390600" cy="26604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367640" y="1362240"/>
                <a:ext cx="120600" cy="206280"/>
                <a:chOff x="1367640" y="1362240"/>
                <a:chExt cx="120600" cy="20628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1367640" y="1362240"/>
                  <a:ext cx="120240" cy="206280"/>
                  <a:chOff x="1367640" y="1362240"/>
                  <a:chExt cx="120240" cy="20628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1382760" y="136224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1367640" y="145080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1367640" y="150948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1368000" y="1362240"/>
                  <a:ext cx="120240" cy="206280"/>
                  <a:chOff x="1368000" y="1362240"/>
                  <a:chExt cx="120240" cy="20628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1383120" y="1362240"/>
                    <a:ext cx="90000" cy="885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368000" y="1450800"/>
                    <a:ext cx="120240" cy="1177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1368000" y="1509480"/>
                    <a:ext cx="119520" cy="5904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3" name=""/>
              <p:cNvGrpSpPr/>
              <p:nvPr/>
            </p:nvGrpSpPr>
            <p:grpSpPr>
              <a:xfrm>
                <a:off x="1502640" y="1362240"/>
                <a:ext cx="120960" cy="206280"/>
                <a:chOff x="1502640" y="1362240"/>
                <a:chExt cx="120960" cy="206280"/>
              </a:xfrm>
            </p:grpSpPr>
            <p:grpSp>
              <p:nvGrpSpPr>
                <p:cNvPr id="544" name=""/>
                <p:cNvGrpSpPr/>
                <p:nvPr/>
              </p:nvGrpSpPr>
              <p:grpSpPr>
                <a:xfrm>
                  <a:off x="1502640" y="1362240"/>
                  <a:ext cx="120240" cy="206280"/>
                  <a:chOff x="1502640" y="1362240"/>
                  <a:chExt cx="120240" cy="20628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1517760" y="136224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502640" y="145080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502640" y="150948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1503360" y="1362240"/>
                  <a:ext cx="120240" cy="206280"/>
                  <a:chOff x="1503360" y="1362240"/>
                  <a:chExt cx="120240" cy="20628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1518480" y="1362240"/>
                    <a:ext cx="90000" cy="8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1503360" y="1450800"/>
                    <a:ext cx="12024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1503360" y="1509480"/>
                    <a:ext cx="119520" cy="59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"/>
              <p:cNvGrpSpPr/>
              <p:nvPr/>
            </p:nvGrpSpPr>
            <p:grpSpPr>
              <a:xfrm>
                <a:off x="1301760" y="1422000"/>
                <a:ext cx="120600" cy="206280"/>
                <a:chOff x="1301760" y="1422000"/>
                <a:chExt cx="120600" cy="20628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1301760" y="1422000"/>
                  <a:ext cx="120240" cy="206280"/>
                  <a:chOff x="1301760" y="1422000"/>
                  <a:chExt cx="120240" cy="20628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1316880" y="1422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1301760" y="1510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1301760" y="1569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1302120" y="1422000"/>
                  <a:ext cx="120240" cy="206280"/>
                  <a:chOff x="1302120" y="1422000"/>
                  <a:chExt cx="120240" cy="20628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1317240" y="1422000"/>
                    <a:ext cx="90000" cy="88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1302120" y="1510560"/>
                    <a:ext cx="120240" cy="11772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302120" y="1569240"/>
                    <a:ext cx="119520" cy="590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1" name=""/>
              <p:cNvGrpSpPr/>
              <p:nvPr/>
            </p:nvGrpSpPr>
            <p:grpSpPr>
              <a:xfrm>
                <a:off x="1436400" y="1422000"/>
                <a:ext cx="120600" cy="206280"/>
                <a:chOff x="1436400" y="1422000"/>
                <a:chExt cx="120600" cy="206280"/>
              </a:xfrm>
            </p:grpSpPr>
            <p:grpSp>
              <p:nvGrpSpPr>
                <p:cNvPr id="562" name=""/>
                <p:cNvGrpSpPr/>
                <p:nvPr/>
              </p:nvGrpSpPr>
              <p:grpSpPr>
                <a:xfrm>
                  <a:off x="1436400" y="1422000"/>
                  <a:ext cx="120240" cy="206280"/>
                  <a:chOff x="1436400" y="1422000"/>
                  <a:chExt cx="120240" cy="20628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1451520" y="1422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436400" y="1510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436400" y="1569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1436760" y="1422000"/>
                  <a:ext cx="120240" cy="206280"/>
                  <a:chOff x="1436760" y="1422000"/>
                  <a:chExt cx="120240" cy="20628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1451880" y="1422000"/>
                    <a:ext cx="90000" cy="88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436760" y="1510560"/>
                    <a:ext cx="120240" cy="117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436760" y="1569240"/>
                    <a:ext cx="119520" cy="5904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" name=""/>
              <p:cNvGrpSpPr/>
              <p:nvPr/>
            </p:nvGrpSpPr>
            <p:grpSpPr>
              <a:xfrm>
                <a:off x="1571400" y="1422000"/>
                <a:ext cx="120960" cy="206280"/>
                <a:chOff x="1571400" y="1422000"/>
                <a:chExt cx="120960" cy="20628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1571400" y="1422000"/>
                  <a:ext cx="120240" cy="206280"/>
                  <a:chOff x="1571400" y="1422000"/>
                  <a:chExt cx="120240" cy="2062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1586520" y="1422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1571400" y="1510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1571400" y="1569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1572120" y="1422000"/>
                  <a:ext cx="120240" cy="206280"/>
                  <a:chOff x="1572120" y="1422000"/>
                  <a:chExt cx="120240" cy="20628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1587240" y="1422000"/>
                    <a:ext cx="90000" cy="885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572120" y="1510560"/>
                    <a:ext cx="120240" cy="1177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572120" y="1569240"/>
                    <a:ext cx="119520" cy="59040"/>
                  </a:xfrm>
                  <a:prstGeom prst="rect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9" name=""/>
            <p:cNvGrpSpPr/>
            <p:nvPr/>
          </p:nvGrpSpPr>
          <p:grpSpPr>
            <a:xfrm>
              <a:off x="1297080" y="1623960"/>
              <a:ext cx="399960" cy="149400"/>
              <a:chOff x="1297080" y="1623960"/>
              <a:chExt cx="399960" cy="149400"/>
            </a:xfrm>
          </p:grpSpPr>
          <p:sp>
            <p:nvSpPr>
              <p:cNvPr id="580" name=""/>
              <p:cNvSpPr txBox="1"/>
              <p:nvPr/>
            </p:nvSpPr>
            <p:spPr>
              <a:xfrm>
                <a:off x="1297080" y="1623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定例会議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581" name=""/>
              <p:cNvSpPr txBox="1"/>
              <p:nvPr/>
            </p:nvSpPr>
            <p:spPr>
              <a:xfrm>
                <a:off x="1297080" y="1623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定例会議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582" name=""/>
          <p:cNvGrpSpPr/>
          <p:nvPr/>
        </p:nvGrpSpPr>
        <p:grpSpPr>
          <a:xfrm>
            <a:off x="560520" y="1362240"/>
            <a:ext cx="399960" cy="406080"/>
            <a:chOff x="560520" y="1362240"/>
            <a:chExt cx="399960" cy="406080"/>
          </a:xfrm>
        </p:grpSpPr>
        <p:grpSp>
          <p:nvGrpSpPr>
            <p:cNvPr id="583" name=""/>
            <p:cNvGrpSpPr/>
            <p:nvPr/>
          </p:nvGrpSpPr>
          <p:grpSpPr>
            <a:xfrm>
              <a:off x="565200" y="1362240"/>
              <a:ext cx="390600" cy="266040"/>
              <a:chOff x="565200" y="1362240"/>
              <a:chExt cx="390600" cy="26604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631080" y="1362240"/>
                <a:ext cx="120600" cy="206280"/>
                <a:chOff x="631080" y="1362240"/>
                <a:chExt cx="120600" cy="206280"/>
              </a:xfrm>
            </p:grpSpPr>
            <p:grpSp>
              <p:nvGrpSpPr>
                <p:cNvPr id="585" name=""/>
                <p:cNvGrpSpPr/>
                <p:nvPr/>
              </p:nvGrpSpPr>
              <p:grpSpPr>
                <a:xfrm>
                  <a:off x="631080" y="1362240"/>
                  <a:ext cx="120240" cy="206280"/>
                  <a:chOff x="631080" y="1362240"/>
                  <a:chExt cx="120240" cy="20628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646200" y="136224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31080" y="145080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631080" y="150948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631440" y="1362240"/>
                  <a:ext cx="120240" cy="206280"/>
                  <a:chOff x="631440" y="1362240"/>
                  <a:chExt cx="120240" cy="20628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646560" y="1362240"/>
                    <a:ext cx="90000" cy="885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631440" y="1450800"/>
                    <a:ext cx="120240" cy="1177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631440" y="1509480"/>
                    <a:ext cx="119520" cy="5904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766080" y="1362240"/>
                <a:ext cx="120960" cy="206280"/>
                <a:chOff x="766080" y="1362240"/>
                <a:chExt cx="120960" cy="20628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766080" y="1362240"/>
                  <a:ext cx="120240" cy="206280"/>
                  <a:chOff x="766080" y="1362240"/>
                  <a:chExt cx="120240" cy="2062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781200" y="136224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766080" y="145080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6080" y="150948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766800" y="1362240"/>
                  <a:ext cx="120240" cy="206280"/>
                  <a:chOff x="766800" y="1362240"/>
                  <a:chExt cx="120240" cy="20628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781920" y="1362240"/>
                    <a:ext cx="90000" cy="8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766800" y="1450800"/>
                    <a:ext cx="12024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766800" y="1509480"/>
                    <a:ext cx="119520" cy="59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2" name=""/>
              <p:cNvGrpSpPr/>
              <p:nvPr/>
            </p:nvGrpSpPr>
            <p:grpSpPr>
              <a:xfrm>
                <a:off x="565200" y="1422000"/>
                <a:ext cx="120600" cy="206280"/>
                <a:chOff x="565200" y="1422000"/>
                <a:chExt cx="120600" cy="206280"/>
              </a:xfrm>
            </p:grpSpPr>
            <p:grpSp>
              <p:nvGrpSpPr>
                <p:cNvPr id="603" name=""/>
                <p:cNvGrpSpPr/>
                <p:nvPr/>
              </p:nvGrpSpPr>
              <p:grpSpPr>
                <a:xfrm>
                  <a:off x="565200" y="1422000"/>
                  <a:ext cx="120240" cy="206280"/>
                  <a:chOff x="565200" y="1422000"/>
                  <a:chExt cx="120240" cy="20628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580320" y="1422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565200" y="1510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65200" y="1569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565560" y="1422000"/>
                  <a:ext cx="120240" cy="206280"/>
                  <a:chOff x="565560" y="1422000"/>
                  <a:chExt cx="120240" cy="20628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580680" y="1422000"/>
                    <a:ext cx="90000" cy="88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565560" y="1510560"/>
                    <a:ext cx="120240" cy="11772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565560" y="1569240"/>
                    <a:ext cx="119520" cy="590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1" name=""/>
              <p:cNvGrpSpPr/>
              <p:nvPr/>
            </p:nvGrpSpPr>
            <p:grpSpPr>
              <a:xfrm>
                <a:off x="699840" y="1422000"/>
                <a:ext cx="120600" cy="206280"/>
                <a:chOff x="699840" y="1422000"/>
                <a:chExt cx="120600" cy="206280"/>
              </a:xfrm>
            </p:grpSpPr>
            <p:grpSp>
              <p:nvGrpSpPr>
                <p:cNvPr id="612" name=""/>
                <p:cNvGrpSpPr/>
                <p:nvPr/>
              </p:nvGrpSpPr>
              <p:grpSpPr>
                <a:xfrm>
                  <a:off x="699840" y="1422000"/>
                  <a:ext cx="120240" cy="206280"/>
                  <a:chOff x="699840" y="1422000"/>
                  <a:chExt cx="120240" cy="20628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714960" y="1422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99840" y="1510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99840" y="1569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700200" y="1422000"/>
                  <a:ext cx="120240" cy="206280"/>
                  <a:chOff x="700200" y="1422000"/>
                  <a:chExt cx="120240" cy="20628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715320" y="1422000"/>
                    <a:ext cx="90000" cy="88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00200" y="1510560"/>
                    <a:ext cx="120240" cy="117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00200" y="1569240"/>
                    <a:ext cx="119520" cy="5904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834840" y="1422000"/>
                <a:ext cx="120960" cy="206280"/>
                <a:chOff x="834840" y="1422000"/>
                <a:chExt cx="120960" cy="206280"/>
              </a:xfrm>
            </p:grpSpPr>
            <p:grpSp>
              <p:nvGrpSpPr>
                <p:cNvPr id="621" name=""/>
                <p:cNvGrpSpPr/>
                <p:nvPr/>
              </p:nvGrpSpPr>
              <p:grpSpPr>
                <a:xfrm>
                  <a:off x="834840" y="1422000"/>
                  <a:ext cx="120240" cy="206280"/>
                  <a:chOff x="834840" y="1422000"/>
                  <a:chExt cx="120240" cy="20628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849960" y="1422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834840" y="1510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834840" y="1569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" name=""/>
                <p:cNvGrpSpPr/>
                <p:nvPr/>
              </p:nvGrpSpPr>
              <p:grpSpPr>
                <a:xfrm>
                  <a:off x="835560" y="1422000"/>
                  <a:ext cx="120240" cy="206280"/>
                  <a:chOff x="835560" y="1422000"/>
                  <a:chExt cx="120240" cy="20628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850680" y="1422000"/>
                    <a:ext cx="90000" cy="885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835560" y="1510560"/>
                    <a:ext cx="120240" cy="1177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835560" y="1569240"/>
                    <a:ext cx="119520" cy="59040"/>
                  </a:xfrm>
                  <a:prstGeom prst="rect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29" name=""/>
            <p:cNvGrpSpPr/>
            <p:nvPr/>
          </p:nvGrpSpPr>
          <p:grpSpPr>
            <a:xfrm>
              <a:off x="560520" y="1619280"/>
              <a:ext cx="399960" cy="149040"/>
              <a:chOff x="560520" y="1619280"/>
              <a:chExt cx="399960" cy="149040"/>
            </a:xfrm>
          </p:grpSpPr>
          <p:sp>
            <p:nvSpPr>
              <p:cNvPr id="630" name=""/>
              <p:cNvSpPr txBox="1"/>
              <p:nvPr/>
            </p:nvSpPr>
            <p:spPr>
              <a:xfrm>
                <a:off x="560520" y="16192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会議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631" name=""/>
              <p:cNvSpPr txBox="1"/>
              <p:nvPr/>
            </p:nvSpPr>
            <p:spPr>
              <a:xfrm>
                <a:off x="560520" y="16192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会議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632" name=""/>
          <p:cNvGrpSpPr/>
          <p:nvPr/>
        </p:nvGrpSpPr>
        <p:grpSpPr>
          <a:xfrm>
            <a:off x="9072720" y="1413000"/>
            <a:ext cx="403200" cy="365040"/>
            <a:chOff x="9072720" y="1413000"/>
            <a:chExt cx="403200" cy="365040"/>
          </a:xfrm>
        </p:grpSpPr>
        <p:sp>
          <p:nvSpPr>
            <p:cNvPr id="633" name=""/>
            <p:cNvSpPr/>
            <p:nvPr/>
          </p:nvSpPr>
          <p:spPr>
            <a:xfrm>
              <a:off x="9134640" y="1413000"/>
              <a:ext cx="279360" cy="279360"/>
            </a:xfrm>
            <a:prstGeom prst="donut">
              <a:avLst>
                <a:gd name="adj" fmla="val 27273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9072720" y="1628640"/>
              <a:ext cx="403200" cy="149400"/>
              <a:chOff x="9072720" y="1628640"/>
              <a:chExt cx="403200" cy="149400"/>
            </a:xfrm>
          </p:grpSpPr>
          <p:sp>
            <p:nvSpPr>
              <p:cNvPr id="635" name=""/>
              <p:cNvSpPr txBox="1"/>
              <p:nvPr/>
            </p:nvSpPr>
            <p:spPr>
              <a:xfrm>
                <a:off x="9075960" y="162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確定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9072720" y="162864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確定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3540960" y="1901160"/>
            <a:ext cx="596520" cy="597600"/>
            <a:chOff x="3540960" y="1901160"/>
            <a:chExt cx="596520" cy="597600"/>
          </a:xfrm>
        </p:grpSpPr>
        <p:grpSp>
          <p:nvGrpSpPr>
            <p:cNvPr id="638" name=""/>
            <p:cNvGrpSpPr/>
            <p:nvPr/>
          </p:nvGrpSpPr>
          <p:grpSpPr>
            <a:xfrm>
              <a:off x="3540960" y="1901160"/>
              <a:ext cx="596520" cy="596880"/>
              <a:chOff x="3540960" y="1901160"/>
              <a:chExt cx="596520" cy="596880"/>
            </a:xfrm>
          </p:grpSpPr>
          <p:sp>
            <p:nvSpPr>
              <p:cNvPr id="639" name=""/>
              <p:cNvSpPr/>
              <p:nvPr/>
            </p:nvSpPr>
            <p:spPr>
              <a:xfrm rot="2700000">
                <a:off x="3628440" y="1989000"/>
                <a:ext cx="419040" cy="422280"/>
              </a:xfrm>
              <a:custGeom>
                <a:avLst/>
                <a:gdLst/>
                <a:ahLst/>
                <a:rect l="l" t="t" r="r" b="b"/>
                <a:pathLst>
                  <a:path w="4248" h="4275">
                    <a:moveTo>
                      <a:pt x="2196" y="4068"/>
                    </a:moveTo>
                    <a:lnTo>
                      <a:pt x="2907" y="4239"/>
                    </a:lnTo>
                    <a:lnTo>
                      <a:pt x="2898" y="4095"/>
                    </a:lnTo>
                    <a:lnTo>
                      <a:pt x="2286" y="3753"/>
                    </a:lnTo>
                    <a:lnTo>
                      <a:pt x="2358" y="3240"/>
                    </a:lnTo>
                    <a:lnTo>
                      <a:pt x="2367" y="2772"/>
                    </a:lnTo>
                    <a:lnTo>
                      <a:pt x="2376" y="2484"/>
                    </a:lnTo>
                    <a:lnTo>
                      <a:pt x="2736" y="2475"/>
                    </a:lnTo>
                    <a:lnTo>
                      <a:pt x="2808" y="2421"/>
                    </a:lnTo>
                    <a:lnTo>
                      <a:pt x="4248" y="2637"/>
                    </a:lnTo>
                    <a:lnTo>
                      <a:pt x="4248" y="2511"/>
                    </a:lnTo>
                    <a:lnTo>
                      <a:pt x="2988" y="1953"/>
                    </a:lnTo>
                    <a:lnTo>
                      <a:pt x="2979" y="1647"/>
                    </a:lnTo>
                    <a:lnTo>
                      <a:pt x="2862" y="1557"/>
                    </a:lnTo>
                    <a:lnTo>
                      <a:pt x="2763" y="1566"/>
                    </a:lnTo>
                    <a:lnTo>
                      <a:pt x="2691" y="1620"/>
                    </a:lnTo>
                    <a:lnTo>
                      <a:pt x="2691" y="1836"/>
                    </a:lnTo>
                    <a:lnTo>
                      <a:pt x="2349" y="1656"/>
                    </a:lnTo>
                    <a:lnTo>
                      <a:pt x="2376" y="468"/>
                    </a:lnTo>
                    <a:lnTo>
                      <a:pt x="2286" y="189"/>
                    </a:lnTo>
                    <a:lnTo>
                      <a:pt x="2160" y="0"/>
                    </a:lnTo>
                    <a:lnTo>
                      <a:pt x="1998" y="207"/>
                    </a:lnTo>
                    <a:lnTo>
                      <a:pt x="1935" y="432"/>
                    </a:lnTo>
                    <a:lnTo>
                      <a:pt x="1908" y="1035"/>
                    </a:lnTo>
                    <a:lnTo>
                      <a:pt x="1926" y="1692"/>
                    </a:lnTo>
                    <a:lnTo>
                      <a:pt x="1557" y="1872"/>
                    </a:lnTo>
                    <a:lnTo>
                      <a:pt x="1566" y="1692"/>
                    </a:lnTo>
                    <a:lnTo>
                      <a:pt x="1530" y="1620"/>
                    </a:lnTo>
                    <a:lnTo>
                      <a:pt x="1413" y="1593"/>
                    </a:lnTo>
                    <a:lnTo>
                      <a:pt x="1332" y="1665"/>
                    </a:lnTo>
                    <a:lnTo>
                      <a:pt x="1341" y="1854"/>
                    </a:lnTo>
                    <a:lnTo>
                      <a:pt x="1341" y="1971"/>
                    </a:lnTo>
                    <a:lnTo>
                      <a:pt x="0" y="2646"/>
                    </a:lnTo>
                    <a:lnTo>
                      <a:pt x="0" y="2790"/>
                    </a:lnTo>
                    <a:lnTo>
                      <a:pt x="81" y="2736"/>
                    </a:lnTo>
                    <a:lnTo>
                      <a:pt x="1368" y="2484"/>
                    </a:lnTo>
                    <a:lnTo>
                      <a:pt x="1512" y="2475"/>
                    </a:lnTo>
                    <a:lnTo>
                      <a:pt x="1566" y="2511"/>
                    </a:lnTo>
                    <a:lnTo>
                      <a:pt x="1953" y="2547"/>
                    </a:lnTo>
                    <a:lnTo>
                      <a:pt x="1926" y="3411"/>
                    </a:lnTo>
                    <a:lnTo>
                      <a:pt x="1989" y="3681"/>
                    </a:lnTo>
                    <a:lnTo>
                      <a:pt x="2016" y="3762"/>
                    </a:lnTo>
                    <a:lnTo>
                      <a:pt x="1377" y="4131"/>
                    </a:lnTo>
                    <a:lnTo>
                      <a:pt x="1386" y="4275"/>
                    </a:lnTo>
                    <a:lnTo>
                      <a:pt x="2043" y="4068"/>
                    </a:lnTo>
                    <a:lnTo>
                      <a:pt x="2088" y="4221"/>
                    </a:lnTo>
                    <a:lnTo>
                      <a:pt x="2151" y="4221"/>
                    </a:lnTo>
                    <a:lnTo>
                      <a:pt x="2196" y="4068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700000">
                <a:off x="3629880" y="1987560"/>
                <a:ext cx="419400" cy="422280"/>
              </a:xfrm>
              <a:custGeom>
                <a:avLst/>
                <a:gdLst/>
                <a:ahLst/>
                <a:rect l="l" t="t" r="r" b="b"/>
                <a:pathLst>
                  <a:path w="4248" h="4275">
                    <a:moveTo>
                      <a:pt x="2196" y="4068"/>
                    </a:moveTo>
                    <a:lnTo>
                      <a:pt x="2907" y="4239"/>
                    </a:lnTo>
                    <a:lnTo>
                      <a:pt x="2898" y="4095"/>
                    </a:lnTo>
                    <a:lnTo>
                      <a:pt x="2286" y="3753"/>
                    </a:lnTo>
                    <a:lnTo>
                      <a:pt x="2358" y="3240"/>
                    </a:lnTo>
                    <a:lnTo>
                      <a:pt x="2367" y="2772"/>
                    </a:lnTo>
                    <a:lnTo>
                      <a:pt x="2376" y="2484"/>
                    </a:lnTo>
                    <a:lnTo>
                      <a:pt x="2736" y="2475"/>
                    </a:lnTo>
                    <a:lnTo>
                      <a:pt x="2808" y="2421"/>
                    </a:lnTo>
                    <a:lnTo>
                      <a:pt x="4248" y="2637"/>
                    </a:lnTo>
                    <a:lnTo>
                      <a:pt x="4248" y="2511"/>
                    </a:lnTo>
                    <a:lnTo>
                      <a:pt x="2988" y="1953"/>
                    </a:lnTo>
                    <a:lnTo>
                      <a:pt x="2979" y="1647"/>
                    </a:lnTo>
                    <a:lnTo>
                      <a:pt x="2862" y="1557"/>
                    </a:lnTo>
                    <a:lnTo>
                      <a:pt x="2763" y="1566"/>
                    </a:lnTo>
                    <a:lnTo>
                      <a:pt x="2691" y="1620"/>
                    </a:lnTo>
                    <a:lnTo>
                      <a:pt x="2691" y="1836"/>
                    </a:lnTo>
                    <a:lnTo>
                      <a:pt x="2349" y="1656"/>
                    </a:lnTo>
                    <a:lnTo>
                      <a:pt x="2376" y="468"/>
                    </a:lnTo>
                    <a:lnTo>
                      <a:pt x="2286" y="189"/>
                    </a:lnTo>
                    <a:lnTo>
                      <a:pt x="2160" y="0"/>
                    </a:lnTo>
                    <a:lnTo>
                      <a:pt x="1998" y="207"/>
                    </a:lnTo>
                    <a:lnTo>
                      <a:pt x="1935" y="432"/>
                    </a:lnTo>
                    <a:lnTo>
                      <a:pt x="1908" y="1035"/>
                    </a:lnTo>
                    <a:lnTo>
                      <a:pt x="1926" y="1692"/>
                    </a:lnTo>
                    <a:lnTo>
                      <a:pt x="1557" y="1872"/>
                    </a:lnTo>
                    <a:lnTo>
                      <a:pt x="1566" y="1692"/>
                    </a:lnTo>
                    <a:lnTo>
                      <a:pt x="1530" y="1620"/>
                    </a:lnTo>
                    <a:lnTo>
                      <a:pt x="1413" y="1593"/>
                    </a:lnTo>
                    <a:lnTo>
                      <a:pt x="1332" y="1665"/>
                    </a:lnTo>
                    <a:lnTo>
                      <a:pt x="1341" y="1854"/>
                    </a:lnTo>
                    <a:lnTo>
                      <a:pt x="1341" y="1971"/>
                    </a:lnTo>
                    <a:lnTo>
                      <a:pt x="0" y="2646"/>
                    </a:lnTo>
                    <a:lnTo>
                      <a:pt x="0" y="2790"/>
                    </a:lnTo>
                    <a:lnTo>
                      <a:pt x="81" y="2736"/>
                    </a:lnTo>
                    <a:lnTo>
                      <a:pt x="1368" y="2484"/>
                    </a:lnTo>
                    <a:lnTo>
                      <a:pt x="1512" y="2475"/>
                    </a:lnTo>
                    <a:lnTo>
                      <a:pt x="1566" y="2511"/>
                    </a:lnTo>
                    <a:lnTo>
                      <a:pt x="1953" y="2547"/>
                    </a:lnTo>
                    <a:lnTo>
                      <a:pt x="1926" y="3411"/>
                    </a:lnTo>
                    <a:lnTo>
                      <a:pt x="1989" y="3681"/>
                    </a:lnTo>
                    <a:lnTo>
                      <a:pt x="2016" y="3762"/>
                    </a:lnTo>
                    <a:lnTo>
                      <a:pt x="1377" y="4131"/>
                    </a:lnTo>
                    <a:lnTo>
                      <a:pt x="1386" y="4275"/>
                    </a:lnTo>
                    <a:lnTo>
                      <a:pt x="2043" y="4068"/>
                    </a:lnTo>
                    <a:lnTo>
                      <a:pt x="2088" y="4221"/>
                    </a:lnTo>
                    <a:lnTo>
                      <a:pt x="2151" y="4221"/>
                    </a:lnTo>
                    <a:lnTo>
                      <a:pt x="2196" y="40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3638520" y="2349360"/>
              <a:ext cx="403200" cy="149400"/>
              <a:chOff x="3638520" y="2349360"/>
              <a:chExt cx="403200" cy="149400"/>
            </a:xfrm>
          </p:grpSpPr>
          <p:sp>
            <p:nvSpPr>
              <p:cNvPr id="642" name=""/>
              <p:cNvSpPr txBox="1"/>
              <p:nvPr/>
            </p:nvSpPr>
            <p:spPr>
              <a:xfrm>
                <a:off x="3641760" y="234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空輸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3638520" y="23493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空輸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3629880" y="1341360"/>
            <a:ext cx="417960" cy="437040"/>
            <a:chOff x="3629880" y="1341360"/>
            <a:chExt cx="417960" cy="437040"/>
          </a:xfrm>
        </p:grpSpPr>
        <p:grpSp>
          <p:nvGrpSpPr>
            <p:cNvPr id="645" name=""/>
            <p:cNvGrpSpPr/>
            <p:nvPr/>
          </p:nvGrpSpPr>
          <p:grpSpPr>
            <a:xfrm>
              <a:off x="3629880" y="1341360"/>
              <a:ext cx="417960" cy="437040"/>
              <a:chOff x="3629880" y="1341360"/>
              <a:chExt cx="417960" cy="43704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3629880" y="1341360"/>
                <a:ext cx="417960" cy="436680"/>
                <a:chOff x="3629880" y="1341360"/>
                <a:chExt cx="417960" cy="43668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3809880" y="1350360"/>
                  <a:ext cx="201600" cy="2836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809880" y="1341360"/>
                  <a:ext cx="201600" cy="21060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20731800">
                  <a:off x="3809520" y="1463400"/>
                  <a:ext cx="35640" cy="59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 rot="932400">
                  <a:off x="3975480" y="1463040"/>
                  <a:ext cx="35640" cy="59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819240" y="1368720"/>
                  <a:ext cx="183240" cy="2102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" name=""/>
                <p:cNvGrpSpPr/>
                <p:nvPr/>
              </p:nvGrpSpPr>
              <p:grpSpPr>
                <a:xfrm>
                  <a:off x="3883320" y="1478520"/>
                  <a:ext cx="54720" cy="146520"/>
                  <a:chOff x="3883320" y="1478520"/>
                  <a:chExt cx="54720" cy="1465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3883320" y="1478520"/>
                    <a:ext cx="54720" cy="146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883320" y="1524240"/>
                    <a:ext cx="54720" cy="54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" name=""/>
                <p:cNvSpPr/>
                <p:nvPr/>
              </p:nvSpPr>
              <p:spPr>
                <a:xfrm>
                  <a:off x="3822120" y="1368720"/>
                  <a:ext cx="177480" cy="2012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rot="10800000">
                  <a:off x="3897360" y="1515240"/>
                  <a:ext cx="26280" cy="9360"/>
                </a:xfrm>
                <a:custGeom>
                  <a:avLst/>
                  <a:gdLst/>
                  <a:ahLst/>
                  <a:rect l="l" t="t" r="r" b="b"/>
                  <a:pathLst>
                    <a:path w="363" h="98">
                      <a:moveTo>
                        <a:pt x="0" y="91"/>
                      </a:moveTo>
                      <a:cubicBezTo>
                        <a:pt x="0" y="84"/>
                        <a:pt x="122" y="0"/>
                        <a:pt x="182" y="0"/>
                      </a:cubicBezTo>
                      <a:cubicBezTo>
                        <a:pt x="242" y="0"/>
                        <a:pt x="363" y="84"/>
                        <a:pt x="363" y="91"/>
                      </a:cubicBezTo>
                      <a:cubicBezTo>
                        <a:pt x="363" y="98"/>
                        <a:pt x="242" y="45"/>
                        <a:pt x="182" y="45"/>
                      </a:cubicBezTo>
                      <a:cubicBezTo>
                        <a:pt x="122" y="45"/>
                        <a:pt x="0" y="98"/>
                        <a:pt x="0" y="9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3883680" y="1533600"/>
                  <a:ext cx="54720" cy="18360"/>
                  <a:chOff x="3883680" y="1533600"/>
                  <a:chExt cx="54720" cy="1836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3883680" y="1533600"/>
                    <a:ext cx="547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726">
                        <a:moveTo>
                          <a:pt x="461" y="0"/>
                        </a:moveTo>
                        <a:cubicBezTo>
                          <a:pt x="612" y="0"/>
                          <a:pt x="915" y="60"/>
                          <a:pt x="915" y="181"/>
                        </a:cubicBezTo>
                        <a:cubicBezTo>
                          <a:pt x="915" y="302"/>
                          <a:pt x="612" y="726"/>
                          <a:pt x="461" y="726"/>
                        </a:cubicBezTo>
                        <a:cubicBezTo>
                          <a:pt x="310" y="726"/>
                          <a:pt x="0" y="302"/>
                          <a:pt x="7" y="181"/>
                        </a:cubicBezTo>
                        <a:cubicBezTo>
                          <a:pt x="14" y="60"/>
                          <a:pt x="310" y="0"/>
                          <a:pt x="46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891600" y="1540800"/>
                    <a:ext cx="38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726">
                        <a:moveTo>
                          <a:pt x="461" y="0"/>
                        </a:moveTo>
                        <a:cubicBezTo>
                          <a:pt x="612" y="0"/>
                          <a:pt x="915" y="60"/>
                          <a:pt x="915" y="181"/>
                        </a:cubicBezTo>
                        <a:cubicBezTo>
                          <a:pt x="915" y="302"/>
                          <a:pt x="612" y="726"/>
                          <a:pt x="461" y="726"/>
                        </a:cubicBezTo>
                        <a:cubicBezTo>
                          <a:pt x="310" y="726"/>
                          <a:pt x="0" y="302"/>
                          <a:pt x="7" y="181"/>
                        </a:cubicBezTo>
                        <a:cubicBezTo>
                          <a:pt x="14" y="60"/>
                          <a:pt x="310" y="0"/>
                          <a:pt x="46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" name=""/>
                <p:cNvSpPr/>
                <p:nvPr/>
              </p:nvSpPr>
              <p:spPr>
                <a:xfrm>
                  <a:off x="3846600" y="1579320"/>
                  <a:ext cx="128160" cy="730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rot="20808600">
                  <a:off x="3712680" y="1614960"/>
                  <a:ext cx="61200" cy="158040"/>
                </a:xfrm>
                <a:custGeom>
                  <a:avLst/>
                  <a:gdLst>
                    <a:gd name="textAreaLeft" fmla="*/ 9000 w 61200"/>
                    <a:gd name="textAreaRight" fmla="*/ 52200 w 61200"/>
                    <a:gd name="textAreaTop" fmla="*/ 9000 h 158040"/>
                    <a:gd name="textAreaBottom" fmla="*/ 149040 h 158040"/>
                  </a:gdLst>
                  <a:ahLst/>
                  <a:rect l="textAreaLeft" t="textAreaTop" r="textAreaRight" b="textAreaBottom"/>
                  <a:pathLst>
                    <a:path w="21600" h="55579">
                      <a:moveTo>
                        <a:pt x="10800" y="0"/>
                      </a:moveTo>
                      <a:arcTo wR="10800" hR="10800" stAng="16200000" swAng="-5400000"/>
                      <a:lnTo>
                        <a:pt x="0" y="44779"/>
                      </a:lnTo>
                      <a:arcTo wR="10800" hR="10800" stAng="10800000" swAng="-5400000"/>
                      <a:lnTo>
                        <a:pt x="10800" y="5557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855960" y="1579320"/>
                  <a:ext cx="109800" cy="183240"/>
                </a:xfrm>
                <a:custGeom>
                  <a:avLst/>
                  <a:gdLst/>
                  <a:ahLst/>
                  <a:rect l="l" t="t" r="r" b="b"/>
                  <a:pathLst>
                    <a:path w="544" h="945">
                      <a:moveTo>
                        <a:pt x="272" y="945"/>
                      </a:moveTo>
                      <a:cubicBezTo>
                        <a:pt x="181" y="945"/>
                        <a:pt x="0" y="256"/>
                        <a:pt x="0" y="128"/>
                      </a:cubicBezTo>
                      <a:cubicBezTo>
                        <a:pt x="0" y="0"/>
                        <a:pt x="181" y="174"/>
                        <a:pt x="272" y="174"/>
                      </a:cubicBezTo>
                      <a:cubicBezTo>
                        <a:pt x="363" y="174"/>
                        <a:pt x="544" y="0"/>
                        <a:pt x="544" y="128"/>
                      </a:cubicBezTo>
                      <a:cubicBezTo>
                        <a:pt x="544" y="256"/>
                        <a:pt x="363" y="945"/>
                        <a:pt x="272" y="94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773160" y="1589040"/>
                  <a:ext cx="132120" cy="173160"/>
                </a:xfrm>
                <a:custGeom>
                  <a:avLst/>
                  <a:gdLst/>
                  <a:ahLst/>
                  <a:rect l="l" t="t" r="r" b="b"/>
                  <a:pathLst>
                    <a:path w="655" h="859">
                      <a:moveTo>
                        <a:pt x="468" y="0"/>
                      </a:moveTo>
                      <a:lnTo>
                        <a:pt x="189" y="133"/>
                      </a:lnTo>
                      <a:lnTo>
                        <a:pt x="113" y="224"/>
                      </a:lnTo>
                      <a:lnTo>
                        <a:pt x="76" y="315"/>
                      </a:lnTo>
                      <a:lnTo>
                        <a:pt x="0" y="859"/>
                      </a:lnTo>
                      <a:lnTo>
                        <a:pt x="655" y="859"/>
                      </a:lnTo>
                      <a:lnTo>
                        <a:pt x="46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800880" y="1579320"/>
                  <a:ext cx="109800" cy="183240"/>
                </a:xfrm>
                <a:custGeom>
                  <a:avLst/>
                  <a:gdLst/>
                  <a:ahLst/>
                  <a:rect l="l" t="t" r="r" b="b"/>
                  <a:pathLst>
                    <a:path w="544" h="908">
                      <a:moveTo>
                        <a:pt x="363" y="0"/>
                      </a:moveTo>
                      <a:lnTo>
                        <a:pt x="544" y="908"/>
                      </a:lnTo>
                      <a:lnTo>
                        <a:pt x="363" y="908"/>
                      </a:lnTo>
                      <a:lnTo>
                        <a:pt x="136" y="726"/>
                      </a:lnTo>
                      <a:lnTo>
                        <a:pt x="227" y="499"/>
                      </a:lnTo>
                      <a:lnTo>
                        <a:pt x="0" y="499"/>
                      </a:lnTo>
                      <a:lnTo>
                        <a:pt x="181" y="91"/>
                      </a:lnTo>
                      <a:lnTo>
                        <a:pt x="3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3915360" y="1589040"/>
                  <a:ext cx="132120" cy="173160"/>
                </a:xfrm>
                <a:custGeom>
                  <a:avLst/>
                  <a:gdLst/>
                  <a:ahLst/>
                  <a:rect l="l" t="t" r="r" b="b"/>
                  <a:pathLst>
                    <a:path w="655" h="859">
                      <a:moveTo>
                        <a:pt x="468" y="0"/>
                      </a:moveTo>
                      <a:lnTo>
                        <a:pt x="189" y="133"/>
                      </a:lnTo>
                      <a:lnTo>
                        <a:pt x="113" y="224"/>
                      </a:lnTo>
                      <a:lnTo>
                        <a:pt x="76" y="315"/>
                      </a:lnTo>
                      <a:lnTo>
                        <a:pt x="0" y="859"/>
                      </a:lnTo>
                      <a:lnTo>
                        <a:pt x="655" y="859"/>
                      </a:lnTo>
                      <a:lnTo>
                        <a:pt x="46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>
                  <a:off x="3910320" y="1579320"/>
                  <a:ext cx="109800" cy="183240"/>
                </a:xfrm>
                <a:custGeom>
                  <a:avLst/>
                  <a:gdLst/>
                  <a:ahLst/>
                  <a:rect l="l" t="t" r="r" b="b"/>
                  <a:pathLst>
                    <a:path w="544" h="908">
                      <a:moveTo>
                        <a:pt x="363" y="0"/>
                      </a:moveTo>
                      <a:lnTo>
                        <a:pt x="544" y="908"/>
                      </a:lnTo>
                      <a:lnTo>
                        <a:pt x="363" y="908"/>
                      </a:lnTo>
                      <a:lnTo>
                        <a:pt x="136" y="726"/>
                      </a:lnTo>
                      <a:lnTo>
                        <a:pt x="227" y="499"/>
                      </a:lnTo>
                      <a:lnTo>
                        <a:pt x="0" y="499"/>
                      </a:lnTo>
                      <a:lnTo>
                        <a:pt x="181" y="91"/>
                      </a:lnTo>
                      <a:lnTo>
                        <a:pt x="3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686040" y="1603800"/>
                  <a:ext cx="81000" cy="85320"/>
                </a:xfrm>
                <a:custGeom>
                  <a:avLst/>
                  <a:gdLst/>
                  <a:ahLst/>
                  <a:rect l="l" t="t" r="r" b="b"/>
                  <a:pathLst>
                    <a:path w="401" h="347">
                      <a:moveTo>
                        <a:pt x="23" y="105"/>
                      </a:moveTo>
                      <a:cubicBezTo>
                        <a:pt x="0" y="120"/>
                        <a:pt x="61" y="158"/>
                        <a:pt x="69" y="196"/>
                      </a:cubicBezTo>
                      <a:cubicBezTo>
                        <a:pt x="77" y="234"/>
                        <a:pt x="54" y="317"/>
                        <a:pt x="69" y="332"/>
                      </a:cubicBezTo>
                      <a:cubicBezTo>
                        <a:pt x="84" y="347"/>
                        <a:pt x="129" y="294"/>
                        <a:pt x="159" y="287"/>
                      </a:cubicBezTo>
                      <a:cubicBezTo>
                        <a:pt x="189" y="280"/>
                        <a:pt x="212" y="302"/>
                        <a:pt x="250" y="287"/>
                      </a:cubicBezTo>
                      <a:cubicBezTo>
                        <a:pt x="288" y="272"/>
                        <a:pt x="371" y="241"/>
                        <a:pt x="386" y="196"/>
                      </a:cubicBezTo>
                      <a:cubicBezTo>
                        <a:pt x="401" y="151"/>
                        <a:pt x="371" y="30"/>
                        <a:pt x="341" y="15"/>
                      </a:cubicBezTo>
                      <a:cubicBezTo>
                        <a:pt x="311" y="0"/>
                        <a:pt x="258" y="90"/>
                        <a:pt x="205" y="105"/>
                      </a:cubicBezTo>
                      <a:cubicBezTo>
                        <a:pt x="152" y="120"/>
                        <a:pt x="46" y="90"/>
                        <a:pt x="23" y="10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8" name=""/>
                <p:cNvGrpSpPr/>
                <p:nvPr/>
              </p:nvGrpSpPr>
              <p:grpSpPr>
                <a:xfrm>
                  <a:off x="3629880" y="1524240"/>
                  <a:ext cx="126360" cy="116640"/>
                  <a:chOff x="3629880" y="1524240"/>
                  <a:chExt cx="126360" cy="11664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rot="20772000">
                    <a:off x="3691440" y="1602720"/>
                    <a:ext cx="61560" cy="30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rot="20562000">
                    <a:off x="3699720" y="1587600"/>
                    <a:ext cx="39960" cy="45720"/>
                  </a:xfrm>
                  <a:custGeom>
                    <a:avLst/>
                    <a:gdLst>
                      <a:gd name="textAreaLeft" fmla="*/ 4320 w 39960"/>
                      <a:gd name="textAreaRight" fmla="*/ 35640 w 39960"/>
                      <a:gd name="textAreaTop" fmla="*/ 4320 h 45720"/>
                      <a:gd name="textAreaBottom" fmla="*/ 41400 h 45720"/>
                    </a:gdLst>
                    <a:ahLst/>
                    <a:rect l="textAreaLeft" t="textAreaTop" r="textAreaRight" b="textAreaBottom"/>
                    <a:pathLst>
                      <a:path w="21600" h="24686">
                        <a:moveTo>
                          <a:pt x="8028" y="0"/>
                        </a:moveTo>
                        <a:arcTo wR="8028" hR="8028" stAng="16200000" swAng="-5400000"/>
                        <a:lnTo>
                          <a:pt x="0" y="16658"/>
                        </a:lnTo>
                        <a:arcTo wR="8028" hR="8028" stAng="10800000" swAng="-5400000"/>
                        <a:lnTo>
                          <a:pt x="13572" y="24686"/>
                        </a:lnTo>
                        <a:arcTo wR="8028" hR="8028" stAng="5400000" swAng="-5400000"/>
                        <a:lnTo>
                          <a:pt x="21600" y="8028"/>
                        </a:lnTo>
                        <a:arcTo wR="8028" hR="8028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rot="1579200">
                    <a:off x="3671640" y="1559520"/>
                    <a:ext cx="64080" cy="48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rot="1579200">
                    <a:off x="3669480" y="1582200"/>
                    <a:ext cx="55080" cy="31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rot="1579200">
                    <a:off x="3643920" y="1549080"/>
                    <a:ext cx="70920" cy="12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rot="1579200">
                    <a:off x="3632760" y="1557360"/>
                    <a:ext cx="70920" cy="12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rot="1579200">
                    <a:off x="3629160" y="1569960"/>
                    <a:ext cx="70920" cy="12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rot="1579200">
                    <a:off x="3641040" y="1588320"/>
                    <a:ext cx="57240" cy="12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rot="4120800">
                    <a:off x="3678120" y="1549080"/>
                    <a:ext cx="64800" cy="16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" name=""/>
                <p:cNvSpPr/>
                <p:nvPr/>
              </p:nvSpPr>
              <p:spPr>
                <a:xfrm rot="5400000">
                  <a:off x="3855240" y="1405080"/>
                  <a:ext cx="18000" cy="7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897" y="1111"/>
                        <a:pt x="6194" y="5080"/>
                        <a:pt x="6194" y="10800"/>
                      </a:cubicBezTo>
                      <a:cubicBezTo>
                        <a:pt x="6194" y="16520"/>
                        <a:pt x="13897" y="2048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rot="5400000">
                  <a:off x="3947040" y="1405080"/>
                  <a:ext cx="18000" cy="7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897" y="1111"/>
                        <a:pt x="6194" y="5080"/>
                        <a:pt x="6194" y="10800"/>
                      </a:cubicBezTo>
                      <a:cubicBezTo>
                        <a:pt x="6194" y="16520"/>
                        <a:pt x="13897" y="2048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811320" y="1346400"/>
                  <a:ext cx="131400" cy="122040"/>
                </a:xfrm>
                <a:custGeom>
                  <a:avLst/>
                  <a:gdLst/>
                  <a:ahLst/>
                  <a:rect l="l" t="t" r="r" b="b"/>
                  <a:pathLst>
                    <a:path w="650" h="606">
                      <a:moveTo>
                        <a:pt x="492" y="19"/>
                      </a:moveTo>
                      <a:cubicBezTo>
                        <a:pt x="371" y="42"/>
                        <a:pt x="250" y="65"/>
                        <a:pt x="174" y="156"/>
                      </a:cubicBezTo>
                      <a:cubicBezTo>
                        <a:pt x="98" y="247"/>
                        <a:pt x="0" y="522"/>
                        <a:pt x="38" y="564"/>
                      </a:cubicBezTo>
                      <a:cubicBezTo>
                        <a:pt x="76" y="606"/>
                        <a:pt x="307" y="492"/>
                        <a:pt x="405" y="409"/>
                      </a:cubicBezTo>
                      <a:cubicBezTo>
                        <a:pt x="503" y="326"/>
                        <a:pt x="606" y="130"/>
                        <a:pt x="628" y="65"/>
                      </a:cubicBezTo>
                      <a:cubicBezTo>
                        <a:pt x="650" y="0"/>
                        <a:pt x="552" y="27"/>
                        <a:pt x="537" y="19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rot="5400000">
                  <a:off x="3947040" y="1441800"/>
                  <a:ext cx="1836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5785" y="1788"/>
                        <a:pt x="9969" y="5080"/>
                        <a:pt x="9969" y="10800"/>
                      </a:cubicBezTo>
                      <a:cubicBezTo>
                        <a:pt x="9969" y="16520"/>
                        <a:pt x="15785" y="1981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5400000">
                  <a:off x="3855600" y="1441800"/>
                  <a:ext cx="18360" cy="5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5785" y="1788"/>
                        <a:pt x="9969" y="5080"/>
                        <a:pt x="9969" y="10800"/>
                      </a:cubicBezTo>
                      <a:cubicBezTo>
                        <a:pt x="9969" y="16520"/>
                        <a:pt x="15785" y="1981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28240" y="1487880"/>
                  <a:ext cx="54720" cy="2700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938400" y="1487880"/>
                  <a:ext cx="54720" cy="2700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3836160" y="1456560"/>
                  <a:ext cx="11520" cy="15120"/>
                  <a:chOff x="3836160" y="1456560"/>
                  <a:chExt cx="11520" cy="1512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rot="20700000">
                    <a:off x="3841560" y="1456560"/>
                    <a:ext cx="432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730" y="1769"/>
                          <a:pt x="9860" y="5080"/>
                          <a:pt x="9860" y="10800"/>
                        </a:cubicBezTo>
                        <a:cubicBezTo>
                          <a:pt x="9860" y="16520"/>
                          <a:pt x="15730" y="1983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rot="20700000">
                    <a:off x="3837600" y="1457640"/>
                    <a:ext cx="432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730" y="1769"/>
                          <a:pt x="9860" y="5080"/>
                          <a:pt x="9860" y="10800"/>
                        </a:cubicBezTo>
                        <a:cubicBezTo>
                          <a:pt x="9860" y="16520"/>
                          <a:pt x="15730" y="1983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3973320" y="1456560"/>
                  <a:ext cx="11520" cy="14760"/>
                  <a:chOff x="3973320" y="1456560"/>
                  <a:chExt cx="11520" cy="1476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flipH="1" rot="905400">
                    <a:off x="3974040" y="1456920"/>
                    <a:ext cx="4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730" y="1769"/>
                          <a:pt x="9860" y="5080"/>
                          <a:pt x="9860" y="10800"/>
                        </a:cubicBezTo>
                        <a:cubicBezTo>
                          <a:pt x="9860" y="16520"/>
                          <a:pt x="15730" y="1983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 rot="905400">
                    <a:off x="3978000" y="1458000"/>
                    <a:ext cx="4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730" y="1769"/>
                          <a:pt x="9860" y="5080"/>
                          <a:pt x="9860" y="10800"/>
                        </a:cubicBezTo>
                        <a:cubicBezTo>
                          <a:pt x="9860" y="16520"/>
                          <a:pt x="15730" y="1983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3629880" y="1341360"/>
                <a:ext cx="417960" cy="437040"/>
                <a:chOff x="3629880" y="1341360"/>
                <a:chExt cx="417960" cy="43704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809880" y="1350360"/>
                  <a:ext cx="201600" cy="28368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09880" y="1341360"/>
                  <a:ext cx="201600" cy="21060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rot="20700000">
                  <a:off x="3809520" y="1463040"/>
                  <a:ext cx="35280" cy="5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5c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H="1" rot="900000">
                  <a:off x="3975840" y="1463040"/>
                  <a:ext cx="35280" cy="5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5c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818880" y="1368720"/>
                  <a:ext cx="183240" cy="21024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" name=""/>
                <p:cNvGrpSpPr/>
                <p:nvPr/>
              </p:nvGrpSpPr>
              <p:grpSpPr>
                <a:xfrm>
                  <a:off x="3883320" y="1478520"/>
                  <a:ext cx="54720" cy="146520"/>
                  <a:chOff x="3883320" y="1478520"/>
                  <a:chExt cx="54720" cy="14652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3883320" y="1478520"/>
                    <a:ext cx="54720" cy="14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5cd"/>
                      </a:gs>
                      <a:gs pos="100000">
                        <a:srgbClr val="ffcc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883320" y="1524240"/>
                    <a:ext cx="54720" cy="54720"/>
                  </a:xfrm>
                  <a:prstGeom prst="ellipse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>
                  <a:off x="3822120" y="1368720"/>
                  <a:ext cx="177840" cy="20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5cd"/>
                    </a:gs>
                    <a:gs pos="100000">
                      <a:srgbClr val="ffc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rot="10800000">
                  <a:off x="3897360" y="1514880"/>
                  <a:ext cx="26280" cy="9000"/>
                </a:xfrm>
                <a:custGeom>
                  <a:avLst/>
                  <a:gdLst/>
                  <a:ahLst/>
                  <a:rect l="l" t="t" r="r" b="b"/>
                  <a:pathLst>
                    <a:path w="363" h="98">
                      <a:moveTo>
                        <a:pt x="0" y="91"/>
                      </a:moveTo>
                      <a:cubicBezTo>
                        <a:pt x="0" y="84"/>
                        <a:pt x="122" y="0"/>
                        <a:pt x="182" y="0"/>
                      </a:cubicBezTo>
                      <a:cubicBezTo>
                        <a:pt x="242" y="0"/>
                        <a:pt x="363" y="84"/>
                        <a:pt x="363" y="91"/>
                      </a:cubicBezTo>
                      <a:cubicBezTo>
                        <a:pt x="363" y="98"/>
                        <a:pt x="242" y="45"/>
                        <a:pt x="182" y="45"/>
                      </a:cubicBezTo>
                      <a:cubicBezTo>
                        <a:pt x="122" y="45"/>
                        <a:pt x="0" y="98"/>
                        <a:pt x="0" y="91"/>
                      </a:cubicBez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"/>
                <p:cNvGrpSpPr/>
                <p:nvPr/>
              </p:nvGrpSpPr>
              <p:grpSpPr>
                <a:xfrm>
                  <a:off x="3883680" y="1533600"/>
                  <a:ext cx="54720" cy="18000"/>
                  <a:chOff x="3883680" y="1533600"/>
                  <a:chExt cx="54720" cy="180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>
                    <a:off x="3883680" y="1533600"/>
                    <a:ext cx="547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726">
                        <a:moveTo>
                          <a:pt x="461" y="0"/>
                        </a:moveTo>
                        <a:cubicBezTo>
                          <a:pt x="612" y="0"/>
                          <a:pt x="915" y="60"/>
                          <a:pt x="915" y="181"/>
                        </a:cubicBezTo>
                        <a:cubicBezTo>
                          <a:pt x="915" y="302"/>
                          <a:pt x="612" y="726"/>
                          <a:pt x="461" y="726"/>
                        </a:cubicBezTo>
                        <a:cubicBezTo>
                          <a:pt x="310" y="726"/>
                          <a:pt x="0" y="302"/>
                          <a:pt x="7" y="181"/>
                        </a:cubicBezTo>
                        <a:cubicBezTo>
                          <a:pt x="14" y="60"/>
                          <a:pt x="310" y="0"/>
                          <a:pt x="461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600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3891600" y="1540800"/>
                    <a:ext cx="38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915" h="726">
                        <a:moveTo>
                          <a:pt x="461" y="0"/>
                        </a:moveTo>
                        <a:cubicBezTo>
                          <a:pt x="612" y="0"/>
                          <a:pt x="915" y="60"/>
                          <a:pt x="915" y="181"/>
                        </a:cubicBezTo>
                        <a:cubicBezTo>
                          <a:pt x="915" y="302"/>
                          <a:pt x="612" y="726"/>
                          <a:pt x="461" y="726"/>
                        </a:cubicBezTo>
                        <a:cubicBezTo>
                          <a:pt x="310" y="726"/>
                          <a:pt x="0" y="302"/>
                          <a:pt x="7" y="181"/>
                        </a:cubicBezTo>
                        <a:cubicBezTo>
                          <a:pt x="14" y="60"/>
                          <a:pt x="310" y="0"/>
                          <a:pt x="461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066"/>
                      </a:gs>
                      <a:gs pos="100000">
                        <a:srgbClr val="ff505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>
                  <a:off x="3846600" y="1579320"/>
                  <a:ext cx="128160" cy="73080"/>
                </a:xfrm>
                <a:prstGeom prst="ellipse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rot="20772000">
                  <a:off x="3712680" y="1615320"/>
                  <a:ext cx="61200" cy="158040"/>
                </a:xfrm>
                <a:custGeom>
                  <a:avLst/>
                  <a:gdLst>
                    <a:gd name="textAreaLeft" fmla="*/ 9000 w 61200"/>
                    <a:gd name="textAreaRight" fmla="*/ 52200 w 61200"/>
                    <a:gd name="textAreaTop" fmla="*/ 9000 h 158040"/>
                    <a:gd name="textAreaBottom" fmla="*/ 149040 h 158040"/>
                  </a:gdLst>
                  <a:ahLst/>
                  <a:rect l="textAreaLeft" t="textAreaTop" r="textAreaRight" b="textAreaBottom"/>
                  <a:pathLst>
                    <a:path w="21600" h="55579">
                      <a:moveTo>
                        <a:pt x="10800" y="0"/>
                      </a:moveTo>
                      <a:arcTo wR="10800" hR="10800" stAng="16200000" swAng="-5400000"/>
                      <a:lnTo>
                        <a:pt x="0" y="44779"/>
                      </a:lnTo>
                      <a:arcTo wR="10800" hR="10800" stAng="10800000" swAng="-5400000"/>
                      <a:lnTo>
                        <a:pt x="10800" y="55579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ff5050"/>
                    </a:gs>
                    <a:gs pos="50000">
                      <a:srgbClr val="fe7979"/>
                    </a:gs>
                    <a:gs pos="100000">
                      <a:srgbClr val="ff5050"/>
                    </a:gs>
                  </a:gsLst>
                  <a:lin ang="116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855960" y="1579320"/>
                  <a:ext cx="109800" cy="183240"/>
                </a:xfrm>
                <a:custGeom>
                  <a:avLst/>
                  <a:gdLst/>
                  <a:ahLst/>
                  <a:rect l="l" t="t" r="r" b="b"/>
                  <a:pathLst>
                    <a:path w="544" h="945">
                      <a:moveTo>
                        <a:pt x="272" y="945"/>
                      </a:moveTo>
                      <a:cubicBezTo>
                        <a:pt x="181" y="945"/>
                        <a:pt x="0" y="256"/>
                        <a:pt x="0" y="128"/>
                      </a:cubicBezTo>
                      <a:cubicBezTo>
                        <a:pt x="0" y="0"/>
                        <a:pt x="181" y="174"/>
                        <a:pt x="272" y="174"/>
                      </a:cubicBezTo>
                      <a:cubicBezTo>
                        <a:pt x="363" y="174"/>
                        <a:pt x="544" y="0"/>
                        <a:pt x="544" y="128"/>
                      </a:cubicBezTo>
                      <a:cubicBezTo>
                        <a:pt x="544" y="256"/>
                        <a:pt x="363" y="945"/>
                        <a:pt x="272" y="945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773520" y="1589040"/>
                  <a:ext cx="132120" cy="173160"/>
                </a:xfrm>
                <a:custGeom>
                  <a:avLst/>
                  <a:gdLst/>
                  <a:ahLst/>
                  <a:rect l="l" t="t" r="r" b="b"/>
                  <a:pathLst>
                    <a:path w="655" h="859">
                      <a:moveTo>
                        <a:pt x="468" y="0"/>
                      </a:moveTo>
                      <a:lnTo>
                        <a:pt x="189" y="133"/>
                      </a:lnTo>
                      <a:lnTo>
                        <a:pt x="113" y="224"/>
                      </a:lnTo>
                      <a:lnTo>
                        <a:pt x="76" y="315"/>
                      </a:lnTo>
                      <a:lnTo>
                        <a:pt x="0" y="859"/>
                      </a:lnTo>
                      <a:lnTo>
                        <a:pt x="655" y="859"/>
                      </a:lnTo>
                      <a:lnTo>
                        <a:pt x="4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8f8f"/>
                    </a:gs>
                    <a:gs pos="100000">
                      <a:srgbClr val="ff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800880" y="1579320"/>
                  <a:ext cx="109800" cy="183240"/>
                </a:xfrm>
                <a:custGeom>
                  <a:avLst/>
                  <a:gdLst/>
                  <a:ahLst/>
                  <a:rect l="l" t="t" r="r" b="b"/>
                  <a:pathLst>
                    <a:path w="544" h="908">
                      <a:moveTo>
                        <a:pt x="363" y="0"/>
                      </a:moveTo>
                      <a:lnTo>
                        <a:pt x="544" y="908"/>
                      </a:lnTo>
                      <a:lnTo>
                        <a:pt x="363" y="908"/>
                      </a:lnTo>
                      <a:lnTo>
                        <a:pt x="136" y="726"/>
                      </a:lnTo>
                      <a:lnTo>
                        <a:pt x="227" y="499"/>
                      </a:lnTo>
                      <a:lnTo>
                        <a:pt x="0" y="499"/>
                      </a:lnTo>
                      <a:lnTo>
                        <a:pt x="181" y="91"/>
                      </a:lnTo>
                      <a:lnTo>
                        <a:pt x="3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baba"/>
                    </a:gs>
                    <a:gs pos="100000">
                      <a:srgbClr val="ff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>
                  <a:off x="3915360" y="1589040"/>
                  <a:ext cx="132120" cy="173160"/>
                </a:xfrm>
                <a:custGeom>
                  <a:avLst/>
                  <a:gdLst/>
                  <a:ahLst/>
                  <a:rect l="l" t="t" r="r" b="b"/>
                  <a:pathLst>
                    <a:path w="655" h="859">
                      <a:moveTo>
                        <a:pt x="468" y="0"/>
                      </a:moveTo>
                      <a:lnTo>
                        <a:pt x="189" y="133"/>
                      </a:lnTo>
                      <a:lnTo>
                        <a:pt x="113" y="224"/>
                      </a:lnTo>
                      <a:lnTo>
                        <a:pt x="76" y="315"/>
                      </a:lnTo>
                      <a:lnTo>
                        <a:pt x="0" y="859"/>
                      </a:lnTo>
                      <a:lnTo>
                        <a:pt x="655" y="859"/>
                      </a:lnTo>
                      <a:lnTo>
                        <a:pt x="46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8f8f"/>
                    </a:gs>
                    <a:gs pos="100000">
                      <a:srgbClr val="ff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H="1">
                  <a:off x="3909960" y="1579320"/>
                  <a:ext cx="109800" cy="183240"/>
                </a:xfrm>
                <a:custGeom>
                  <a:avLst/>
                  <a:gdLst/>
                  <a:ahLst/>
                  <a:rect l="l" t="t" r="r" b="b"/>
                  <a:pathLst>
                    <a:path w="544" h="908">
                      <a:moveTo>
                        <a:pt x="363" y="0"/>
                      </a:moveTo>
                      <a:lnTo>
                        <a:pt x="544" y="908"/>
                      </a:lnTo>
                      <a:lnTo>
                        <a:pt x="363" y="908"/>
                      </a:lnTo>
                      <a:lnTo>
                        <a:pt x="136" y="726"/>
                      </a:lnTo>
                      <a:lnTo>
                        <a:pt x="227" y="499"/>
                      </a:lnTo>
                      <a:lnTo>
                        <a:pt x="0" y="499"/>
                      </a:lnTo>
                      <a:lnTo>
                        <a:pt x="181" y="91"/>
                      </a:lnTo>
                      <a:lnTo>
                        <a:pt x="3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baba"/>
                    </a:gs>
                    <a:gs pos="100000">
                      <a:srgbClr val="ff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686040" y="1603800"/>
                  <a:ext cx="81000" cy="85320"/>
                </a:xfrm>
                <a:custGeom>
                  <a:avLst/>
                  <a:gdLst/>
                  <a:ahLst/>
                  <a:rect l="l" t="t" r="r" b="b"/>
                  <a:pathLst>
                    <a:path w="401" h="347">
                      <a:moveTo>
                        <a:pt x="23" y="105"/>
                      </a:moveTo>
                      <a:cubicBezTo>
                        <a:pt x="0" y="120"/>
                        <a:pt x="61" y="158"/>
                        <a:pt x="69" y="196"/>
                      </a:cubicBezTo>
                      <a:cubicBezTo>
                        <a:pt x="77" y="234"/>
                        <a:pt x="54" y="317"/>
                        <a:pt x="69" y="332"/>
                      </a:cubicBezTo>
                      <a:cubicBezTo>
                        <a:pt x="84" y="347"/>
                        <a:pt x="129" y="294"/>
                        <a:pt x="159" y="287"/>
                      </a:cubicBezTo>
                      <a:cubicBezTo>
                        <a:pt x="189" y="280"/>
                        <a:pt x="212" y="302"/>
                        <a:pt x="250" y="287"/>
                      </a:cubicBezTo>
                      <a:cubicBezTo>
                        <a:pt x="288" y="272"/>
                        <a:pt x="371" y="241"/>
                        <a:pt x="386" y="196"/>
                      </a:cubicBezTo>
                      <a:cubicBezTo>
                        <a:pt x="401" y="151"/>
                        <a:pt x="371" y="30"/>
                        <a:pt x="341" y="15"/>
                      </a:cubicBezTo>
                      <a:cubicBezTo>
                        <a:pt x="311" y="0"/>
                        <a:pt x="258" y="90"/>
                        <a:pt x="205" y="105"/>
                      </a:cubicBezTo>
                      <a:cubicBezTo>
                        <a:pt x="152" y="120"/>
                        <a:pt x="46" y="90"/>
                        <a:pt x="23" y="1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2e2e2"/>
                    </a:gs>
                    <a:gs pos="50000">
                      <a:srgbClr val="ffffff"/>
                    </a:gs>
                    <a:gs pos="100000">
                      <a:srgbClr val="e2e2e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3" name=""/>
                <p:cNvGrpSpPr/>
                <p:nvPr/>
              </p:nvGrpSpPr>
              <p:grpSpPr>
                <a:xfrm>
                  <a:off x="3629880" y="1524240"/>
                  <a:ext cx="126360" cy="116640"/>
                  <a:chOff x="3629880" y="1524240"/>
                  <a:chExt cx="126360" cy="11664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 rot="20772000">
                    <a:off x="3691440" y="1602720"/>
                    <a:ext cx="61560" cy="309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rot="20562000">
                    <a:off x="3699720" y="1587600"/>
                    <a:ext cx="39960" cy="45720"/>
                  </a:xfrm>
                  <a:custGeom>
                    <a:avLst/>
                    <a:gdLst>
                      <a:gd name="textAreaLeft" fmla="*/ 4320 w 39960"/>
                      <a:gd name="textAreaRight" fmla="*/ 35640 w 39960"/>
                      <a:gd name="textAreaTop" fmla="*/ 4320 h 45720"/>
                      <a:gd name="textAreaBottom" fmla="*/ 41400 h 45720"/>
                    </a:gdLst>
                    <a:ahLst/>
                    <a:rect l="textAreaLeft" t="textAreaTop" r="textAreaRight" b="textAreaBottom"/>
                    <a:pathLst>
                      <a:path w="21600" h="24686">
                        <a:moveTo>
                          <a:pt x="8028" y="0"/>
                        </a:moveTo>
                        <a:arcTo wR="8028" hR="8028" stAng="16200000" swAng="-5400000"/>
                        <a:lnTo>
                          <a:pt x="0" y="16658"/>
                        </a:lnTo>
                        <a:arcTo wR="8028" hR="8028" stAng="10800000" swAng="-5400000"/>
                        <a:lnTo>
                          <a:pt x="13572" y="24686"/>
                        </a:lnTo>
                        <a:arcTo wR="8028" hR="8028" stAng="5400000" swAng="-5400000"/>
                        <a:lnTo>
                          <a:pt x="21600" y="8028"/>
                        </a:lnTo>
                        <a:arcTo wR="8028" hR="8028" stAng="0" swAng="-5400000"/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rot="1579200">
                    <a:off x="3671640" y="1559520"/>
                    <a:ext cx="64080" cy="4860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rot="1579200">
                    <a:off x="3669480" y="1582200"/>
                    <a:ext cx="55080" cy="31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rot="1579200">
                    <a:off x="3643920" y="1549080"/>
                    <a:ext cx="70920" cy="12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eecda"/>
                      </a:gs>
                      <a:gs pos="100000">
                        <a:srgbClr val="ffcc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rot="1579200">
                    <a:off x="3632760" y="1557360"/>
                    <a:ext cx="70920" cy="126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eecda"/>
                      </a:gs>
                      <a:gs pos="100000">
                        <a:srgbClr val="ffcc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rot="1579200">
                    <a:off x="3629160" y="1569960"/>
                    <a:ext cx="70920" cy="126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eecda"/>
                      </a:gs>
                      <a:gs pos="100000">
                        <a:srgbClr val="ffcc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rot="1579200">
                    <a:off x="3641040" y="1588320"/>
                    <a:ext cx="57240" cy="126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eecda"/>
                      </a:gs>
                      <a:gs pos="100000">
                        <a:srgbClr val="ffcc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rot="4120800">
                    <a:off x="3678120" y="1549080"/>
                    <a:ext cx="64800" cy="162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eecda"/>
                      </a:gs>
                      <a:gs pos="100000">
                        <a:srgbClr val="ffcc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3" name=""/>
                <p:cNvSpPr/>
                <p:nvPr/>
              </p:nvSpPr>
              <p:spPr>
                <a:xfrm rot="5400000">
                  <a:off x="3855240" y="1405080"/>
                  <a:ext cx="18000" cy="7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897" y="1111"/>
                        <a:pt x="6194" y="5080"/>
                        <a:pt x="6194" y="10800"/>
                      </a:cubicBezTo>
                      <a:cubicBezTo>
                        <a:pt x="6194" y="16520"/>
                        <a:pt x="13897" y="2048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rot="5400000">
                  <a:off x="3947040" y="1405080"/>
                  <a:ext cx="18000" cy="7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3897" y="1111"/>
                        <a:pt x="6194" y="5080"/>
                        <a:pt x="6194" y="10800"/>
                      </a:cubicBezTo>
                      <a:cubicBezTo>
                        <a:pt x="6194" y="16520"/>
                        <a:pt x="13897" y="2048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811320" y="1346400"/>
                  <a:ext cx="131400" cy="122040"/>
                </a:xfrm>
                <a:custGeom>
                  <a:avLst/>
                  <a:gdLst/>
                  <a:ahLst/>
                  <a:rect l="l" t="t" r="r" b="b"/>
                  <a:pathLst>
                    <a:path w="650" h="606">
                      <a:moveTo>
                        <a:pt x="492" y="19"/>
                      </a:moveTo>
                      <a:cubicBezTo>
                        <a:pt x="371" y="42"/>
                        <a:pt x="250" y="65"/>
                        <a:pt x="174" y="156"/>
                      </a:cubicBezTo>
                      <a:cubicBezTo>
                        <a:pt x="98" y="247"/>
                        <a:pt x="0" y="522"/>
                        <a:pt x="38" y="564"/>
                      </a:cubicBezTo>
                      <a:cubicBezTo>
                        <a:pt x="76" y="606"/>
                        <a:pt x="307" y="492"/>
                        <a:pt x="405" y="409"/>
                      </a:cubicBezTo>
                      <a:cubicBezTo>
                        <a:pt x="503" y="326"/>
                        <a:pt x="606" y="130"/>
                        <a:pt x="628" y="65"/>
                      </a:cubicBezTo>
                      <a:cubicBezTo>
                        <a:pt x="650" y="0"/>
                        <a:pt x="552" y="27"/>
                        <a:pt x="537" y="19"/>
                      </a:cubicBez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rot="5400000">
                  <a:off x="3947400" y="1441800"/>
                  <a:ext cx="1836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5785" y="1788"/>
                        <a:pt x="9969" y="5080"/>
                        <a:pt x="9969" y="10800"/>
                      </a:cubicBezTo>
                      <a:cubicBezTo>
                        <a:pt x="9969" y="16520"/>
                        <a:pt x="15785" y="1981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rot="5400000">
                  <a:off x="3855600" y="1441800"/>
                  <a:ext cx="18360" cy="5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5785" y="1788"/>
                        <a:pt x="9969" y="5080"/>
                        <a:pt x="9969" y="10800"/>
                      </a:cubicBezTo>
                      <a:cubicBezTo>
                        <a:pt x="9969" y="16520"/>
                        <a:pt x="15785" y="1981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28240" y="1487880"/>
                  <a:ext cx="54720" cy="2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99"/>
                    </a:gs>
                    <a:gs pos="100000">
                      <a:srgbClr val="ff9999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938400" y="1487880"/>
                  <a:ext cx="54720" cy="2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99"/>
                    </a:gs>
                    <a:gs pos="100000">
                      <a:srgbClr val="ff9999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"/>
                <p:cNvGrpSpPr/>
                <p:nvPr/>
              </p:nvGrpSpPr>
              <p:grpSpPr>
                <a:xfrm>
                  <a:off x="3835800" y="1456200"/>
                  <a:ext cx="12240" cy="15480"/>
                  <a:chOff x="3835800" y="1456200"/>
                  <a:chExt cx="12240" cy="1548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 rot="20700000">
                    <a:off x="3841560" y="1456200"/>
                    <a:ext cx="4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730" y="1769"/>
                          <a:pt x="9860" y="5080"/>
                          <a:pt x="9860" y="10800"/>
                        </a:cubicBezTo>
                        <a:cubicBezTo>
                          <a:pt x="9860" y="16520"/>
                          <a:pt x="15730" y="1983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20700000">
                    <a:off x="3837240" y="1457280"/>
                    <a:ext cx="46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730" y="1769"/>
                          <a:pt x="9860" y="5080"/>
                          <a:pt x="9860" y="10800"/>
                        </a:cubicBezTo>
                        <a:cubicBezTo>
                          <a:pt x="9860" y="16520"/>
                          <a:pt x="15730" y="1983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3973320" y="1456200"/>
                  <a:ext cx="11880" cy="15120"/>
                  <a:chOff x="3973320" y="1456200"/>
                  <a:chExt cx="11880" cy="1512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flipH="1" rot="900000">
                    <a:off x="3974040" y="1456560"/>
                    <a:ext cx="46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730" y="1769"/>
                          <a:pt x="9860" y="5080"/>
                          <a:pt x="9860" y="10800"/>
                        </a:cubicBezTo>
                        <a:cubicBezTo>
                          <a:pt x="9860" y="16520"/>
                          <a:pt x="15730" y="1983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 rot="900000">
                    <a:off x="3978360" y="1457640"/>
                    <a:ext cx="46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5730" y="1769"/>
                          <a:pt x="9860" y="5080"/>
                          <a:pt x="9860" y="10800"/>
                        </a:cubicBezTo>
                        <a:cubicBezTo>
                          <a:pt x="9860" y="16520"/>
                          <a:pt x="15730" y="1983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6" name=""/>
            <p:cNvGrpSpPr/>
            <p:nvPr/>
          </p:nvGrpSpPr>
          <p:grpSpPr>
            <a:xfrm>
              <a:off x="3639960" y="1628640"/>
              <a:ext cx="399960" cy="149400"/>
              <a:chOff x="3639960" y="1628640"/>
              <a:chExt cx="399960" cy="149400"/>
            </a:xfrm>
          </p:grpSpPr>
          <p:sp>
            <p:nvSpPr>
              <p:cNvPr id="737" name=""/>
              <p:cNvSpPr txBox="1"/>
              <p:nvPr/>
            </p:nvSpPr>
            <p:spPr>
              <a:xfrm>
                <a:off x="3639960" y="162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報告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738" name=""/>
              <p:cNvSpPr txBox="1"/>
              <p:nvPr/>
            </p:nvSpPr>
            <p:spPr>
              <a:xfrm>
                <a:off x="3639960" y="162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報告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739" name=""/>
          <p:cNvGrpSpPr/>
          <p:nvPr/>
        </p:nvGrpSpPr>
        <p:grpSpPr>
          <a:xfrm>
            <a:off x="5973840" y="1341360"/>
            <a:ext cx="403200" cy="432000"/>
            <a:chOff x="5973840" y="1341360"/>
            <a:chExt cx="403200" cy="432000"/>
          </a:xfrm>
        </p:grpSpPr>
        <p:grpSp>
          <p:nvGrpSpPr>
            <p:cNvPr id="740" name=""/>
            <p:cNvGrpSpPr/>
            <p:nvPr/>
          </p:nvGrpSpPr>
          <p:grpSpPr>
            <a:xfrm>
              <a:off x="5996160" y="1341360"/>
              <a:ext cx="360360" cy="344520"/>
              <a:chOff x="5996160" y="1341360"/>
              <a:chExt cx="360360" cy="34452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5996160" y="1341360"/>
                <a:ext cx="360360" cy="344520"/>
                <a:chOff x="5996160" y="1341360"/>
                <a:chExt cx="360360" cy="344520"/>
              </a:xfrm>
            </p:grpSpPr>
            <p:grpSp>
              <p:nvGrpSpPr>
                <p:cNvPr id="742" name=""/>
                <p:cNvGrpSpPr/>
                <p:nvPr/>
              </p:nvGrpSpPr>
              <p:grpSpPr>
                <a:xfrm>
                  <a:off x="6043320" y="1366920"/>
                  <a:ext cx="288720" cy="197280"/>
                  <a:chOff x="6043320" y="1366920"/>
                  <a:chExt cx="288720" cy="19728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>
                    <a:off x="6043320" y="1372320"/>
                    <a:ext cx="288720" cy="191880"/>
                  </a:xfrm>
                  <a:prstGeom prst="roundRect">
                    <a:avLst>
                      <a:gd name="adj" fmla="val 1005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6055200" y="1366920"/>
                    <a:ext cx="264600" cy="191880"/>
                    <a:chOff x="6055200" y="1366920"/>
                    <a:chExt cx="264600" cy="19188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605520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607212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608976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610704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612396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614124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615852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617580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619308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621036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622800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624492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626220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627948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629676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631404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1" name=""/>
                <p:cNvSpPr/>
                <p:nvPr/>
              </p:nvSpPr>
              <p:spPr>
                <a:xfrm>
                  <a:off x="6090120" y="1341360"/>
                  <a:ext cx="205920" cy="188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996160" y="1481760"/>
                  <a:ext cx="360360" cy="20412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080040" y="1469880"/>
                  <a:ext cx="264240" cy="19188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003360" y="1481760"/>
                  <a:ext cx="64440" cy="186120"/>
                </a:xfrm>
                <a:custGeom>
                  <a:avLst/>
                  <a:gdLst>
                    <a:gd name="textAreaLeft" fmla="*/ 8640 w 64440"/>
                    <a:gd name="textAreaRight" fmla="*/ 55800 w 64440"/>
                    <a:gd name="textAreaTop" fmla="*/ 8640 h 186120"/>
                    <a:gd name="textAreaBottom" fmla="*/ 177480 h 186120"/>
                  </a:gdLst>
                  <a:ahLst/>
                  <a:rect l="textAreaLeft" t="textAreaTop" r="textAreaRight" b="textAreaBottom"/>
                  <a:pathLst>
                    <a:path w="21600" h="62160">
                      <a:moveTo>
                        <a:pt x="10035" y="0"/>
                      </a:moveTo>
                      <a:arcTo wR="10035" hR="10035" stAng="16200000" swAng="-5400000"/>
                      <a:lnTo>
                        <a:pt x="0" y="52125"/>
                      </a:lnTo>
                      <a:arcTo wR="10035" hR="10035" stAng="10800000" swAng="-5400000"/>
                      <a:lnTo>
                        <a:pt x="11565" y="62160"/>
                      </a:lnTo>
                      <a:arcTo wR="10035" hR="10035" stAng="5400000" swAng="-5400000"/>
                      <a:lnTo>
                        <a:pt x="21600" y="10035"/>
                      </a:lnTo>
                      <a:arcTo wR="10035" hR="10035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005880" y="1469880"/>
                  <a:ext cx="59400" cy="19188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7920 h 191880"/>
                    <a:gd name="textAreaBottom" fmla="*/ 183960 h 191880"/>
                  </a:gdLst>
                  <a:ahLst/>
                  <a:rect l="textAreaLeft" t="textAreaTop" r="textAreaRight" b="textAreaBottom"/>
                  <a:pathLst>
                    <a:path w="21600" h="69484">
                      <a:moveTo>
                        <a:pt x="10035" y="0"/>
                      </a:moveTo>
                      <a:arcTo wR="10035" hR="10035" stAng="16200000" swAng="-5400000"/>
                      <a:lnTo>
                        <a:pt x="0" y="59449"/>
                      </a:lnTo>
                      <a:arcTo wR="10035" hR="10035" stAng="10800000" swAng="-5400000"/>
                      <a:lnTo>
                        <a:pt x="11565" y="69484"/>
                      </a:lnTo>
                      <a:arcTo wR="10035" hR="10035" stAng="5400000" swAng="-5400000"/>
                      <a:lnTo>
                        <a:pt x="21600" y="10035"/>
                      </a:lnTo>
                      <a:arcTo wR="10035" hR="10035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996160" y="1341360"/>
                <a:ext cx="360360" cy="344520"/>
                <a:chOff x="5996160" y="1341360"/>
                <a:chExt cx="360360" cy="344520"/>
              </a:xfrm>
            </p:grpSpPr>
            <p:grpSp>
              <p:nvGrpSpPr>
                <p:cNvPr id="767" name=""/>
                <p:cNvGrpSpPr/>
                <p:nvPr/>
              </p:nvGrpSpPr>
              <p:grpSpPr>
                <a:xfrm>
                  <a:off x="6043320" y="1366920"/>
                  <a:ext cx="288360" cy="197640"/>
                  <a:chOff x="6043320" y="1366920"/>
                  <a:chExt cx="288360" cy="19764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6043320" y="1372320"/>
                    <a:ext cx="288360" cy="192240"/>
                  </a:xfrm>
                  <a:prstGeom prst="roundRect">
                    <a:avLst>
                      <a:gd name="adj" fmla="val 10056"/>
                    </a:avLst>
                  </a:prstGeom>
                  <a:gradFill rotWithShape="0">
                    <a:gsLst>
                      <a:gs pos="0">
                        <a:srgbClr val="c58d8d"/>
                      </a:gs>
                      <a:gs pos="100000">
                        <a:srgbClr val="8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9" name=""/>
                  <p:cNvGrpSpPr/>
                  <p:nvPr/>
                </p:nvGrpSpPr>
                <p:grpSpPr>
                  <a:xfrm>
                    <a:off x="6055200" y="1366920"/>
                    <a:ext cx="264240" cy="192240"/>
                    <a:chOff x="6055200" y="1366920"/>
                    <a:chExt cx="264240" cy="192240"/>
                  </a:xfrm>
                </p:grpSpPr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605520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607212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608976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610668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612396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614124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615852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617580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619308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621036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622764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624492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626184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627912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629640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631368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6090120" y="1341360"/>
                  <a:ext cx="205560" cy="188640"/>
                  <a:chOff x="6090120" y="1341360"/>
                  <a:chExt cx="205560" cy="1886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>
                    <a:off x="6090120" y="1341360"/>
                    <a:ext cx="205560" cy="18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1c1c1"/>
                      </a:gs>
                    </a:gsLst>
                    <a:lin ang="5400000"/>
                  </a:gradFill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 txBox="1"/>
                  <p:nvPr/>
                </p:nvSpPr>
                <p:spPr>
                  <a:xfrm>
                    <a:off x="6158520" y="1358280"/>
                    <a:ext cx="82080" cy="30960"/>
                  </a:xfrm>
                  <a:prstGeom prst="rect">
                    <a:avLst/>
                  </a:prstGeom>
                </p:spPr>
                <p:txBody>
                  <a:bodyPr wrap="none" lIns="90000" rIns="90000" tIns="-15480" bIns="-1548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0">
                          <a:noFill/>
                        </a:ln>
                        <a:solidFill>
                          <a:srgbClr val="808080"/>
                        </a:solidFill>
                        <a:latin typeface="ＭＳ Ｐゴシック"/>
                      </a:rPr>
                      <a:t>FAX</a:t>
                    </a:r>
                    <a:endParaRPr b="0" lang="en-US" sz="1800" spc="1" strike="noStrike">
                      <a:ln w="0">
                        <a:noFill/>
                      </a:ln>
                      <a:solidFill>
                        <a:srgbClr val="808080"/>
                      </a:solidFill>
                      <a:latin typeface="ＭＳ Ｐゴシック"/>
                      <a:ea typeface="ＭＳ Ｐゴシック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6107040" y="1409760"/>
                    <a:ext cx="171720" cy="17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6107040" y="1443600"/>
                    <a:ext cx="171720" cy="17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5996160" y="1469880"/>
                  <a:ext cx="360360" cy="216000"/>
                  <a:chOff x="5996160" y="1469880"/>
                  <a:chExt cx="360360" cy="21600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5996160" y="1481760"/>
                    <a:ext cx="360360" cy="204120"/>
                  </a:xfrm>
                  <a:prstGeom prst="roundRect">
                    <a:avLst>
                      <a:gd name="adj" fmla="val 10056"/>
                    </a:avLst>
                  </a:prstGeom>
                  <a:gradFill rotWithShape="0">
                    <a:gsLst>
                      <a:gs pos="0">
                        <a:srgbClr val="4c4c4c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6080400" y="1469880"/>
                    <a:ext cx="264240" cy="191880"/>
                  </a:xfrm>
                  <a:prstGeom prst="roundRect">
                    <a:avLst>
                      <a:gd name="adj" fmla="val 10056"/>
                    </a:avLst>
                  </a:prstGeom>
                  <a:gradFill rotWithShape="0">
                    <a:gsLst>
                      <a:gs pos="0">
                        <a:srgbClr val="4c4c4c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6003360" y="1481760"/>
                    <a:ext cx="64440" cy="186480"/>
                  </a:xfrm>
                  <a:custGeom>
                    <a:avLst/>
                    <a:gdLst>
                      <a:gd name="textAreaLeft" fmla="*/ 8640 w 64440"/>
                      <a:gd name="textAreaRight" fmla="*/ 55800 w 64440"/>
                      <a:gd name="textAreaTop" fmla="*/ 8640 h 186480"/>
                      <a:gd name="textAreaBottom" fmla="*/ 177840 h 186480"/>
                    </a:gdLst>
                    <a:ahLst/>
                    <a:rect l="textAreaLeft" t="textAreaTop" r="textAreaRight" b="textAreaBottom"/>
                    <a:pathLst>
                      <a:path w="21600" h="62280">
                        <a:moveTo>
                          <a:pt x="10035" y="0"/>
                        </a:moveTo>
                        <a:arcTo wR="10035" hR="10035" stAng="16200000" swAng="-5400000"/>
                        <a:lnTo>
                          <a:pt x="0" y="52245"/>
                        </a:lnTo>
                        <a:arcTo wR="10035" hR="10035" stAng="10800000" swAng="-5400000"/>
                        <a:lnTo>
                          <a:pt x="11565" y="62280"/>
                        </a:lnTo>
                        <a:arcTo wR="10035" hR="10035" stAng="5400000" swAng="-5400000"/>
                        <a:lnTo>
                          <a:pt x="21600" y="10035"/>
                        </a:lnTo>
                        <a:arcTo wR="10035" hR="10035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6092280" y="1554120"/>
                    <a:ext cx="95760" cy="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64646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6098040" y="1559880"/>
                    <a:ext cx="84240" cy="84240"/>
                    <a:chOff x="6098040" y="1559880"/>
                    <a:chExt cx="84240" cy="8424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6098040" y="155988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0800000">
                      <a:off x="6098040" y="155988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162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rot="5400000">
                      <a:off x="6098040" y="155988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rot="16200000">
                      <a:off x="6098040" y="155988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6122160" y="1583640"/>
                      <a:ext cx="3600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"/>
                  <p:cNvSpPr/>
                  <p:nvPr/>
                </p:nvSpPr>
                <p:spPr>
                  <a:xfrm>
                    <a:off x="6104520" y="1493640"/>
                    <a:ext cx="21600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6110280" y="1499760"/>
                    <a:ext cx="204120" cy="36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d0e78d"/>
                      </a:gs>
                      <a:gs pos="100000">
                        <a:srgbClr val="99c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6200280" y="1553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6248520" y="1553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6296400" y="1553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6200280" y="157788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6248520" y="157788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6296400" y="157788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6200280" y="16016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6248520" y="16016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6296400" y="16016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6200280" y="1625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6248520" y="1625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296400" y="1625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6005880" y="1469880"/>
                    <a:ext cx="59760" cy="191880"/>
                  </a:xfrm>
                  <a:custGeom>
                    <a:avLst/>
                    <a:gdLst>
                      <a:gd name="textAreaLeft" fmla="*/ 7920 w 59760"/>
                      <a:gd name="textAreaRight" fmla="*/ 51840 w 59760"/>
                      <a:gd name="textAreaTop" fmla="*/ 7920 h 191880"/>
                      <a:gd name="textAreaBottom" fmla="*/ 183960 h 191880"/>
                    </a:gdLst>
                    <a:ahLst/>
                    <a:rect l="textAreaLeft" t="textAreaTop" r="textAreaRight" b="textAreaBottom"/>
                    <a:pathLst>
                      <a:path w="21600" h="69068">
                        <a:moveTo>
                          <a:pt x="10035" y="0"/>
                        </a:moveTo>
                        <a:arcTo wR="10035" hR="10035" stAng="16200000" swAng="-5400000"/>
                        <a:lnTo>
                          <a:pt x="0" y="59033"/>
                        </a:lnTo>
                        <a:arcTo wR="10035" hR="10035" stAng="10800000" swAng="-5400000"/>
                        <a:lnTo>
                          <a:pt x="11565" y="69068"/>
                        </a:lnTo>
                        <a:arcTo wR="10035" hR="10035" stAng="5400000" swAng="-5400000"/>
                        <a:lnTo>
                          <a:pt x="21600" y="10035"/>
                        </a:lnTo>
                        <a:arcTo wR="10035" hR="10035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17" name=""/>
            <p:cNvGrpSpPr/>
            <p:nvPr/>
          </p:nvGrpSpPr>
          <p:grpSpPr>
            <a:xfrm>
              <a:off x="5973840" y="1623960"/>
              <a:ext cx="403200" cy="149400"/>
              <a:chOff x="5973840" y="1623960"/>
              <a:chExt cx="403200" cy="149400"/>
            </a:xfrm>
          </p:grpSpPr>
          <p:sp>
            <p:nvSpPr>
              <p:cNvPr id="818" name=""/>
              <p:cNvSpPr txBox="1"/>
              <p:nvPr/>
            </p:nvSpPr>
            <p:spPr>
              <a:xfrm>
                <a:off x="5977080" y="1623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ご注文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>
                <a:off x="5973840" y="1623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ご注文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4383720" y="3410640"/>
            <a:ext cx="467280" cy="523080"/>
            <a:chOff x="4383720" y="3410640"/>
            <a:chExt cx="467280" cy="523080"/>
          </a:xfrm>
        </p:grpSpPr>
        <p:grpSp>
          <p:nvGrpSpPr>
            <p:cNvPr id="821" name=""/>
            <p:cNvGrpSpPr/>
            <p:nvPr/>
          </p:nvGrpSpPr>
          <p:grpSpPr>
            <a:xfrm>
              <a:off x="4383720" y="3410640"/>
              <a:ext cx="467280" cy="467280"/>
              <a:chOff x="4383720" y="3410640"/>
              <a:chExt cx="467280" cy="467280"/>
            </a:xfrm>
          </p:grpSpPr>
          <p:sp>
            <p:nvSpPr>
              <p:cNvPr id="822" name=""/>
              <p:cNvSpPr/>
              <p:nvPr/>
            </p:nvSpPr>
            <p:spPr>
              <a:xfrm rot="2700000">
                <a:off x="4473360" y="3457440"/>
                <a:ext cx="287640" cy="372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700000">
                <a:off x="4584960" y="3503880"/>
                <a:ext cx="287640" cy="57240"/>
              </a:xfrm>
              <a:custGeom>
                <a:avLst/>
                <a:gdLst>
                  <a:gd name="textAreaLeft" fmla="*/ 49320 w 287640"/>
                  <a:gd name="textAreaRight" fmla="*/ 238320 w 287640"/>
                  <a:gd name="textAreaTop" fmla="*/ 9720 h 57240"/>
                  <a:gd name="textAreaBottom" fmla="*/ 47520 h 5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80" y="21600"/>
                    </a:lnTo>
                    <a:lnTo>
                      <a:pt x="3520" y="2160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4485600" y="3552120"/>
                <a:ext cx="222840" cy="2232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700000">
                <a:off x="4473360" y="3457440"/>
                <a:ext cx="287640" cy="372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 txBox="1"/>
            <p:nvPr/>
          </p:nvSpPr>
          <p:spPr>
            <a:xfrm>
              <a:off x="4416480" y="3784680"/>
              <a:ext cx="39996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デザイン提出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827" name=""/>
            <p:cNvSpPr txBox="1"/>
            <p:nvPr/>
          </p:nvSpPr>
          <p:spPr>
            <a:xfrm>
              <a:off x="4416480" y="3784680"/>
              <a:ext cx="39996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デザイン提出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400" y="2060640"/>
            <a:ext cx="400320" cy="438120"/>
            <a:chOff x="536400" y="2060640"/>
            <a:chExt cx="400320" cy="438120"/>
          </a:xfrm>
        </p:grpSpPr>
        <p:grpSp>
          <p:nvGrpSpPr>
            <p:cNvPr id="829" name=""/>
            <p:cNvGrpSpPr/>
            <p:nvPr/>
          </p:nvGrpSpPr>
          <p:grpSpPr>
            <a:xfrm>
              <a:off x="560520" y="2060640"/>
              <a:ext cx="355320" cy="355680"/>
              <a:chOff x="560520" y="2060640"/>
              <a:chExt cx="355320" cy="355680"/>
            </a:xfrm>
          </p:grpSpPr>
          <p:sp>
            <p:nvSpPr>
              <p:cNvPr id="830" name=""/>
              <p:cNvSpPr/>
              <p:nvPr/>
            </p:nvSpPr>
            <p:spPr>
              <a:xfrm>
                <a:off x="560520" y="2060640"/>
                <a:ext cx="355320" cy="355680"/>
              </a:xfrm>
              <a:custGeom>
                <a:avLst/>
                <a:gdLst/>
                <a:ahLst/>
                <a:rect l="l" t="t" r="r" b="b"/>
                <a:pathLst>
                  <a:path w="317" h="317">
                    <a:moveTo>
                      <a:pt x="249" y="0"/>
                    </a:moveTo>
                    <a:lnTo>
                      <a:pt x="208" y="29"/>
                    </a:lnTo>
                    <a:lnTo>
                      <a:pt x="239" y="47"/>
                    </a:lnTo>
                    <a:lnTo>
                      <a:pt x="272" y="23"/>
                    </a:lnTo>
                    <a:lnTo>
                      <a:pt x="317" y="91"/>
                    </a:lnTo>
                    <a:lnTo>
                      <a:pt x="317" y="204"/>
                    </a:lnTo>
                    <a:lnTo>
                      <a:pt x="158" y="317"/>
                    </a:lnTo>
                    <a:lnTo>
                      <a:pt x="0" y="227"/>
                    </a:lnTo>
                    <a:lnTo>
                      <a:pt x="0" y="113"/>
                    </a:lnTo>
                    <a:lnTo>
                      <a:pt x="158" y="0"/>
                    </a:lnTo>
                    <a:lnTo>
                      <a:pt x="249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0520" y="2060640"/>
                <a:ext cx="178200" cy="253440"/>
              </a:xfrm>
              <a:custGeom>
                <a:avLst/>
                <a:gdLst/>
                <a:ahLst/>
                <a:rect l="l" t="t" r="r" b="b"/>
                <a:pathLst>
                  <a:path w="159" h="226">
                    <a:moveTo>
                      <a:pt x="0" y="226"/>
                    </a:moveTo>
                    <a:lnTo>
                      <a:pt x="159" y="113"/>
                    </a:lnTo>
                    <a:lnTo>
                      <a:pt x="159" y="0"/>
                    </a:lnTo>
                    <a:lnTo>
                      <a:pt x="0" y="113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37640" y="2162880"/>
                <a:ext cx="178200" cy="253440"/>
              </a:xfrm>
              <a:custGeom>
                <a:avLst/>
                <a:gdLst/>
                <a:ahLst/>
                <a:rect l="l" t="t" r="r" b="b"/>
                <a:pathLst>
                  <a:path w="159" h="226">
                    <a:moveTo>
                      <a:pt x="0" y="226"/>
                    </a:moveTo>
                    <a:lnTo>
                      <a:pt x="159" y="113"/>
                    </a:lnTo>
                    <a:lnTo>
                      <a:pt x="159" y="0"/>
                    </a:lnTo>
                    <a:lnTo>
                      <a:pt x="0" y="113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60520" y="2060640"/>
                <a:ext cx="355320" cy="228960"/>
              </a:xfrm>
              <a:custGeom>
                <a:avLst/>
                <a:gdLst/>
                <a:ahLst/>
                <a:rect l="l" t="t" r="r" b="b"/>
                <a:pathLst>
                  <a:path w="317" h="204">
                    <a:moveTo>
                      <a:pt x="317" y="91"/>
                    </a:moveTo>
                    <a:lnTo>
                      <a:pt x="158" y="0"/>
                    </a:lnTo>
                    <a:lnTo>
                      <a:pt x="0" y="113"/>
                    </a:lnTo>
                    <a:lnTo>
                      <a:pt x="158" y="204"/>
                    </a:lnTo>
                    <a:lnTo>
                      <a:pt x="317" y="91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60520" y="2060640"/>
                <a:ext cx="177120" cy="254520"/>
              </a:xfrm>
              <a:custGeom>
                <a:avLst/>
                <a:gdLst/>
                <a:ahLst/>
                <a:rect l="l" t="t" r="r" b="b"/>
                <a:pathLst>
                  <a:path w="158" h="227">
                    <a:moveTo>
                      <a:pt x="158" y="0"/>
                    </a:moveTo>
                    <a:lnTo>
                      <a:pt x="158" y="113"/>
                    </a:lnTo>
                    <a:lnTo>
                      <a:pt x="0" y="227"/>
                    </a:lnTo>
                    <a:lnTo>
                      <a:pt x="0" y="113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60520" y="2187360"/>
                <a:ext cx="177120" cy="228600"/>
              </a:xfrm>
              <a:custGeom>
                <a:avLst/>
                <a:gdLst/>
                <a:ahLst/>
                <a:rect l="l" t="t" r="r" b="b"/>
                <a:pathLst>
                  <a:path w="158" h="204">
                    <a:moveTo>
                      <a:pt x="158" y="91"/>
                    </a:moveTo>
                    <a:lnTo>
                      <a:pt x="0" y="0"/>
                    </a:lnTo>
                    <a:lnTo>
                      <a:pt x="0" y="114"/>
                    </a:lnTo>
                    <a:lnTo>
                      <a:pt x="158" y="204"/>
                    </a:lnTo>
                    <a:lnTo>
                      <a:pt x="158" y="9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87240" y="2086560"/>
                <a:ext cx="228240" cy="203040"/>
              </a:xfrm>
              <a:custGeom>
                <a:avLst/>
                <a:gdLst/>
                <a:ahLst/>
                <a:rect l="l" t="t" r="r" b="b"/>
                <a:pathLst>
                  <a:path w="204" h="181">
                    <a:moveTo>
                      <a:pt x="45" y="181"/>
                    </a:moveTo>
                    <a:lnTo>
                      <a:pt x="204" y="68"/>
                    </a:lnTo>
                    <a:lnTo>
                      <a:pt x="159" y="0"/>
                    </a:lnTo>
                    <a:lnTo>
                      <a:pt x="0" y="113"/>
                    </a:lnTo>
                    <a:lnTo>
                      <a:pt x="45" y="18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0520" y="2060640"/>
                <a:ext cx="279000" cy="126720"/>
              </a:xfrm>
              <a:custGeom>
                <a:avLst/>
                <a:gdLst/>
                <a:ahLst/>
                <a:rect l="l" t="t" r="r" b="b"/>
                <a:pathLst>
                  <a:path w="249" h="113">
                    <a:moveTo>
                      <a:pt x="0" y="113"/>
                    </a:moveTo>
                    <a:lnTo>
                      <a:pt x="158" y="0"/>
                    </a:lnTo>
                    <a:lnTo>
                      <a:pt x="249" y="0"/>
                    </a:lnTo>
                    <a:lnTo>
                      <a:pt x="90" y="11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536400" y="2349360"/>
              <a:ext cx="400320" cy="149400"/>
              <a:chOff x="536400" y="2349360"/>
              <a:chExt cx="400320" cy="149400"/>
            </a:xfrm>
          </p:grpSpPr>
          <p:sp>
            <p:nvSpPr>
              <p:cNvPr id="839" name=""/>
              <p:cNvSpPr txBox="1"/>
              <p:nvPr/>
            </p:nvSpPr>
            <p:spPr>
              <a:xfrm>
                <a:off x="536400" y="23493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納品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536400" y="23493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納品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2093760" y="676440"/>
            <a:ext cx="400320" cy="382320"/>
            <a:chOff x="2093760" y="676440"/>
            <a:chExt cx="400320" cy="382320"/>
          </a:xfrm>
        </p:grpSpPr>
        <p:grpSp>
          <p:nvGrpSpPr>
            <p:cNvPr id="842" name=""/>
            <p:cNvGrpSpPr/>
            <p:nvPr/>
          </p:nvGrpSpPr>
          <p:grpSpPr>
            <a:xfrm>
              <a:off x="2128680" y="676440"/>
              <a:ext cx="330480" cy="304200"/>
              <a:chOff x="2128680" y="676440"/>
              <a:chExt cx="330480" cy="30420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2128680" y="676440"/>
                <a:ext cx="330480" cy="304200"/>
                <a:chOff x="2128680" y="676440"/>
                <a:chExt cx="330480" cy="30420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2128680" y="702000"/>
                  <a:ext cx="330480" cy="27864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2275920" y="676440"/>
                  <a:ext cx="35640" cy="3564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>
                <a:off x="2128680" y="726840"/>
                <a:ext cx="330480" cy="25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28680" y="702000"/>
                <a:ext cx="330480" cy="255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153520" y="752400"/>
                <a:ext cx="280800" cy="177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153520" y="777960"/>
                <a:ext cx="280800" cy="244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153520" y="828720"/>
                <a:ext cx="280800" cy="244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153520" y="878760"/>
                <a:ext cx="280800" cy="244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179080" y="752400"/>
                <a:ext cx="25560" cy="177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29840" y="752400"/>
                <a:ext cx="25920" cy="177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281320" y="752400"/>
                <a:ext cx="25920" cy="177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32080" y="752400"/>
                <a:ext cx="25560" cy="177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82480" y="752400"/>
                <a:ext cx="25920" cy="177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275920" y="676440"/>
                <a:ext cx="35640" cy="35640"/>
              </a:xfrm>
              <a:prstGeom prst="donut">
                <a:avLst>
                  <a:gd name="adj" fmla="val 25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2093760" y="909720"/>
              <a:ext cx="400320" cy="149040"/>
              <a:chOff x="2093760" y="909720"/>
              <a:chExt cx="400320" cy="149040"/>
            </a:xfrm>
          </p:grpSpPr>
          <p:sp>
            <p:nvSpPr>
              <p:cNvPr id="859" name=""/>
              <p:cNvSpPr txBox="1"/>
              <p:nvPr/>
            </p:nvSpPr>
            <p:spPr>
              <a:xfrm>
                <a:off x="2093760" y="90972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予備日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860" name=""/>
              <p:cNvSpPr txBox="1"/>
              <p:nvPr/>
            </p:nvSpPr>
            <p:spPr>
              <a:xfrm>
                <a:off x="2093760" y="90972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予備日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861" name=""/>
          <p:cNvGrpSpPr/>
          <p:nvPr/>
        </p:nvGrpSpPr>
        <p:grpSpPr>
          <a:xfrm>
            <a:off x="2867040" y="665280"/>
            <a:ext cx="403200" cy="392040"/>
            <a:chOff x="2867040" y="665280"/>
            <a:chExt cx="403200" cy="392040"/>
          </a:xfrm>
        </p:grpSpPr>
        <p:grpSp>
          <p:nvGrpSpPr>
            <p:cNvPr id="862" name=""/>
            <p:cNvGrpSpPr/>
            <p:nvPr/>
          </p:nvGrpSpPr>
          <p:grpSpPr>
            <a:xfrm>
              <a:off x="2905200" y="665280"/>
              <a:ext cx="330120" cy="304200"/>
              <a:chOff x="2905200" y="665280"/>
              <a:chExt cx="330120" cy="304200"/>
            </a:xfrm>
          </p:grpSpPr>
          <p:grpSp>
            <p:nvGrpSpPr>
              <p:cNvPr id="863" name=""/>
              <p:cNvGrpSpPr/>
              <p:nvPr/>
            </p:nvGrpSpPr>
            <p:grpSpPr>
              <a:xfrm>
                <a:off x="2905200" y="665280"/>
                <a:ext cx="330120" cy="304200"/>
                <a:chOff x="2905200" y="665280"/>
                <a:chExt cx="330120" cy="304200"/>
              </a:xfrm>
            </p:grpSpPr>
            <p:grpSp>
              <p:nvGrpSpPr>
                <p:cNvPr id="864" name=""/>
                <p:cNvGrpSpPr/>
                <p:nvPr/>
              </p:nvGrpSpPr>
              <p:grpSpPr>
                <a:xfrm>
                  <a:off x="2905200" y="665280"/>
                  <a:ext cx="330120" cy="304200"/>
                  <a:chOff x="2905200" y="665280"/>
                  <a:chExt cx="330120" cy="30420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2905200" y="690840"/>
                    <a:ext cx="330120" cy="2786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052080" y="665280"/>
                    <a:ext cx="35640" cy="35640"/>
                  </a:xfrm>
                  <a:prstGeom prst="donut">
                    <a:avLst>
                      <a:gd name="adj" fmla="val 25000"/>
                    </a:avLst>
                  </a:prstGeom>
                  <a:solidFill>
                    <a:srgbClr val="3366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7" name=""/>
                <p:cNvSpPr/>
                <p:nvPr/>
              </p:nvSpPr>
              <p:spPr>
                <a:xfrm>
                  <a:off x="2905200" y="715680"/>
                  <a:ext cx="330120" cy="253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905200" y="690840"/>
                  <a:ext cx="330120" cy="255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930040" y="741240"/>
                  <a:ext cx="280440" cy="17784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930040" y="766800"/>
                  <a:ext cx="280440" cy="2448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930040" y="817560"/>
                  <a:ext cx="280440" cy="2448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930040" y="867600"/>
                  <a:ext cx="280440" cy="2448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955600" y="741240"/>
                  <a:ext cx="25560" cy="17784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006000" y="741240"/>
                  <a:ext cx="25920" cy="17784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057840" y="741240"/>
                  <a:ext cx="25920" cy="17784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108600" y="741240"/>
                  <a:ext cx="25560" cy="17784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159000" y="741240"/>
                  <a:ext cx="25920" cy="177840"/>
                </a:xfrm>
                <a:prstGeom prst="rect">
                  <a:avLst/>
                </a:prstGeom>
                <a:noFill/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052080" y="665280"/>
                  <a:ext cx="35640" cy="3564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"/>
              <p:cNvSpPr txBox="1"/>
              <p:nvPr/>
            </p:nvSpPr>
            <p:spPr>
              <a:xfrm>
                <a:off x="2959200" y="700200"/>
                <a:ext cx="223920" cy="230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2867040" y="907920"/>
              <a:ext cx="403200" cy="149400"/>
              <a:chOff x="2867040" y="907920"/>
              <a:chExt cx="403200" cy="149400"/>
            </a:xfrm>
          </p:grpSpPr>
          <p:sp>
            <p:nvSpPr>
              <p:cNvPr id="881" name=""/>
              <p:cNvSpPr txBox="1"/>
              <p:nvPr/>
            </p:nvSpPr>
            <p:spPr>
              <a:xfrm>
                <a:off x="2870280" y="9079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未定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2867040" y="9079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未定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883" name=""/>
          <p:cNvGrpSpPr/>
          <p:nvPr/>
        </p:nvGrpSpPr>
        <p:grpSpPr>
          <a:xfrm>
            <a:off x="536400" y="2841480"/>
            <a:ext cx="400320" cy="382680"/>
            <a:chOff x="536400" y="2841480"/>
            <a:chExt cx="400320" cy="382680"/>
          </a:xfrm>
        </p:grpSpPr>
        <p:grpSp>
          <p:nvGrpSpPr>
            <p:cNvPr id="884" name=""/>
            <p:cNvGrpSpPr/>
            <p:nvPr/>
          </p:nvGrpSpPr>
          <p:grpSpPr>
            <a:xfrm>
              <a:off x="561960" y="2841480"/>
              <a:ext cx="348840" cy="244800"/>
              <a:chOff x="561960" y="2841480"/>
              <a:chExt cx="348840" cy="244800"/>
            </a:xfrm>
          </p:grpSpPr>
          <p:sp>
            <p:nvSpPr>
              <p:cNvPr id="885" name=""/>
              <p:cNvSpPr/>
              <p:nvPr/>
            </p:nvSpPr>
            <p:spPr>
              <a:xfrm>
                <a:off x="849600" y="2841480"/>
                <a:ext cx="61200" cy="24480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61960" y="2841480"/>
                <a:ext cx="267480" cy="244800"/>
              </a:xfrm>
              <a:custGeom>
                <a:avLst/>
                <a:gdLst/>
                <a:ahLst/>
                <a:rect l="l" t="t" r="r" b="b"/>
                <a:pathLst>
                  <a:path w="295" h="272">
                    <a:moveTo>
                      <a:pt x="113" y="226"/>
                    </a:moveTo>
                    <a:lnTo>
                      <a:pt x="113" y="249"/>
                    </a:lnTo>
                    <a:lnTo>
                      <a:pt x="91" y="249"/>
                    </a:lnTo>
                    <a:lnTo>
                      <a:pt x="91" y="272"/>
                    </a:lnTo>
                    <a:lnTo>
                      <a:pt x="204" y="272"/>
                    </a:lnTo>
                    <a:lnTo>
                      <a:pt x="204" y="249"/>
                    </a:lnTo>
                    <a:lnTo>
                      <a:pt x="181" y="249"/>
                    </a:lnTo>
                    <a:lnTo>
                      <a:pt x="181" y="226"/>
                    </a:lnTo>
                    <a:lnTo>
                      <a:pt x="295" y="226"/>
                    </a:lnTo>
                    <a:lnTo>
                      <a:pt x="295" y="0"/>
                    </a:lnTo>
                    <a:lnTo>
                      <a:pt x="0" y="0"/>
                    </a:lnTo>
                    <a:lnTo>
                      <a:pt x="0" y="226"/>
                    </a:lnTo>
                    <a:lnTo>
                      <a:pt x="113" y="226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61960" y="2841480"/>
                <a:ext cx="267480" cy="2034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81760" y="2861280"/>
                <a:ext cx="226800" cy="16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4200" y="3044880"/>
                <a:ext cx="61560" cy="20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44400" y="3065760"/>
                <a:ext cx="102240" cy="205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49600" y="2841480"/>
                <a:ext cx="61200" cy="244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70480" y="2861280"/>
                <a:ext cx="20520" cy="122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536400" y="3075120"/>
              <a:ext cx="400320" cy="149040"/>
              <a:chOff x="536400" y="3075120"/>
              <a:chExt cx="400320" cy="149040"/>
            </a:xfrm>
          </p:grpSpPr>
          <p:sp>
            <p:nvSpPr>
              <p:cNvPr id="894" name=""/>
              <p:cNvSpPr txBox="1"/>
              <p:nvPr/>
            </p:nvSpPr>
            <p:spPr>
              <a:xfrm>
                <a:off x="536400" y="307512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開発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536400" y="307512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開発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896" name=""/>
          <p:cNvGrpSpPr/>
          <p:nvPr/>
        </p:nvGrpSpPr>
        <p:grpSpPr>
          <a:xfrm>
            <a:off x="2827080" y="2881080"/>
            <a:ext cx="417600" cy="338400"/>
            <a:chOff x="2827080" y="2881080"/>
            <a:chExt cx="417600" cy="338400"/>
          </a:xfrm>
        </p:grpSpPr>
        <p:grpSp>
          <p:nvGrpSpPr>
            <p:cNvPr id="897" name=""/>
            <p:cNvGrpSpPr/>
            <p:nvPr/>
          </p:nvGrpSpPr>
          <p:grpSpPr>
            <a:xfrm>
              <a:off x="2827080" y="2881080"/>
              <a:ext cx="394200" cy="231480"/>
              <a:chOff x="2827080" y="2881080"/>
              <a:chExt cx="394200" cy="23148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2827080" y="2881080"/>
                <a:ext cx="394200" cy="231480"/>
                <a:chOff x="2827080" y="2881080"/>
                <a:chExt cx="394200" cy="231480"/>
              </a:xfrm>
            </p:grpSpPr>
            <p:sp>
              <p:nvSpPr>
                <p:cNvPr id="899" name=""/>
                <p:cNvSpPr/>
                <p:nvPr/>
              </p:nvSpPr>
              <p:spPr>
                <a:xfrm rot="19800000">
                  <a:off x="2865600" y="2924280"/>
                  <a:ext cx="88560" cy="177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3600000">
                  <a:off x="3025080" y="2829600"/>
                  <a:ext cx="71280" cy="3290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827080" y="2881080"/>
                <a:ext cx="394200" cy="231480"/>
                <a:chOff x="2827080" y="2881080"/>
                <a:chExt cx="394200" cy="231480"/>
              </a:xfrm>
            </p:grpSpPr>
            <p:sp>
              <p:nvSpPr>
                <p:cNvPr id="902" name=""/>
                <p:cNvSpPr/>
                <p:nvPr/>
              </p:nvSpPr>
              <p:spPr>
                <a:xfrm rot="19800000">
                  <a:off x="2865600" y="2924280"/>
                  <a:ext cx="88560" cy="177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3600000">
                  <a:off x="3025080" y="2829600"/>
                  <a:ext cx="71280" cy="329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4" name=""/>
            <p:cNvGrpSpPr/>
            <p:nvPr/>
          </p:nvGrpSpPr>
          <p:grpSpPr>
            <a:xfrm>
              <a:off x="2844720" y="3070080"/>
              <a:ext cx="399960" cy="149400"/>
              <a:chOff x="2844720" y="3070080"/>
              <a:chExt cx="399960" cy="149400"/>
            </a:xfrm>
          </p:grpSpPr>
          <p:sp>
            <p:nvSpPr>
              <p:cNvPr id="905" name=""/>
              <p:cNvSpPr txBox="1"/>
              <p:nvPr/>
            </p:nvSpPr>
            <p:spPr>
              <a:xfrm>
                <a:off x="2844720" y="307008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校正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906" name=""/>
              <p:cNvSpPr txBox="1"/>
              <p:nvPr/>
            </p:nvSpPr>
            <p:spPr>
              <a:xfrm>
                <a:off x="2844720" y="307008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校正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907" name=""/>
          <p:cNvGrpSpPr/>
          <p:nvPr/>
        </p:nvGrpSpPr>
        <p:grpSpPr>
          <a:xfrm>
            <a:off x="1297080" y="2790720"/>
            <a:ext cx="399960" cy="433440"/>
            <a:chOff x="1297080" y="2790720"/>
            <a:chExt cx="399960" cy="433440"/>
          </a:xfrm>
        </p:grpSpPr>
        <p:grpSp>
          <p:nvGrpSpPr>
            <p:cNvPr id="908" name=""/>
            <p:cNvGrpSpPr/>
            <p:nvPr/>
          </p:nvGrpSpPr>
          <p:grpSpPr>
            <a:xfrm>
              <a:off x="1306440" y="2790720"/>
              <a:ext cx="379080" cy="316080"/>
              <a:chOff x="1306440" y="2790720"/>
              <a:chExt cx="379080" cy="316080"/>
            </a:xfrm>
          </p:grpSpPr>
          <p:grpSp>
            <p:nvGrpSpPr>
              <p:cNvPr id="909" name=""/>
              <p:cNvGrpSpPr/>
              <p:nvPr/>
            </p:nvGrpSpPr>
            <p:grpSpPr>
              <a:xfrm>
                <a:off x="1306440" y="2790720"/>
                <a:ext cx="379080" cy="316080"/>
                <a:chOff x="1306440" y="2790720"/>
                <a:chExt cx="379080" cy="31608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1464120" y="2822760"/>
                  <a:ext cx="221400" cy="2836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433520" y="2854800"/>
                  <a:ext cx="221400" cy="25200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433520" y="2823840"/>
                  <a:ext cx="221400" cy="320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521360" y="2790720"/>
                  <a:ext cx="44280" cy="4464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306440" y="2854800"/>
                  <a:ext cx="348480" cy="189360"/>
                </a:xfrm>
                <a:custGeom>
                  <a:avLst/>
                  <a:gdLst/>
                  <a:ahLst/>
                  <a:rect l="l" t="t" r="r" b="b"/>
                  <a:pathLst>
                    <a:path w="250" h="136">
                      <a:moveTo>
                        <a:pt x="250" y="0"/>
                      </a:moveTo>
                      <a:lnTo>
                        <a:pt x="250" y="22"/>
                      </a:lnTo>
                      <a:lnTo>
                        <a:pt x="204" y="113"/>
                      </a:lnTo>
                      <a:lnTo>
                        <a:pt x="159" y="136"/>
                      </a:lnTo>
                      <a:lnTo>
                        <a:pt x="0" y="136"/>
                      </a:lnTo>
                      <a:lnTo>
                        <a:pt x="45" y="113"/>
                      </a:lnTo>
                      <a:lnTo>
                        <a:pt x="91" y="22"/>
                      </a:lnTo>
                      <a:lnTo>
                        <a:pt x="91" y="0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1306440" y="2790720"/>
                <a:ext cx="379080" cy="316080"/>
                <a:chOff x="1306440" y="2790720"/>
                <a:chExt cx="379080" cy="31608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1463760" y="2822760"/>
                  <a:ext cx="221760" cy="2836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433160" y="2854800"/>
                  <a:ext cx="221760" cy="2520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433160" y="2823840"/>
                  <a:ext cx="221760" cy="3168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521000" y="2790720"/>
                  <a:ext cx="44280" cy="4428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 txBox="1"/>
                <p:nvPr/>
              </p:nvSpPr>
              <p:spPr>
                <a:xfrm>
                  <a:off x="1496160" y="2917080"/>
                  <a:ext cx="86040" cy="155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0">
                        <a:noFill/>
                      </a:ln>
                      <a:solidFill>
                        <a:srgbClr val="969696"/>
                      </a:solidFill>
                      <a:latin typeface="Arial Black"/>
                    </a:rPr>
                    <a:t>1</a:t>
                  </a:r>
                  <a:endParaRPr b="0" lang="en-US" sz="1800" spc="1" strike="noStrike">
                    <a:ln w="0">
                      <a:noFill/>
                    </a:ln>
                    <a:solidFill>
                      <a:srgbClr val="969696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306440" y="2854800"/>
                  <a:ext cx="348480" cy="189360"/>
                </a:xfrm>
                <a:custGeom>
                  <a:avLst/>
                  <a:gdLst/>
                  <a:ahLst/>
                  <a:rect l="l" t="t" r="r" b="b"/>
                  <a:pathLst>
                    <a:path w="250" h="136">
                      <a:moveTo>
                        <a:pt x="250" y="0"/>
                      </a:moveTo>
                      <a:lnTo>
                        <a:pt x="250" y="22"/>
                      </a:lnTo>
                      <a:lnTo>
                        <a:pt x="204" y="113"/>
                      </a:lnTo>
                      <a:lnTo>
                        <a:pt x="159" y="136"/>
                      </a:lnTo>
                      <a:lnTo>
                        <a:pt x="0" y="136"/>
                      </a:lnTo>
                      <a:lnTo>
                        <a:pt x="45" y="113"/>
                      </a:lnTo>
                      <a:lnTo>
                        <a:pt x="91" y="22"/>
                      </a:lnTo>
                      <a:lnTo>
                        <a:pt x="91" y="0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2" name=""/>
            <p:cNvGrpSpPr/>
            <p:nvPr/>
          </p:nvGrpSpPr>
          <p:grpSpPr>
            <a:xfrm>
              <a:off x="1297080" y="3075120"/>
              <a:ext cx="399960" cy="149040"/>
              <a:chOff x="1297080" y="3075120"/>
              <a:chExt cx="399960" cy="149040"/>
            </a:xfrm>
          </p:grpSpPr>
          <p:sp>
            <p:nvSpPr>
              <p:cNvPr id="923" name=""/>
              <p:cNvSpPr txBox="1"/>
              <p:nvPr/>
            </p:nvSpPr>
            <p:spPr>
              <a:xfrm>
                <a:off x="1297080" y="307512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納期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924" name=""/>
              <p:cNvSpPr txBox="1"/>
              <p:nvPr/>
            </p:nvSpPr>
            <p:spPr>
              <a:xfrm>
                <a:off x="1297080" y="307512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納期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925" name=""/>
          <p:cNvGrpSpPr/>
          <p:nvPr/>
        </p:nvGrpSpPr>
        <p:grpSpPr>
          <a:xfrm>
            <a:off x="5199120" y="549360"/>
            <a:ext cx="403200" cy="507960"/>
            <a:chOff x="5199120" y="549360"/>
            <a:chExt cx="403200" cy="507960"/>
          </a:xfrm>
        </p:grpSpPr>
        <p:grpSp>
          <p:nvGrpSpPr>
            <p:cNvPr id="926" name=""/>
            <p:cNvGrpSpPr/>
            <p:nvPr/>
          </p:nvGrpSpPr>
          <p:grpSpPr>
            <a:xfrm>
              <a:off x="5250960" y="549360"/>
              <a:ext cx="239040" cy="436320"/>
              <a:chOff x="5250960" y="549360"/>
              <a:chExt cx="239040" cy="43632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5250960" y="549360"/>
                <a:ext cx="239040" cy="436320"/>
                <a:chOff x="5250960" y="549360"/>
                <a:chExt cx="239040" cy="43632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5338800" y="549360"/>
                  <a:ext cx="75960" cy="889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338800" y="638280"/>
                  <a:ext cx="75960" cy="215640"/>
                </a:xfrm>
                <a:custGeom>
                  <a:avLst/>
                  <a:gdLst>
                    <a:gd name="textAreaLeft" fmla="*/ 11160 w 75960"/>
                    <a:gd name="textAreaRight" fmla="*/ 64800 w 75960"/>
                    <a:gd name="textAreaTop" fmla="*/ 11160 h 215640"/>
                    <a:gd name="textAreaBottom" fmla="*/ 204480 h 215640"/>
                  </a:gdLst>
                  <a:ahLst/>
                  <a:rect l="textAreaLeft" t="textAreaTop" r="textAreaRight" b="textAreaBottom"/>
                  <a:pathLst>
                    <a:path w="21600" h="61132">
                      <a:moveTo>
                        <a:pt x="10800" y="0"/>
                      </a:moveTo>
                      <a:arcTo wR="10800" hR="10800" stAng="16200000" swAng="-5400000"/>
                      <a:lnTo>
                        <a:pt x="0" y="50332"/>
                      </a:lnTo>
                      <a:arcTo wR="10800" hR="10800" stAng="10800000" swAng="-5400000"/>
                      <a:lnTo>
                        <a:pt x="10800" y="6113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0" name=""/>
                <p:cNvGrpSpPr/>
                <p:nvPr/>
              </p:nvGrpSpPr>
              <p:grpSpPr>
                <a:xfrm>
                  <a:off x="5250960" y="811080"/>
                  <a:ext cx="137160" cy="161640"/>
                  <a:chOff x="5250960" y="811080"/>
                  <a:chExt cx="137160" cy="16164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 rot="1800000">
                    <a:off x="5311440" y="809280"/>
                    <a:ext cx="37800" cy="164880"/>
                  </a:xfrm>
                  <a:custGeom>
                    <a:avLst/>
                    <a:gdLst>
                      <a:gd name="textAreaLeft" fmla="*/ 5400 w 37800"/>
                      <a:gd name="textAreaRight" fmla="*/ 32400 w 37800"/>
                      <a:gd name="textAreaTop" fmla="*/ 5400 h 164880"/>
                      <a:gd name="textAreaBottom" fmla="*/ 159480 h 164880"/>
                    </a:gdLst>
                    <a:ahLst/>
                    <a:rect l="textAreaLeft" t="textAreaTop" r="textAreaRight" b="textAreaBottom"/>
                    <a:pathLst>
                      <a:path w="21600" h="93532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82732"/>
                        </a:lnTo>
                        <a:arcTo wR="10800" hR="10800" stAng="10800000" swAng="-5400000"/>
                        <a:lnTo>
                          <a:pt x="10800" y="93532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rot="1800000">
                    <a:off x="5255640" y="921240"/>
                    <a:ext cx="63360" cy="37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5374800" y="811440"/>
                  <a:ext cx="115200" cy="174240"/>
                  <a:chOff x="5374800" y="811440"/>
                  <a:chExt cx="115200" cy="17424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 rot="19800000">
                    <a:off x="5413320" y="809640"/>
                    <a:ext cx="37800" cy="164880"/>
                  </a:xfrm>
                  <a:custGeom>
                    <a:avLst/>
                    <a:gdLst>
                      <a:gd name="textAreaLeft" fmla="*/ 5400 w 37800"/>
                      <a:gd name="textAreaRight" fmla="*/ 32400 w 37800"/>
                      <a:gd name="textAreaTop" fmla="*/ 5400 h 164880"/>
                      <a:gd name="textAreaBottom" fmla="*/ 159480 h 164880"/>
                    </a:gdLst>
                    <a:ahLst/>
                    <a:rect l="textAreaLeft" t="textAreaTop" r="textAreaRight" b="textAreaBottom"/>
                    <a:pathLst>
                      <a:path w="21600" h="93532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82732"/>
                        </a:lnTo>
                        <a:arcTo wR="10800" hR="10800" stAng="10800000" swAng="-5400000"/>
                        <a:lnTo>
                          <a:pt x="10800" y="93532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rot="19800000">
                    <a:off x="5421240" y="934200"/>
                    <a:ext cx="63360" cy="37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5362920" y="651960"/>
                  <a:ext cx="103320" cy="150120"/>
                  <a:chOff x="5362920" y="651960"/>
                  <a:chExt cx="103320" cy="15012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 rot="19800000">
                    <a:off x="5392800" y="649440"/>
                    <a:ext cx="25560" cy="127080"/>
                  </a:xfrm>
                  <a:custGeom>
                    <a:avLst/>
                    <a:gdLst>
                      <a:gd name="textAreaLeft" fmla="*/ 3600 w 25560"/>
                      <a:gd name="textAreaRight" fmla="*/ 21960 w 25560"/>
                      <a:gd name="textAreaTop" fmla="*/ 3600 h 127080"/>
                      <a:gd name="textAreaBottom" fmla="*/ 123480 h 127080"/>
                    </a:gdLst>
                    <a:ahLst/>
                    <a:rect l="textAreaLeft" t="textAreaTop" r="textAreaRight" b="textAreaBottom"/>
                    <a:pathLst>
                      <a:path w="21600" h="106200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5400"/>
                        </a:lnTo>
                        <a:arcTo wR="10800" hR="10800" stAng="10800000" swAng="-5400000"/>
                        <a:lnTo>
                          <a:pt x="10800" y="106200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rot="19800000">
                    <a:off x="5435280" y="759960"/>
                    <a:ext cx="22320" cy="38880"/>
                  </a:xfrm>
                  <a:custGeom>
                    <a:avLst/>
                    <a:gdLst>
                      <a:gd name="textAreaLeft" fmla="*/ 3240 w 22320"/>
                      <a:gd name="textAreaRight" fmla="*/ 19080 w 22320"/>
                      <a:gd name="textAreaTop" fmla="*/ 3240 h 38880"/>
                      <a:gd name="textAreaBottom" fmla="*/ 35640 h 38880"/>
                    </a:gdLst>
                    <a:ahLst/>
                    <a:rect l="textAreaLeft" t="textAreaTop" r="textAreaRight" b="textAreaBottom"/>
                    <a:pathLst>
                      <a:path w="21600" h="37371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26571"/>
                        </a:lnTo>
                        <a:arcTo wR="10800" hR="10800" stAng="10800000" swAng="-5400000"/>
                        <a:lnTo>
                          <a:pt x="10800" y="37371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"/>
                <p:cNvGrpSpPr/>
                <p:nvPr/>
              </p:nvGrpSpPr>
              <p:grpSpPr>
                <a:xfrm>
                  <a:off x="5255280" y="658440"/>
                  <a:ext cx="128880" cy="132120"/>
                  <a:chOff x="5255280" y="658440"/>
                  <a:chExt cx="128880" cy="13212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rot="2700000">
                    <a:off x="5317200" y="648720"/>
                    <a:ext cx="25560" cy="127080"/>
                  </a:xfrm>
                  <a:custGeom>
                    <a:avLst/>
                    <a:gdLst>
                      <a:gd name="textAreaLeft" fmla="*/ 3600 w 25560"/>
                      <a:gd name="textAreaRight" fmla="*/ 21960 w 25560"/>
                      <a:gd name="textAreaTop" fmla="*/ 3600 h 127080"/>
                      <a:gd name="textAreaBottom" fmla="*/ 123480 h 127080"/>
                    </a:gdLst>
                    <a:ahLst/>
                    <a:rect l="textAreaLeft" t="textAreaTop" r="textAreaRight" b="textAreaBottom"/>
                    <a:pathLst>
                      <a:path w="21600" h="106200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5400"/>
                        </a:lnTo>
                        <a:arcTo wR="10800" hR="10800" stAng="10800000" swAng="-5400000"/>
                        <a:lnTo>
                          <a:pt x="10800" y="106200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rot="2700000">
                    <a:off x="5265360" y="749520"/>
                    <a:ext cx="22320" cy="38880"/>
                  </a:xfrm>
                  <a:custGeom>
                    <a:avLst/>
                    <a:gdLst>
                      <a:gd name="textAreaLeft" fmla="*/ 3240 w 22320"/>
                      <a:gd name="textAreaRight" fmla="*/ 19080 w 22320"/>
                      <a:gd name="textAreaTop" fmla="*/ 3240 h 38880"/>
                      <a:gd name="textAreaBottom" fmla="*/ 35640 h 38880"/>
                    </a:gdLst>
                    <a:ahLst/>
                    <a:rect l="textAreaLeft" t="textAreaTop" r="textAreaRight" b="textAreaBottom"/>
                    <a:pathLst>
                      <a:path w="21600" h="37371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26571"/>
                        </a:lnTo>
                        <a:arcTo wR="10800" hR="10800" stAng="10800000" swAng="-5400000"/>
                        <a:lnTo>
                          <a:pt x="10800" y="37371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5250960" y="549360"/>
                <a:ext cx="239040" cy="436320"/>
                <a:chOff x="5250960" y="549360"/>
                <a:chExt cx="239040" cy="4363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5338800" y="549360"/>
                  <a:ext cx="75960" cy="88920"/>
                </a:xfrm>
                <a:prstGeom prst="ellips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338800" y="638280"/>
                  <a:ext cx="75960" cy="215640"/>
                </a:xfrm>
                <a:custGeom>
                  <a:avLst/>
                  <a:gdLst>
                    <a:gd name="textAreaLeft" fmla="*/ 11160 w 75960"/>
                    <a:gd name="textAreaRight" fmla="*/ 64800 w 75960"/>
                    <a:gd name="textAreaTop" fmla="*/ 11160 h 215640"/>
                    <a:gd name="textAreaBottom" fmla="*/ 204480 h 215640"/>
                  </a:gdLst>
                  <a:ahLst/>
                  <a:rect l="textAreaLeft" t="textAreaTop" r="textAreaRight" b="textAreaBottom"/>
                  <a:pathLst>
                    <a:path w="21600" h="61132">
                      <a:moveTo>
                        <a:pt x="10800" y="0"/>
                      </a:moveTo>
                      <a:arcTo wR="10800" hR="10800" stAng="16200000" swAng="-5400000"/>
                      <a:lnTo>
                        <a:pt x="0" y="50332"/>
                      </a:lnTo>
                      <a:arcTo wR="10800" hR="10800" stAng="10800000" swAng="-5400000"/>
                      <a:lnTo>
                        <a:pt x="10800" y="6113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5" name=""/>
                <p:cNvGrpSpPr/>
                <p:nvPr/>
              </p:nvGrpSpPr>
              <p:grpSpPr>
                <a:xfrm>
                  <a:off x="5250960" y="811080"/>
                  <a:ext cx="137160" cy="161640"/>
                  <a:chOff x="5250960" y="811080"/>
                  <a:chExt cx="137160" cy="16164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 rot="1800000">
                    <a:off x="5311440" y="809280"/>
                    <a:ext cx="37800" cy="164880"/>
                  </a:xfrm>
                  <a:custGeom>
                    <a:avLst/>
                    <a:gdLst>
                      <a:gd name="textAreaLeft" fmla="*/ 5400 w 37800"/>
                      <a:gd name="textAreaRight" fmla="*/ 32400 w 37800"/>
                      <a:gd name="textAreaTop" fmla="*/ 5400 h 164880"/>
                      <a:gd name="textAreaBottom" fmla="*/ 159480 h 164880"/>
                    </a:gdLst>
                    <a:ahLst/>
                    <a:rect l="textAreaLeft" t="textAreaTop" r="textAreaRight" b="textAreaBottom"/>
                    <a:pathLst>
                      <a:path w="21600" h="93532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82732"/>
                        </a:lnTo>
                        <a:arcTo wR="10800" hR="10800" stAng="10800000" swAng="-5400000"/>
                        <a:lnTo>
                          <a:pt x="10800" y="93532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rot="1800000">
                    <a:off x="5255640" y="921240"/>
                    <a:ext cx="63360" cy="37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"/>
                <p:cNvGrpSpPr/>
                <p:nvPr/>
              </p:nvGrpSpPr>
              <p:grpSpPr>
                <a:xfrm>
                  <a:off x="5374800" y="811440"/>
                  <a:ext cx="115200" cy="174240"/>
                  <a:chOff x="5374800" y="811440"/>
                  <a:chExt cx="115200" cy="17424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 rot="19800000">
                    <a:off x="5413320" y="809640"/>
                    <a:ext cx="37800" cy="164880"/>
                  </a:xfrm>
                  <a:custGeom>
                    <a:avLst/>
                    <a:gdLst>
                      <a:gd name="textAreaLeft" fmla="*/ 5400 w 37800"/>
                      <a:gd name="textAreaRight" fmla="*/ 32400 w 37800"/>
                      <a:gd name="textAreaTop" fmla="*/ 5400 h 164880"/>
                      <a:gd name="textAreaBottom" fmla="*/ 159480 h 164880"/>
                    </a:gdLst>
                    <a:ahLst/>
                    <a:rect l="textAreaLeft" t="textAreaTop" r="textAreaRight" b="textAreaBottom"/>
                    <a:pathLst>
                      <a:path w="21600" h="93532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82732"/>
                        </a:lnTo>
                        <a:arcTo wR="10800" hR="10800" stAng="10800000" swAng="-5400000"/>
                        <a:lnTo>
                          <a:pt x="10800" y="93532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rot="19800000">
                    <a:off x="5421240" y="934200"/>
                    <a:ext cx="63360" cy="37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5362920" y="651960"/>
                  <a:ext cx="103320" cy="150120"/>
                  <a:chOff x="5362920" y="651960"/>
                  <a:chExt cx="103320" cy="15012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 rot="19800000">
                    <a:off x="5392800" y="649440"/>
                    <a:ext cx="25560" cy="127080"/>
                  </a:xfrm>
                  <a:custGeom>
                    <a:avLst/>
                    <a:gdLst>
                      <a:gd name="textAreaLeft" fmla="*/ 3600 w 25560"/>
                      <a:gd name="textAreaRight" fmla="*/ 21960 w 25560"/>
                      <a:gd name="textAreaTop" fmla="*/ 3600 h 127080"/>
                      <a:gd name="textAreaBottom" fmla="*/ 123480 h 127080"/>
                    </a:gdLst>
                    <a:ahLst/>
                    <a:rect l="textAreaLeft" t="textAreaTop" r="textAreaRight" b="textAreaBottom"/>
                    <a:pathLst>
                      <a:path w="21600" h="106200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5400"/>
                        </a:lnTo>
                        <a:arcTo wR="10800" hR="10800" stAng="10800000" swAng="-5400000"/>
                        <a:lnTo>
                          <a:pt x="10800" y="106200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rot="19800000">
                    <a:off x="5435280" y="759960"/>
                    <a:ext cx="22320" cy="38880"/>
                  </a:xfrm>
                  <a:custGeom>
                    <a:avLst/>
                    <a:gdLst>
                      <a:gd name="textAreaLeft" fmla="*/ 3240 w 22320"/>
                      <a:gd name="textAreaRight" fmla="*/ 19080 w 22320"/>
                      <a:gd name="textAreaTop" fmla="*/ 3240 h 38880"/>
                      <a:gd name="textAreaBottom" fmla="*/ 35640 h 38880"/>
                    </a:gdLst>
                    <a:ahLst/>
                    <a:rect l="textAreaLeft" t="textAreaTop" r="textAreaRight" b="textAreaBottom"/>
                    <a:pathLst>
                      <a:path w="21600" h="37371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26571"/>
                        </a:lnTo>
                        <a:arcTo wR="10800" hR="10800" stAng="10800000" swAng="-5400000"/>
                        <a:lnTo>
                          <a:pt x="10800" y="37371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" name=""/>
                <p:cNvGrpSpPr/>
                <p:nvPr/>
              </p:nvGrpSpPr>
              <p:grpSpPr>
                <a:xfrm>
                  <a:off x="5255280" y="658440"/>
                  <a:ext cx="128880" cy="132120"/>
                  <a:chOff x="5255280" y="658440"/>
                  <a:chExt cx="128880" cy="13212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 rot="2700000">
                    <a:off x="5317200" y="648720"/>
                    <a:ext cx="25560" cy="127080"/>
                  </a:xfrm>
                  <a:custGeom>
                    <a:avLst/>
                    <a:gdLst>
                      <a:gd name="textAreaLeft" fmla="*/ 3600 w 25560"/>
                      <a:gd name="textAreaRight" fmla="*/ 21960 w 25560"/>
                      <a:gd name="textAreaTop" fmla="*/ 3600 h 127080"/>
                      <a:gd name="textAreaBottom" fmla="*/ 123480 h 127080"/>
                    </a:gdLst>
                    <a:ahLst/>
                    <a:rect l="textAreaLeft" t="textAreaTop" r="textAreaRight" b="textAreaBottom"/>
                    <a:pathLst>
                      <a:path w="21600" h="106200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95400"/>
                        </a:lnTo>
                        <a:arcTo wR="10800" hR="10800" stAng="10800000" swAng="-5400000"/>
                        <a:lnTo>
                          <a:pt x="10800" y="106200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rot="2700000">
                    <a:off x="5265360" y="749520"/>
                    <a:ext cx="22320" cy="38880"/>
                  </a:xfrm>
                  <a:custGeom>
                    <a:avLst/>
                    <a:gdLst>
                      <a:gd name="textAreaLeft" fmla="*/ 3240 w 22320"/>
                      <a:gd name="textAreaRight" fmla="*/ 19080 w 22320"/>
                      <a:gd name="textAreaTop" fmla="*/ 3240 h 38880"/>
                      <a:gd name="textAreaBottom" fmla="*/ 35640 h 38880"/>
                    </a:gdLst>
                    <a:ahLst/>
                    <a:rect l="textAreaLeft" t="textAreaTop" r="textAreaRight" b="textAreaBottom"/>
                    <a:pathLst>
                      <a:path w="21600" h="37371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26571"/>
                        </a:lnTo>
                        <a:arcTo wR="10800" hR="10800" stAng="10800000" swAng="-5400000"/>
                        <a:lnTo>
                          <a:pt x="10800" y="37371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0" bIns="-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7" name=""/>
            <p:cNvGrpSpPr/>
            <p:nvPr/>
          </p:nvGrpSpPr>
          <p:grpSpPr>
            <a:xfrm>
              <a:off x="5199120" y="907920"/>
              <a:ext cx="403200" cy="149400"/>
              <a:chOff x="5199120" y="907920"/>
              <a:chExt cx="403200" cy="149400"/>
            </a:xfrm>
          </p:grpSpPr>
          <p:sp>
            <p:nvSpPr>
              <p:cNvPr id="958" name=""/>
              <p:cNvSpPr txBox="1"/>
              <p:nvPr/>
            </p:nvSpPr>
            <p:spPr>
              <a:xfrm>
                <a:off x="5202360" y="9079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訪問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959" name=""/>
              <p:cNvSpPr txBox="1"/>
              <p:nvPr/>
            </p:nvSpPr>
            <p:spPr>
              <a:xfrm>
                <a:off x="5199120" y="9079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訪問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960" name=""/>
          <p:cNvGrpSpPr/>
          <p:nvPr/>
        </p:nvGrpSpPr>
        <p:grpSpPr>
          <a:xfrm>
            <a:off x="4422600" y="608040"/>
            <a:ext cx="403560" cy="449280"/>
            <a:chOff x="4422600" y="608040"/>
            <a:chExt cx="403560" cy="449280"/>
          </a:xfrm>
        </p:grpSpPr>
        <p:grpSp>
          <p:nvGrpSpPr>
            <p:cNvPr id="961" name=""/>
            <p:cNvGrpSpPr/>
            <p:nvPr/>
          </p:nvGrpSpPr>
          <p:grpSpPr>
            <a:xfrm>
              <a:off x="4448160" y="608040"/>
              <a:ext cx="360360" cy="365400"/>
              <a:chOff x="4448160" y="608040"/>
              <a:chExt cx="360360" cy="36540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4461120" y="676080"/>
                <a:ext cx="277560" cy="297360"/>
                <a:chOff x="4461120" y="676080"/>
                <a:chExt cx="277560" cy="297360"/>
              </a:xfrm>
            </p:grpSpPr>
            <p:sp>
              <p:nvSpPr>
                <p:cNvPr id="963" name=""/>
                <p:cNvSpPr/>
                <p:nvPr/>
              </p:nvSpPr>
              <p:spPr>
                <a:xfrm rot="10800000">
                  <a:off x="4588920" y="870840"/>
                  <a:ext cx="149760" cy="44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rot="7200000">
                  <a:off x="4601880" y="77580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rot="7200000">
                  <a:off x="4551120" y="749520"/>
                  <a:ext cx="18972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rot="7200000">
                  <a:off x="4535640" y="73764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rot="7200000">
                  <a:off x="4478760" y="75888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rot="7200000">
                  <a:off x="4480920" y="783360"/>
                  <a:ext cx="178560" cy="149760"/>
                </a:xfrm>
                <a:prstGeom prst="roundRect">
                  <a:avLst>
                    <a:gd name="adj" fmla="val 34236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9" name=""/>
              <p:cNvSpPr/>
              <p:nvPr/>
            </p:nvSpPr>
            <p:spPr>
              <a:xfrm>
                <a:off x="4448160" y="608040"/>
                <a:ext cx="360360" cy="21564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448160" y="608040"/>
                <a:ext cx="360360" cy="215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1" name=""/>
              <p:cNvGrpSpPr/>
              <p:nvPr/>
            </p:nvGrpSpPr>
            <p:grpSpPr>
              <a:xfrm>
                <a:off x="4461120" y="676080"/>
                <a:ext cx="277560" cy="297360"/>
                <a:chOff x="4461120" y="676080"/>
                <a:chExt cx="277560" cy="297360"/>
              </a:xfrm>
            </p:grpSpPr>
            <p:sp>
              <p:nvSpPr>
                <p:cNvPr id="972" name=""/>
                <p:cNvSpPr/>
                <p:nvPr/>
              </p:nvSpPr>
              <p:spPr>
                <a:xfrm rot="10800000">
                  <a:off x="4588920" y="870840"/>
                  <a:ext cx="149760" cy="44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rot="7200000">
                  <a:off x="4601880" y="77580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rot="7200000">
                  <a:off x="4551120" y="749520"/>
                  <a:ext cx="18972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rot="7200000">
                  <a:off x="4535640" y="73764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7200000">
                  <a:off x="4478760" y="75888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7200000">
                  <a:off x="4480920" y="783360"/>
                  <a:ext cx="178560" cy="149760"/>
                </a:xfrm>
                <a:prstGeom prst="roundRect">
                  <a:avLst>
                    <a:gd name="adj" fmla="val 34236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8" name=""/>
            <p:cNvGrpSpPr/>
            <p:nvPr/>
          </p:nvGrpSpPr>
          <p:grpSpPr>
            <a:xfrm>
              <a:off x="4422600" y="907920"/>
              <a:ext cx="403560" cy="149400"/>
              <a:chOff x="4422600" y="907920"/>
              <a:chExt cx="403560" cy="149400"/>
            </a:xfrm>
          </p:grpSpPr>
          <p:sp>
            <p:nvSpPr>
              <p:cNvPr id="979" name=""/>
              <p:cNvSpPr txBox="1"/>
              <p:nvPr/>
            </p:nvSpPr>
            <p:spPr>
              <a:xfrm>
                <a:off x="4425840" y="90792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再提出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980" name=""/>
              <p:cNvSpPr txBox="1"/>
              <p:nvPr/>
            </p:nvSpPr>
            <p:spPr>
              <a:xfrm>
                <a:off x="4422600" y="90792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再提出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981" name=""/>
          <p:cNvGrpSpPr/>
          <p:nvPr/>
        </p:nvGrpSpPr>
        <p:grpSpPr>
          <a:xfrm>
            <a:off x="3645000" y="608040"/>
            <a:ext cx="403200" cy="449280"/>
            <a:chOff x="3645000" y="608040"/>
            <a:chExt cx="403200" cy="449280"/>
          </a:xfrm>
        </p:grpSpPr>
        <p:grpSp>
          <p:nvGrpSpPr>
            <p:cNvPr id="982" name=""/>
            <p:cNvGrpSpPr/>
            <p:nvPr/>
          </p:nvGrpSpPr>
          <p:grpSpPr>
            <a:xfrm>
              <a:off x="3656160" y="608040"/>
              <a:ext cx="360360" cy="365400"/>
              <a:chOff x="3656160" y="608040"/>
              <a:chExt cx="360360" cy="36540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3669120" y="676080"/>
                <a:ext cx="277560" cy="297360"/>
                <a:chOff x="3669120" y="676080"/>
                <a:chExt cx="277560" cy="297360"/>
              </a:xfrm>
            </p:grpSpPr>
            <p:sp>
              <p:nvSpPr>
                <p:cNvPr id="984" name=""/>
                <p:cNvSpPr/>
                <p:nvPr/>
              </p:nvSpPr>
              <p:spPr>
                <a:xfrm rot="10800000">
                  <a:off x="3796920" y="870840"/>
                  <a:ext cx="149760" cy="44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7200000">
                  <a:off x="3809880" y="77580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rot="7200000">
                  <a:off x="3759120" y="749520"/>
                  <a:ext cx="18972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rot="7200000">
                  <a:off x="3743640" y="73764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7200000">
                  <a:off x="3686760" y="75888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rot="7200000">
                  <a:off x="3688920" y="783360"/>
                  <a:ext cx="178560" cy="149760"/>
                </a:xfrm>
                <a:prstGeom prst="roundRect">
                  <a:avLst>
                    <a:gd name="adj" fmla="val 34236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0" name=""/>
              <p:cNvSpPr/>
              <p:nvPr/>
            </p:nvSpPr>
            <p:spPr>
              <a:xfrm>
                <a:off x="3656160" y="608040"/>
                <a:ext cx="360360" cy="21564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656160" y="608040"/>
                <a:ext cx="360360" cy="215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2" name=""/>
              <p:cNvGrpSpPr/>
              <p:nvPr/>
            </p:nvGrpSpPr>
            <p:grpSpPr>
              <a:xfrm>
                <a:off x="3669120" y="676080"/>
                <a:ext cx="277560" cy="297360"/>
                <a:chOff x="3669120" y="676080"/>
                <a:chExt cx="277560" cy="297360"/>
              </a:xfrm>
            </p:grpSpPr>
            <p:sp>
              <p:nvSpPr>
                <p:cNvPr id="993" name=""/>
                <p:cNvSpPr/>
                <p:nvPr/>
              </p:nvSpPr>
              <p:spPr>
                <a:xfrm rot="10800000">
                  <a:off x="3796920" y="870840"/>
                  <a:ext cx="149760" cy="442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7200000">
                  <a:off x="3809880" y="77580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rot="7200000">
                  <a:off x="3759120" y="749520"/>
                  <a:ext cx="18972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rot="7200000">
                  <a:off x="3743640" y="73764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7200000">
                  <a:off x="3686760" y="758880"/>
                  <a:ext cx="145080" cy="3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7200000">
                  <a:off x="3688920" y="783360"/>
                  <a:ext cx="178560" cy="149760"/>
                </a:xfrm>
                <a:prstGeom prst="roundRect">
                  <a:avLst>
                    <a:gd name="adj" fmla="val 34236"/>
                  </a:avLst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9" name=""/>
            <p:cNvGrpSpPr/>
            <p:nvPr/>
          </p:nvGrpSpPr>
          <p:grpSpPr>
            <a:xfrm>
              <a:off x="3645000" y="907920"/>
              <a:ext cx="403200" cy="149400"/>
              <a:chOff x="3645000" y="907920"/>
              <a:chExt cx="403200" cy="149400"/>
            </a:xfrm>
          </p:grpSpPr>
          <p:sp>
            <p:nvSpPr>
              <p:cNvPr id="1000" name=""/>
              <p:cNvSpPr txBox="1"/>
              <p:nvPr/>
            </p:nvSpPr>
            <p:spPr>
              <a:xfrm>
                <a:off x="3648240" y="9079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提出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>
                <a:off x="3645000" y="9079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提出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002" name=""/>
          <p:cNvGrpSpPr/>
          <p:nvPr/>
        </p:nvGrpSpPr>
        <p:grpSpPr>
          <a:xfrm>
            <a:off x="7524720" y="3537000"/>
            <a:ext cx="403200" cy="401760"/>
            <a:chOff x="7524720" y="3537000"/>
            <a:chExt cx="403200" cy="401760"/>
          </a:xfrm>
        </p:grpSpPr>
        <p:grpSp>
          <p:nvGrpSpPr>
            <p:cNvPr id="1003" name=""/>
            <p:cNvGrpSpPr/>
            <p:nvPr/>
          </p:nvGrpSpPr>
          <p:grpSpPr>
            <a:xfrm>
              <a:off x="7545240" y="3537000"/>
              <a:ext cx="360360" cy="270000"/>
              <a:chOff x="7545240" y="3537000"/>
              <a:chExt cx="360360" cy="270000"/>
            </a:xfrm>
          </p:grpSpPr>
          <p:sp>
            <p:nvSpPr>
              <p:cNvPr id="1004" name=""/>
              <p:cNvSpPr/>
              <p:nvPr/>
            </p:nvSpPr>
            <p:spPr>
              <a:xfrm>
                <a:off x="7545240" y="3537000"/>
                <a:ext cx="360360" cy="270000"/>
              </a:xfrm>
              <a:prstGeom prst="roundRect">
                <a:avLst>
                  <a:gd name="adj" fmla="val 2389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5" name=""/>
              <p:cNvGrpSpPr/>
              <p:nvPr/>
            </p:nvGrpSpPr>
            <p:grpSpPr>
              <a:xfrm>
                <a:off x="7545240" y="3537000"/>
                <a:ext cx="360360" cy="270000"/>
                <a:chOff x="7545240" y="3537000"/>
                <a:chExt cx="360360" cy="2700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7545240" y="3537000"/>
                  <a:ext cx="360360" cy="270000"/>
                </a:xfrm>
                <a:prstGeom prst="roundRect">
                  <a:avLst>
                    <a:gd name="adj" fmla="val 2389"/>
                  </a:avLst>
                </a:prstGeom>
                <a:gradFill rotWithShape="0">
                  <a:gsLst>
                    <a:gs pos="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7" name=""/>
                <p:cNvGrpSpPr/>
                <p:nvPr/>
              </p:nvGrpSpPr>
              <p:grpSpPr>
                <a:xfrm>
                  <a:off x="7549200" y="3558600"/>
                  <a:ext cx="352800" cy="243720"/>
                  <a:chOff x="7549200" y="3558600"/>
                  <a:chExt cx="352800" cy="24372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>
                    <a:off x="7549200" y="3569760"/>
                    <a:ext cx="352800" cy="232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7549200" y="3558600"/>
                    <a:ext cx="352800" cy="11160"/>
                  </a:xfrm>
                  <a:prstGeom prst="rect">
                    <a:avLst/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7854480" y="3541320"/>
                  <a:ext cx="44640" cy="14040"/>
                  <a:chOff x="7854480" y="3541320"/>
                  <a:chExt cx="44640" cy="1404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>
                    <a:off x="7854480" y="3541320"/>
                    <a:ext cx="14040" cy="140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0066ff"/>
                      </a:gs>
                      <a:gs pos="100000">
                        <a:srgbClr val="002f75"/>
                      </a:gs>
                    </a:gsLst>
                    <a:lin ang="5400000"/>
                  </a:gra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7869600" y="3541320"/>
                    <a:ext cx="14040" cy="140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0066ff"/>
                      </a:gs>
                      <a:gs pos="100000">
                        <a:srgbClr val="002f75"/>
                      </a:gs>
                    </a:gsLst>
                    <a:lin ang="5400000"/>
                  </a:gra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7885080" y="3541320"/>
                    <a:ext cx="14040" cy="140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5400000"/>
                  </a:gra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7887960" y="3543120"/>
                    <a:ext cx="9000" cy="9720"/>
                    <a:chOff x="7887960" y="3543120"/>
                    <a:chExt cx="9000" cy="972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 rot="8100000">
                      <a:off x="7886520" y="3547440"/>
                      <a:ext cx="1152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rot="13500000">
                      <a:off x="7886520" y="3547080"/>
                      <a:ext cx="1152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"/>
                  <p:cNvSpPr/>
                  <p:nvPr/>
                </p:nvSpPr>
                <p:spPr>
                  <a:xfrm>
                    <a:off x="7857000" y="3551760"/>
                    <a:ext cx="864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7871040" y="3543840"/>
                    <a:ext cx="11520" cy="9720"/>
                    <a:chOff x="7871040" y="3543840"/>
                    <a:chExt cx="11520" cy="972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7871040" y="3546720"/>
                      <a:ext cx="864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7878960" y="3547800"/>
                      <a:ext cx="720" cy="5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7871040" y="3547800"/>
                      <a:ext cx="720" cy="5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7871040" y="3552840"/>
                      <a:ext cx="864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7873920" y="3543840"/>
                      <a:ext cx="864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7881840" y="3544560"/>
                      <a:ext cx="720" cy="5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7880760" y="3549600"/>
                      <a:ext cx="180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7524720" y="3789360"/>
              <a:ext cx="403200" cy="149400"/>
              <a:chOff x="7524720" y="3789360"/>
              <a:chExt cx="403200" cy="149400"/>
            </a:xfrm>
          </p:grpSpPr>
          <p:sp>
            <p:nvSpPr>
              <p:cNvPr id="1027" name=""/>
              <p:cNvSpPr txBox="1"/>
              <p:nvPr/>
            </p:nvSpPr>
            <p:spPr>
              <a:xfrm>
                <a:off x="7527960" y="378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Web</a:t>
                </a: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公開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028" name=""/>
              <p:cNvSpPr txBox="1"/>
              <p:nvPr/>
            </p:nvSpPr>
            <p:spPr>
              <a:xfrm>
                <a:off x="7524720" y="378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Web</a:t>
                </a: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公開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029" name=""/>
          <p:cNvGrpSpPr/>
          <p:nvPr/>
        </p:nvGrpSpPr>
        <p:grpSpPr>
          <a:xfrm>
            <a:off x="6754680" y="692280"/>
            <a:ext cx="403200" cy="369720"/>
            <a:chOff x="6754680" y="692280"/>
            <a:chExt cx="403200" cy="369720"/>
          </a:xfrm>
        </p:grpSpPr>
        <p:grpSp>
          <p:nvGrpSpPr>
            <p:cNvPr id="1030" name=""/>
            <p:cNvGrpSpPr/>
            <p:nvPr/>
          </p:nvGrpSpPr>
          <p:grpSpPr>
            <a:xfrm>
              <a:off x="6775560" y="692280"/>
              <a:ext cx="360360" cy="269640"/>
              <a:chOff x="6775560" y="692280"/>
              <a:chExt cx="360360" cy="269640"/>
            </a:xfrm>
          </p:grpSpPr>
          <p:sp>
            <p:nvSpPr>
              <p:cNvPr id="1031" name=""/>
              <p:cNvSpPr/>
              <p:nvPr/>
            </p:nvSpPr>
            <p:spPr>
              <a:xfrm>
                <a:off x="6775560" y="692280"/>
                <a:ext cx="360360" cy="269640"/>
              </a:xfrm>
              <a:prstGeom prst="roundRect">
                <a:avLst>
                  <a:gd name="adj" fmla="val 2389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"/>
              <p:cNvGrpSpPr/>
              <p:nvPr/>
            </p:nvGrpSpPr>
            <p:grpSpPr>
              <a:xfrm>
                <a:off x="6775560" y="692280"/>
                <a:ext cx="360360" cy="269640"/>
                <a:chOff x="6775560" y="692280"/>
                <a:chExt cx="360360" cy="26964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775560" y="692280"/>
                  <a:ext cx="360360" cy="269640"/>
                </a:xfrm>
                <a:prstGeom prst="roundRect">
                  <a:avLst>
                    <a:gd name="adj" fmla="val 2389"/>
                  </a:avLst>
                </a:prstGeom>
                <a:gradFill rotWithShape="0">
                  <a:gsLst>
                    <a:gs pos="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4" name=""/>
                <p:cNvGrpSpPr/>
                <p:nvPr/>
              </p:nvGrpSpPr>
              <p:grpSpPr>
                <a:xfrm>
                  <a:off x="6779520" y="713880"/>
                  <a:ext cx="352800" cy="243360"/>
                  <a:chOff x="6779520" y="713880"/>
                  <a:chExt cx="352800" cy="243360"/>
                </a:xfrm>
              </p:grpSpPr>
              <p:sp>
                <p:nvSpPr>
                  <p:cNvPr id="1035" name=""/>
                  <p:cNvSpPr/>
                  <p:nvPr/>
                </p:nvSpPr>
                <p:spPr>
                  <a:xfrm>
                    <a:off x="6779520" y="725040"/>
                    <a:ext cx="352800" cy="232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6779520" y="713880"/>
                    <a:ext cx="352800" cy="11160"/>
                  </a:xfrm>
                  <a:prstGeom prst="rect">
                    <a:avLst/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7084800" y="696600"/>
                  <a:ext cx="44640" cy="14040"/>
                  <a:chOff x="7084800" y="696600"/>
                  <a:chExt cx="44640" cy="1404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7084800" y="696600"/>
                    <a:ext cx="14040" cy="140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0066ff"/>
                      </a:gs>
                      <a:gs pos="100000">
                        <a:srgbClr val="002f75"/>
                      </a:gs>
                    </a:gsLst>
                    <a:lin ang="5400000"/>
                  </a:gra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7099920" y="696600"/>
                    <a:ext cx="14040" cy="140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0066ff"/>
                      </a:gs>
                      <a:gs pos="100000">
                        <a:srgbClr val="002f75"/>
                      </a:gs>
                    </a:gsLst>
                    <a:lin ang="5400000"/>
                  </a:gra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7115400" y="696600"/>
                    <a:ext cx="14040" cy="140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cc0000"/>
                      </a:gs>
                      <a:gs pos="100000">
                        <a:srgbClr val="5e0000"/>
                      </a:gs>
                    </a:gsLst>
                    <a:lin ang="5400000"/>
                  </a:gra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7118280" y="698400"/>
                    <a:ext cx="9000" cy="9720"/>
                    <a:chOff x="7118280" y="698400"/>
                    <a:chExt cx="9000" cy="972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 rot="8100000">
                      <a:off x="7116840" y="702720"/>
                      <a:ext cx="1152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rot="13500000">
                      <a:off x="7116840" y="702360"/>
                      <a:ext cx="1152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7087320" y="707040"/>
                    <a:ext cx="8640" cy="1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7101360" y="699120"/>
                    <a:ext cx="11520" cy="9720"/>
                    <a:chOff x="7101360" y="699120"/>
                    <a:chExt cx="11520" cy="972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101360" y="702000"/>
                      <a:ext cx="864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7109280" y="703080"/>
                      <a:ext cx="720" cy="5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7101360" y="703080"/>
                      <a:ext cx="720" cy="5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7101360" y="708120"/>
                      <a:ext cx="864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7104240" y="699120"/>
                      <a:ext cx="8640" cy="1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000" bIns="-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7112160" y="699840"/>
                      <a:ext cx="720" cy="5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7111080" y="704880"/>
                      <a:ext cx="1800" cy="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53" name=""/>
            <p:cNvGrpSpPr/>
            <p:nvPr/>
          </p:nvGrpSpPr>
          <p:grpSpPr>
            <a:xfrm>
              <a:off x="6754680" y="912960"/>
              <a:ext cx="403200" cy="149040"/>
              <a:chOff x="6754680" y="912960"/>
              <a:chExt cx="403200" cy="149040"/>
            </a:xfrm>
          </p:grpSpPr>
          <p:sp>
            <p:nvSpPr>
              <p:cNvPr id="1054" name=""/>
              <p:cNvSpPr txBox="1"/>
              <p:nvPr/>
            </p:nvSpPr>
            <p:spPr>
              <a:xfrm>
                <a:off x="6757920" y="9129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公開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6754680" y="91296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公開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056" name=""/>
          <p:cNvGrpSpPr/>
          <p:nvPr/>
        </p:nvGrpSpPr>
        <p:grpSpPr>
          <a:xfrm>
            <a:off x="6737400" y="1319040"/>
            <a:ext cx="403200" cy="459000"/>
            <a:chOff x="6737400" y="1319040"/>
            <a:chExt cx="403200" cy="459000"/>
          </a:xfrm>
        </p:grpSpPr>
        <p:grpSp>
          <p:nvGrpSpPr>
            <p:cNvPr id="1057" name=""/>
            <p:cNvGrpSpPr/>
            <p:nvPr/>
          </p:nvGrpSpPr>
          <p:grpSpPr>
            <a:xfrm>
              <a:off x="6759720" y="1319040"/>
              <a:ext cx="360360" cy="344520"/>
              <a:chOff x="6759720" y="1319040"/>
              <a:chExt cx="360360" cy="3445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6759720" y="1319040"/>
                <a:ext cx="360360" cy="344520"/>
                <a:chOff x="6759720" y="1319040"/>
                <a:chExt cx="360360" cy="34452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6806880" y="1344600"/>
                  <a:ext cx="288720" cy="197280"/>
                  <a:chOff x="6806880" y="1344600"/>
                  <a:chExt cx="288720" cy="197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6806880" y="1350000"/>
                    <a:ext cx="288720" cy="191880"/>
                  </a:xfrm>
                  <a:prstGeom prst="roundRect">
                    <a:avLst>
                      <a:gd name="adj" fmla="val 1005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6818760" y="1344600"/>
                    <a:ext cx="264600" cy="191880"/>
                    <a:chOff x="6818760" y="1344600"/>
                    <a:chExt cx="264600" cy="19188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681876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683568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685332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687060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688752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690480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692208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693936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695664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697392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699156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700848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702576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704304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706032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077600" y="134460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78" name=""/>
                <p:cNvSpPr/>
                <p:nvPr/>
              </p:nvSpPr>
              <p:spPr>
                <a:xfrm>
                  <a:off x="6853680" y="1319040"/>
                  <a:ext cx="205920" cy="188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6759720" y="1459440"/>
                  <a:ext cx="360360" cy="20412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843600" y="1447560"/>
                  <a:ext cx="264240" cy="19188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766920" y="1459440"/>
                  <a:ext cx="64440" cy="186120"/>
                </a:xfrm>
                <a:custGeom>
                  <a:avLst/>
                  <a:gdLst>
                    <a:gd name="textAreaLeft" fmla="*/ 8640 w 64440"/>
                    <a:gd name="textAreaRight" fmla="*/ 55800 w 64440"/>
                    <a:gd name="textAreaTop" fmla="*/ 8640 h 186120"/>
                    <a:gd name="textAreaBottom" fmla="*/ 177480 h 186120"/>
                  </a:gdLst>
                  <a:ahLst/>
                  <a:rect l="textAreaLeft" t="textAreaTop" r="textAreaRight" b="textAreaBottom"/>
                  <a:pathLst>
                    <a:path w="21600" h="62160">
                      <a:moveTo>
                        <a:pt x="10035" y="0"/>
                      </a:moveTo>
                      <a:arcTo wR="10035" hR="10035" stAng="16200000" swAng="-5400000"/>
                      <a:lnTo>
                        <a:pt x="0" y="52125"/>
                      </a:lnTo>
                      <a:arcTo wR="10035" hR="10035" stAng="10800000" swAng="-5400000"/>
                      <a:lnTo>
                        <a:pt x="11565" y="62160"/>
                      </a:lnTo>
                      <a:arcTo wR="10035" hR="10035" stAng="5400000" swAng="-5400000"/>
                      <a:lnTo>
                        <a:pt x="21600" y="10035"/>
                      </a:lnTo>
                      <a:arcTo wR="10035" hR="10035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769440" y="1447560"/>
                  <a:ext cx="59400" cy="19188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7920 h 191880"/>
                    <a:gd name="textAreaBottom" fmla="*/ 183960 h 191880"/>
                  </a:gdLst>
                  <a:ahLst/>
                  <a:rect l="textAreaLeft" t="textAreaTop" r="textAreaRight" b="textAreaBottom"/>
                  <a:pathLst>
                    <a:path w="21600" h="69484">
                      <a:moveTo>
                        <a:pt x="10035" y="0"/>
                      </a:moveTo>
                      <a:arcTo wR="10035" hR="10035" stAng="16200000" swAng="-5400000"/>
                      <a:lnTo>
                        <a:pt x="0" y="59449"/>
                      </a:lnTo>
                      <a:arcTo wR="10035" hR="10035" stAng="10800000" swAng="-5400000"/>
                      <a:lnTo>
                        <a:pt x="11565" y="69484"/>
                      </a:lnTo>
                      <a:arcTo wR="10035" hR="10035" stAng="5400000" swAng="-5400000"/>
                      <a:lnTo>
                        <a:pt x="21600" y="10035"/>
                      </a:lnTo>
                      <a:arcTo wR="10035" hR="10035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6759720" y="1319040"/>
                <a:ext cx="360360" cy="344520"/>
                <a:chOff x="6759720" y="1319040"/>
                <a:chExt cx="360360" cy="344520"/>
              </a:xfrm>
            </p:grpSpPr>
            <p:grpSp>
              <p:nvGrpSpPr>
                <p:cNvPr id="1084" name=""/>
                <p:cNvGrpSpPr/>
                <p:nvPr/>
              </p:nvGrpSpPr>
              <p:grpSpPr>
                <a:xfrm>
                  <a:off x="6806880" y="1344600"/>
                  <a:ext cx="288360" cy="197640"/>
                  <a:chOff x="6806880" y="1344600"/>
                  <a:chExt cx="288360" cy="19764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6806880" y="1350000"/>
                    <a:ext cx="288360" cy="192240"/>
                  </a:xfrm>
                  <a:prstGeom prst="roundRect">
                    <a:avLst>
                      <a:gd name="adj" fmla="val 10056"/>
                    </a:avLst>
                  </a:prstGeom>
                  <a:gradFill rotWithShape="0">
                    <a:gsLst>
                      <a:gs pos="0">
                        <a:srgbClr val="c58d8d"/>
                      </a:gs>
                      <a:gs pos="100000">
                        <a:srgbClr val="8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86" name=""/>
                  <p:cNvGrpSpPr/>
                  <p:nvPr/>
                </p:nvGrpSpPr>
                <p:grpSpPr>
                  <a:xfrm>
                    <a:off x="6818760" y="1344600"/>
                    <a:ext cx="264240" cy="192240"/>
                    <a:chOff x="6818760" y="1344600"/>
                    <a:chExt cx="264240" cy="192240"/>
                  </a:xfrm>
                </p:grpSpPr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681876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683568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685332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687024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688752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690480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692208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693936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695664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697392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699120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700848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702540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704268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705996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7077240" y="134460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03" name=""/>
                <p:cNvGrpSpPr/>
                <p:nvPr/>
              </p:nvGrpSpPr>
              <p:grpSpPr>
                <a:xfrm>
                  <a:off x="6853680" y="1319040"/>
                  <a:ext cx="205560" cy="188640"/>
                  <a:chOff x="6853680" y="1319040"/>
                  <a:chExt cx="205560" cy="18864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6853680" y="1319040"/>
                    <a:ext cx="205560" cy="18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1c1c1"/>
                      </a:gs>
                    </a:gsLst>
                    <a:lin ang="5400000"/>
                  </a:gradFill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 txBox="1"/>
                  <p:nvPr/>
                </p:nvSpPr>
                <p:spPr>
                  <a:xfrm>
                    <a:off x="6922080" y="1335960"/>
                    <a:ext cx="82080" cy="30960"/>
                  </a:xfrm>
                  <a:prstGeom prst="rect">
                    <a:avLst/>
                  </a:prstGeom>
                </p:spPr>
                <p:txBody>
                  <a:bodyPr wrap="none" lIns="90000" rIns="90000" tIns="-15480" bIns="-1548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0">
                          <a:noFill/>
                        </a:ln>
                        <a:solidFill>
                          <a:srgbClr val="808080"/>
                        </a:solidFill>
                        <a:latin typeface="ＭＳ Ｐゴシック"/>
                      </a:rPr>
                      <a:t>FAX</a:t>
                    </a:r>
                    <a:endParaRPr b="0" lang="en-US" sz="1800" spc="1" strike="noStrike">
                      <a:ln w="0">
                        <a:noFill/>
                      </a:ln>
                      <a:solidFill>
                        <a:srgbClr val="808080"/>
                      </a:solidFill>
                      <a:latin typeface="ＭＳ Ｐゴシック"/>
                      <a:ea typeface="ＭＳ Ｐゴシック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6870600" y="1387440"/>
                    <a:ext cx="171720" cy="17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6870600" y="1421280"/>
                    <a:ext cx="171720" cy="17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8" name=""/>
                <p:cNvGrpSpPr/>
                <p:nvPr/>
              </p:nvGrpSpPr>
              <p:grpSpPr>
                <a:xfrm>
                  <a:off x="6759720" y="1447560"/>
                  <a:ext cx="360360" cy="216000"/>
                  <a:chOff x="6759720" y="1447560"/>
                  <a:chExt cx="360360" cy="216000"/>
                </a:xfrm>
              </p:grpSpPr>
              <p:sp>
                <p:nvSpPr>
                  <p:cNvPr id="1109" name=""/>
                  <p:cNvSpPr/>
                  <p:nvPr/>
                </p:nvSpPr>
                <p:spPr>
                  <a:xfrm>
                    <a:off x="6759720" y="1459440"/>
                    <a:ext cx="360360" cy="204120"/>
                  </a:xfrm>
                  <a:prstGeom prst="roundRect">
                    <a:avLst>
                      <a:gd name="adj" fmla="val 10056"/>
                    </a:avLst>
                  </a:prstGeom>
                  <a:gradFill rotWithShape="0">
                    <a:gsLst>
                      <a:gs pos="0">
                        <a:srgbClr val="4c4c4c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843960" y="1447560"/>
                    <a:ext cx="264240" cy="191880"/>
                  </a:xfrm>
                  <a:prstGeom prst="roundRect">
                    <a:avLst>
                      <a:gd name="adj" fmla="val 10056"/>
                    </a:avLst>
                  </a:prstGeom>
                  <a:gradFill rotWithShape="0">
                    <a:gsLst>
                      <a:gs pos="0">
                        <a:srgbClr val="4c4c4c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766920" y="1459440"/>
                    <a:ext cx="64440" cy="186480"/>
                  </a:xfrm>
                  <a:custGeom>
                    <a:avLst/>
                    <a:gdLst>
                      <a:gd name="textAreaLeft" fmla="*/ 8640 w 64440"/>
                      <a:gd name="textAreaRight" fmla="*/ 55800 w 64440"/>
                      <a:gd name="textAreaTop" fmla="*/ 8640 h 186480"/>
                      <a:gd name="textAreaBottom" fmla="*/ 177840 h 186480"/>
                    </a:gdLst>
                    <a:ahLst/>
                    <a:rect l="textAreaLeft" t="textAreaTop" r="textAreaRight" b="textAreaBottom"/>
                    <a:pathLst>
                      <a:path w="21600" h="62280">
                        <a:moveTo>
                          <a:pt x="10035" y="0"/>
                        </a:moveTo>
                        <a:arcTo wR="10035" hR="10035" stAng="16200000" swAng="-5400000"/>
                        <a:lnTo>
                          <a:pt x="0" y="52245"/>
                        </a:lnTo>
                        <a:arcTo wR="10035" hR="10035" stAng="10800000" swAng="-5400000"/>
                        <a:lnTo>
                          <a:pt x="11565" y="62280"/>
                        </a:lnTo>
                        <a:arcTo wR="10035" hR="10035" stAng="5400000" swAng="-5400000"/>
                        <a:lnTo>
                          <a:pt x="21600" y="10035"/>
                        </a:lnTo>
                        <a:arcTo wR="10035" hR="10035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855840" y="1531800"/>
                    <a:ext cx="95760" cy="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64646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13" name=""/>
                  <p:cNvGrpSpPr/>
                  <p:nvPr/>
                </p:nvGrpSpPr>
                <p:grpSpPr>
                  <a:xfrm>
                    <a:off x="6861600" y="1537560"/>
                    <a:ext cx="84240" cy="84240"/>
                    <a:chOff x="6861600" y="1537560"/>
                    <a:chExt cx="84240" cy="84240"/>
                  </a:xfrm>
                </p:grpSpPr>
                <p:sp>
                  <p:nvSpPr>
                    <p:cNvPr id="1114" name=""/>
                    <p:cNvSpPr/>
                    <p:nvPr/>
                  </p:nvSpPr>
                  <p:spPr>
                    <a:xfrm>
                      <a:off x="6861600" y="153756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 rot="10800000">
                      <a:off x="6861600" y="153756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162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"/>
                    <p:cNvSpPr/>
                    <p:nvPr/>
                  </p:nvSpPr>
                  <p:spPr>
                    <a:xfrm rot="5400000">
                      <a:off x="6861600" y="153756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rot="16200000">
                      <a:off x="6861600" y="153756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>
                      <a:off x="6885720" y="1561320"/>
                      <a:ext cx="3600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9" name=""/>
                  <p:cNvSpPr/>
                  <p:nvPr/>
                </p:nvSpPr>
                <p:spPr>
                  <a:xfrm>
                    <a:off x="6868080" y="1471320"/>
                    <a:ext cx="21600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6873840" y="1477440"/>
                    <a:ext cx="204120" cy="36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d0e78d"/>
                      </a:gs>
                      <a:gs pos="100000">
                        <a:srgbClr val="99c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6963840" y="15314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7012080" y="15314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7059960" y="15314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6963840" y="15555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7012080" y="15555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7059960" y="15555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6963840" y="157932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7012080" y="157932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059960" y="157932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963840" y="16034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12080" y="16034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059960" y="16034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6769440" y="1447560"/>
                    <a:ext cx="59760" cy="191880"/>
                  </a:xfrm>
                  <a:custGeom>
                    <a:avLst/>
                    <a:gdLst>
                      <a:gd name="textAreaLeft" fmla="*/ 7920 w 59760"/>
                      <a:gd name="textAreaRight" fmla="*/ 51840 w 59760"/>
                      <a:gd name="textAreaTop" fmla="*/ 7920 h 191880"/>
                      <a:gd name="textAreaBottom" fmla="*/ 183960 h 191880"/>
                    </a:gdLst>
                    <a:ahLst/>
                    <a:rect l="textAreaLeft" t="textAreaTop" r="textAreaRight" b="textAreaBottom"/>
                    <a:pathLst>
                      <a:path w="21600" h="69068">
                        <a:moveTo>
                          <a:pt x="10035" y="0"/>
                        </a:moveTo>
                        <a:arcTo wR="10035" hR="10035" stAng="16200000" swAng="-5400000"/>
                        <a:lnTo>
                          <a:pt x="0" y="59033"/>
                        </a:lnTo>
                        <a:arcTo wR="10035" hR="10035" stAng="10800000" swAng="-5400000"/>
                        <a:lnTo>
                          <a:pt x="11565" y="69068"/>
                        </a:lnTo>
                        <a:arcTo wR="10035" hR="10035" stAng="5400000" swAng="-5400000"/>
                        <a:lnTo>
                          <a:pt x="21600" y="10035"/>
                        </a:lnTo>
                        <a:arcTo wR="10035" hR="10035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4" name=""/>
            <p:cNvGrpSpPr/>
            <p:nvPr/>
          </p:nvGrpSpPr>
          <p:grpSpPr>
            <a:xfrm>
              <a:off x="6737400" y="1628640"/>
              <a:ext cx="403200" cy="149400"/>
              <a:chOff x="6737400" y="1628640"/>
              <a:chExt cx="403200" cy="149400"/>
            </a:xfrm>
          </p:grpSpPr>
          <p:sp>
            <p:nvSpPr>
              <p:cNvPr id="1135" name=""/>
              <p:cNvSpPr txBox="1"/>
              <p:nvPr/>
            </p:nvSpPr>
            <p:spPr>
              <a:xfrm>
                <a:off x="6740640" y="162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発注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136" name=""/>
              <p:cNvSpPr txBox="1"/>
              <p:nvPr/>
            </p:nvSpPr>
            <p:spPr>
              <a:xfrm>
                <a:off x="6737400" y="162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発注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137" name=""/>
          <p:cNvGrpSpPr/>
          <p:nvPr/>
        </p:nvGrpSpPr>
        <p:grpSpPr>
          <a:xfrm>
            <a:off x="7524720" y="1341360"/>
            <a:ext cx="403200" cy="436680"/>
            <a:chOff x="7524720" y="1341360"/>
            <a:chExt cx="403200" cy="436680"/>
          </a:xfrm>
        </p:grpSpPr>
        <p:grpSp>
          <p:nvGrpSpPr>
            <p:cNvPr id="1138" name=""/>
            <p:cNvGrpSpPr/>
            <p:nvPr/>
          </p:nvGrpSpPr>
          <p:grpSpPr>
            <a:xfrm>
              <a:off x="7545240" y="1341360"/>
              <a:ext cx="360360" cy="344520"/>
              <a:chOff x="7545240" y="1341360"/>
              <a:chExt cx="360360" cy="34452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7545240" y="1341360"/>
                <a:ext cx="360360" cy="344520"/>
                <a:chOff x="7545240" y="1341360"/>
                <a:chExt cx="360360" cy="344520"/>
              </a:xfrm>
            </p:grpSpPr>
            <p:grpSp>
              <p:nvGrpSpPr>
                <p:cNvPr id="1140" name=""/>
                <p:cNvGrpSpPr/>
                <p:nvPr/>
              </p:nvGrpSpPr>
              <p:grpSpPr>
                <a:xfrm>
                  <a:off x="7592400" y="1366920"/>
                  <a:ext cx="288720" cy="197280"/>
                  <a:chOff x="7592400" y="1366920"/>
                  <a:chExt cx="288720" cy="19728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>
                    <a:off x="7592400" y="1372320"/>
                    <a:ext cx="288720" cy="191880"/>
                  </a:xfrm>
                  <a:prstGeom prst="roundRect">
                    <a:avLst>
                      <a:gd name="adj" fmla="val 1005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42" name=""/>
                  <p:cNvGrpSpPr/>
                  <p:nvPr/>
                </p:nvGrpSpPr>
                <p:grpSpPr>
                  <a:xfrm>
                    <a:off x="7604280" y="1366920"/>
                    <a:ext cx="264600" cy="191880"/>
                    <a:chOff x="7604280" y="1366920"/>
                    <a:chExt cx="264600" cy="191880"/>
                  </a:xfrm>
                </p:grpSpPr>
                <p:sp>
                  <p:nvSpPr>
                    <p:cNvPr id="1143" name=""/>
                    <p:cNvSpPr/>
                    <p:nvPr/>
                  </p:nvSpPr>
                  <p:spPr>
                    <a:xfrm>
                      <a:off x="760428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>
                      <a:off x="762120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763884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765612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767304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769032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770760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772488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774216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775944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777708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779400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781128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782856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784584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7863120" y="1366920"/>
                      <a:ext cx="5760" cy="19188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1880"/>
                        <a:gd name="textAreaBottom" fmla="*/ 191160 h 191880"/>
                      </a:gdLst>
                      <a:ahLst/>
                      <a:rect l="textAreaLeft" t="textAreaTop" r="textAreaRight" b="textAreaBottom"/>
                      <a:pathLst>
                        <a:path w="21600" h="678494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7694"/>
                          </a:lnTo>
                          <a:arcTo wR="10800" hR="10800" stAng="10800000" swAng="-5400000"/>
                          <a:lnTo>
                            <a:pt x="10800" y="678494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59" name=""/>
                <p:cNvSpPr/>
                <p:nvPr/>
              </p:nvSpPr>
              <p:spPr>
                <a:xfrm>
                  <a:off x="7639200" y="1341360"/>
                  <a:ext cx="205920" cy="188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545240" y="1481760"/>
                  <a:ext cx="360360" cy="20412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629120" y="1469880"/>
                  <a:ext cx="264240" cy="191880"/>
                </a:xfrm>
                <a:prstGeom prst="roundRect">
                  <a:avLst>
                    <a:gd name="adj" fmla="val 10056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552440" y="1481760"/>
                  <a:ext cx="64440" cy="186120"/>
                </a:xfrm>
                <a:custGeom>
                  <a:avLst/>
                  <a:gdLst>
                    <a:gd name="textAreaLeft" fmla="*/ 8640 w 64440"/>
                    <a:gd name="textAreaRight" fmla="*/ 55800 w 64440"/>
                    <a:gd name="textAreaTop" fmla="*/ 8640 h 186120"/>
                    <a:gd name="textAreaBottom" fmla="*/ 177480 h 186120"/>
                  </a:gdLst>
                  <a:ahLst/>
                  <a:rect l="textAreaLeft" t="textAreaTop" r="textAreaRight" b="textAreaBottom"/>
                  <a:pathLst>
                    <a:path w="21600" h="62160">
                      <a:moveTo>
                        <a:pt x="10035" y="0"/>
                      </a:moveTo>
                      <a:arcTo wR="10035" hR="10035" stAng="16200000" swAng="-5400000"/>
                      <a:lnTo>
                        <a:pt x="0" y="52125"/>
                      </a:lnTo>
                      <a:arcTo wR="10035" hR="10035" stAng="10800000" swAng="-5400000"/>
                      <a:lnTo>
                        <a:pt x="11565" y="62160"/>
                      </a:lnTo>
                      <a:arcTo wR="10035" hR="10035" stAng="5400000" swAng="-5400000"/>
                      <a:lnTo>
                        <a:pt x="21600" y="10035"/>
                      </a:lnTo>
                      <a:arcTo wR="10035" hR="10035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554960" y="1469880"/>
                  <a:ext cx="59400" cy="191880"/>
                </a:xfrm>
                <a:custGeom>
                  <a:avLst/>
                  <a:gdLst>
                    <a:gd name="textAreaLeft" fmla="*/ 7920 w 59400"/>
                    <a:gd name="textAreaRight" fmla="*/ 51480 w 59400"/>
                    <a:gd name="textAreaTop" fmla="*/ 7920 h 191880"/>
                    <a:gd name="textAreaBottom" fmla="*/ 183960 h 191880"/>
                  </a:gdLst>
                  <a:ahLst/>
                  <a:rect l="textAreaLeft" t="textAreaTop" r="textAreaRight" b="textAreaBottom"/>
                  <a:pathLst>
                    <a:path w="21600" h="69484">
                      <a:moveTo>
                        <a:pt x="10035" y="0"/>
                      </a:moveTo>
                      <a:arcTo wR="10035" hR="10035" stAng="16200000" swAng="-5400000"/>
                      <a:lnTo>
                        <a:pt x="0" y="59449"/>
                      </a:lnTo>
                      <a:arcTo wR="10035" hR="10035" stAng="10800000" swAng="-5400000"/>
                      <a:lnTo>
                        <a:pt x="11565" y="69484"/>
                      </a:lnTo>
                      <a:arcTo wR="10035" hR="10035" stAng="5400000" swAng="-5400000"/>
                      <a:lnTo>
                        <a:pt x="21600" y="10035"/>
                      </a:lnTo>
                      <a:arcTo wR="10035" hR="10035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7545240" y="1341360"/>
                <a:ext cx="360360" cy="344520"/>
                <a:chOff x="7545240" y="1341360"/>
                <a:chExt cx="360360" cy="344520"/>
              </a:xfrm>
            </p:grpSpPr>
            <p:grpSp>
              <p:nvGrpSpPr>
                <p:cNvPr id="1165" name=""/>
                <p:cNvGrpSpPr/>
                <p:nvPr/>
              </p:nvGrpSpPr>
              <p:grpSpPr>
                <a:xfrm>
                  <a:off x="7592400" y="1366920"/>
                  <a:ext cx="288360" cy="197640"/>
                  <a:chOff x="7592400" y="1366920"/>
                  <a:chExt cx="288360" cy="19764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7592400" y="1372320"/>
                    <a:ext cx="288360" cy="192240"/>
                  </a:xfrm>
                  <a:prstGeom prst="roundRect">
                    <a:avLst>
                      <a:gd name="adj" fmla="val 10056"/>
                    </a:avLst>
                  </a:prstGeom>
                  <a:gradFill rotWithShape="0">
                    <a:gsLst>
                      <a:gs pos="0">
                        <a:srgbClr val="c58d8d"/>
                      </a:gs>
                      <a:gs pos="100000">
                        <a:srgbClr val="8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7" name=""/>
                  <p:cNvGrpSpPr/>
                  <p:nvPr/>
                </p:nvGrpSpPr>
                <p:grpSpPr>
                  <a:xfrm>
                    <a:off x="7604280" y="1366920"/>
                    <a:ext cx="264240" cy="192240"/>
                    <a:chOff x="7604280" y="1366920"/>
                    <a:chExt cx="264240" cy="192240"/>
                  </a:xfrm>
                </p:grpSpPr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760428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762120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763884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765576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767304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769032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>
                      <a:off x="770760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>
                      <a:off x="772488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774216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775944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>
                      <a:off x="777672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779400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781092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782820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784548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>
                      <a:off x="7862760" y="1366920"/>
                      <a:ext cx="5760" cy="192240"/>
                    </a:xfrm>
                    <a:custGeom>
                      <a:avLst/>
                      <a:gdLst>
                        <a:gd name="textAreaLeft" fmla="*/ 720 w 5760"/>
                        <a:gd name="textAreaRight" fmla="*/ 5040 w 5760"/>
                        <a:gd name="textAreaTop" fmla="*/ 720 h 192240"/>
                        <a:gd name="textAreaBottom" fmla="*/ 191520 h 192240"/>
                      </a:gdLst>
                      <a:ahLst/>
                      <a:rect l="textAreaLeft" t="textAreaTop" r="textAreaRight" b="textAreaBottom"/>
                      <a:pathLst>
                        <a:path w="21600" h="679765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668965"/>
                          </a:lnTo>
                          <a:arcTo wR="10800" hR="10800" stAng="10800000" swAng="-5400000"/>
                          <a:lnTo>
                            <a:pt x="10800" y="679765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58d8d"/>
                        </a:gs>
                        <a:gs pos="100000">
                          <a:srgbClr val="8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7639200" y="1341360"/>
                  <a:ext cx="205560" cy="188640"/>
                  <a:chOff x="7639200" y="1341360"/>
                  <a:chExt cx="205560" cy="18864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7639200" y="1341360"/>
                    <a:ext cx="205560" cy="18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1c1c1"/>
                      </a:gs>
                    </a:gsLst>
                    <a:lin ang="5400000"/>
                  </a:gradFill>
                  <a:ln w="324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 txBox="1"/>
                  <p:nvPr/>
                </p:nvSpPr>
                <p:spPr>
                  <a:xfrm>
                    <a:off x="7707600" y="1358280"/>
                    <a:ext cx="82080" cy="30960"/>
                  </a:xfrm>
                  <a:prstGeom prst="rect">
                    <a:avLst/>
                  </a:prstGeom>
                </p:spPr>
                <p:txBody>
                  <a:bodyPr wrap="none" lIns="90000" rIns="90000" tIns="-15480" bIns="-1548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0">
                          <a:noFill/>
                        </a:ln>
                        <a:solidFill>
                          <a:srgbClr val="808080"/>
                        </a:solidFill>
                        <a:latin typeface="ＭＳ Ｐゴシック"/>
                      </a:rPr>
                      <a:t>FAX</a:t>
                    </a:r>
                    <a:endParaRPr b="0" lang="en-US" sz="1800" spc="1" strike="noStrike">
                      <a:ln w="0">
                        <a:noFill/>
                      </a:ln>
                      <a:solidFill>
                        <a:srgbClr val="808080"/>
                      </a:solidFill>
                      <a:latin typeface="ＭＳ Ｐゴシック"/>
                      <a:ea typeface="ＭＳ Ｐゴシック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7656120" y="1409760"/>
                    <a:ext cx="171720" cy="17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7656120" y="1443600"/>
                    <a:ext cx="171720" cy="17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7545240" y="1469880"/>
                  <a:ext cx="360360" cy="216000"/>
                  <a:chOff x="7545240" y="1469880"/>
                  <a:chExt cx="360360" cy="21600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7545240" y="1481760"/>
                    <a:ext cx="360360" cy="204120"/>
                  </a:xfrm>
                  <a:prstGeom prst="roundRect">
                    <a:avLst>
                      <a:gd name="adj" fmla="val 10056"/>
                    </a:avLst>
                  </a:prstGeom>
                  <a:gradFill rotWithShape="0">
                    <a:gsLst>
                      <a:gs pos="0">
                        <a:srgbClr val="4c4c4c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7629480" y="1469880"/>
                    <a:ext cx="264240" cy="191880"/>
                  </a:xfrm>
                  <a:prstGeom prst="roundRect">
                    <a:avLst>
                      <a:gd name="adj" fmla="val 10056"/>
                    </a:avLst>
                  </a:prstGeom>
                  <a:gradFill rotWithShape="0">
                    <a:gsLst>
                      <a:gs pos="0">
                        <a:srgbClr val="4c4c4c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7552440" y="1481760"/>
                    <a:ext cx="64440" cy="186480"/>
                  </a:xfrm>
                  <a:custGeom>
                    <a:avLst/>
                    <a:gdLst>
                      <a:gd name="textAreaLeft" fmla="*/ 8640 w 64440"/>
                      <a:gd name="textAreaRight" fmla="*/ 55800 w 64440"/>
                      <a:gd name="textAreaTop" fmla="*/ 8640 h 186480"/>
                      <a:gd name="textAreaBottom" fmla="*/ 177840 h 186480"/>
                    </a:gdLst>
                    <a:ahLst/>
                    <a:rect l="textAreaLeft" t="textAreaTop" r="textAreaRight" b="textAreaBottom"/>
                    <a:pathLst>
                      <a:path w="21600" h="62280">
                        <a:moveTo>
                          <a:pt x="10035" y="0"/>
                        </a:moveTo>
                        <a:arcTo wR="10035" hR="10035" stAng="16200000" swAng="-5400000"/>
                        <a:lnTo>
                          <a:pt x="0" y="52245"/>
                        </a:lnTo>
                        <a:arcTo wR="10035" hR="10035" stAng="10800000" swAng="-5400000"/>
                        <a:lnTo>
                          <a:pt x="11565" y="62280"/>
                        </a:lnTo>
                        <a:arcTo wR="10035" hR="10035" stAng="5400000" swAng="-5400000"/>
                        <a:lnTo>
                          <a:pt x="21600" y="10035"/>
                        </a:lnTo>
                        <a:arcTo wR="10035" hR="10035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7641360" y="1554120"/>
                    <a:ext cx="95760" cy="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64646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4" name=""/>
                  <p:cNvGrpSpPr/>
                  <p:nvPr/>
                </p:nvGrpSpPr>
                <p:grpSpPr>
                  <a:xfrm>
                    <a:off x="7647120" y="1559880"/>
                    <a:ext cx="84240" cy="84240"/>
                    <a:chOff x="7647120" y="1559880"/>
                    <a:chExt cx="84240" cy="84240"/>
                  </a:xfrm>
                </p:grpSpPr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7647120" y="155988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 rot="10800000">
                      <a:off x="7647120" y="155988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162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rot="5400000">
                      <a:off x="7647120" y="155988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rot="16200000">
                      <a:off x="7647120" y="1559880"/>
                      <a:ext cx="84240" cy="84240"/>
                    </a:xfrm>
                    <a:prstGeom prst="blockArc">
                      <a:avLst>
                        <a:gd name="adj1" fmla="val 13721312"/>
                        <a:gd name="adj2" fmla="val 18678688"/>
                        <a:gd name="adj3" fmla="val 22370"/>
                      </a:avLst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>
                      <a:off x="7671240" y="1583640"/>
                      <a:ext cx="36000" cy="36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c5c5c5"/>
                        </a:gs>
                        <a:gs pos="100000">
                          <a:srgbClr val="8080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880" bIns="-20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0" name=""/>
                  <p:cNvSpPr/>
                  <p:nvPr/>
                </p:nvSpPr>
                <p:spPr>
                  <a:xfrm>
                    <a:off x="7653600" y="1493640"/>
                    <a:ext cx="216000" cy="47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7659360" y="1499760"/>
                    <a:ext cx="204120" cy="36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50000">
                        <a:srgbClr val="d0e78d"/>
                      </a:gs>
                      <a:gs pos="100000">
                        <a:srgbClr val="99c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749360" y="1553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797600" y="1553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7845480" y="1553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7749360" y="157788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7797600" y="157788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845480" y="157788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7749360" y="16016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7797600" y="16016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7845480" y="160164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7749360" y="1625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7797600" y="1625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7845480" y="1625760"/>
                    <a:ext cx="360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a9a9a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7554960" y="1469880"/>
                    <a:ext cx="59760" cy="191880"/>
                  </a:xfrm>
                  <a:custGeom>
                    <a:avLst/>
                    <a:gdLst>
                      <a:gd name="textAreaLeft" fmla="*/ 7920 w 59760"/>
                      <a:gd name="textAreaRight" fmla="*/ 51840 w 59760"/>
                      <a:gd name="textAreaTop" fmla="*/ 7920 h 191880"/>
                      <a:gd name="textAreaBottom" fmla="*/ 183960 h 191880"/>
                    </a:gdLst>
                    <a:ahLst/>
                    <a:rect l="textAreaLeft" t="textAreaTop" r="textAreaRight" b="textAreaBottom"/>
                    <a:pathLst>
                      <a:path w="21600" h="69068">
                        <a:moveTo>
                          <a:pt x="10035" y="0"/>
                        </a:moveTo>
                        <a:arcTo wR="10035" hR="10035" stAng="16200000" swAng="-5400000"/>
                        <a:lnTo>
                          <a:pt x="0" y="59033"/>
                        </a:lnTo>
                        <a:arcTo wR="10035" hR="10035" stAng="10800000" swAng="-5400000"/>
                        <a:lnTo>
                          <a:pt x="11565" y="69068"/>
                        </a:lnTo>
                        <a:arcTo wR="10035" hR="10035" stAng="5400000" swAng="-5400000"/>
                        <a:lnTo>
                          <a:pt x="21600" y="10035"/>
                        </a:lnTo>
                        <a:arcTo wR="10035" hR="10035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c4c4c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15" name=""/>
            <p:cNvGrpSpPr/>
            <p:nvPr/>
          </p:nvGrpSpPr>
          <p:grpSpPr>
            <a:xfrm>
              <a:off x="7524720" y="1628640"/>
              <a:ext cx="403200" cy="149400"/>
              <a:chOff x="7524720" y="1628640"/>
              <a:chExt cx="403200" cy="149400"/>
            </a:xfrm>
          </p:grpSpPr>
          <p:sp>
            <p:nvSpPr>
              <p:cNvPr id="1216" name=""/>
              <p:cNvSpPr txBox="1"/>
              <p:nvPr/>
            </p:nvSpPr>
            <p:spPr>
              <a:xfrm>
                <a:off x="7527960" y="162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受注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217" name=""/>
              <p:cNvSpPr txBox="1"/>
              <p:nvPr/>
            </p:nvSpPr>
            <p:spPr>
              <a:xfrm>
                <a:off x="7524720" y="1628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受注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218" name=""/>
          <p:cNvGrpSpPr/>
          <p:nvPr/>
        </p:nvGrpSpPr>
        <p:grpSpPr>
          <a:xfrm>
            <a:off x="8291520" y="669600"/>
            <a:ext cx="433440" cy="392400"/>
            <a:chOff x="8291520" y="669600"/>
            <a:chExt cx="433440" cy="392400"/>
          </a:xfrm>
        </p:grpSpPr>
        <p:grpSp>
          <p:nvGrpSpPr>
            <p:cNvPr id="1219" name=""/>
            <p:cNvGrpSpPr/>
            <p:nvPr/>
          </p:nvGrpSpPr>
          <p:grpSpPr>
            <a:xfrm>
              <a:off x="8291520" y="669600"/>
              <a:ext cx="433440" cy="266040"/>
              <a:chOff x="8291520" y="669600"/>
              <a:chExt cx="433440" cy="26604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8404920" y="669600"/>
                <a:ext cx="320040" cy="266040"/>
                <a:chOff x="8404920" y="669600"/>
                <a:chExt cx="320040" cy="266040"/>
              </a:xfrm>
            </p:grpSpPr>
            <p:grpSp>
              <p:nvGrpSpPr>
                <p:cNvPr id="1221" name=""/>
                <p:cNvGrpSpPr/>
                <p:nvPr/>
              </p:nvGrpSpPr>
              <p:grpSpPr>
                <a:xfrm>
                  <a:off x="8404920" y="669600"/>
                  <a:ext cx="320040" cy="266040"/>
                  <a:chOff x="8404920" y="669600"/>
                  <a:chExt cx="320040" cy="266040"/>
                </a:xfrm>
              </p:grpSpPr>
              <p:sp>
                <p:nvSpPr>
                  <p:cNvPr id="1222" name=""/>
                  <p:cNvSpPr/>
                  <p:nvPr/>
                </p:nvSpPr>
                <p:spPr>
                  <a:xfrm rot="2700000">
                    <a:off x="850248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 rot="20700000">
                    <a:off x="8426880" y="7833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 rot="20700000">
                    <a:off x="8406000" y="822600"/>
                    <a:ext cx="18972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rot="20700000">
                    <a:off x="8446680" y="8575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 rot="20700000">
                    <a:off x="8501760" y="8827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rot="20700000">
                    <a:off x="8529840" y="753120"/>
                    <a:ext cx="17856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8404920" y="669600"/>
                  <a:ext cx="320040" cy="266040"/>
                  <a:chOff x="8404920" y="669600"/>
                  <a:chExt cx="320040" cy="26604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 rot="2700000">
                    <a:off x="850248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rot="20700000">
                    <a:off x="8426880" y="7833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 rot="20700000">
                    <a:off x="8406000" y="822600"/>
                    <a:ext cx="18972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rot="20700000">
                    <a:off x="8446680" y="8575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rot="20700000">
                    <a:off x="8501760" y="8827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 rot="20700000">
                    <a:off x="8529840" y="753120"/>
                    <a:ext cx="17856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"/>
              <p:cNvGrpSpPr/>
              <p:nvPr/>
            </p:nvGrpSpPr>
            <p:grpSpPr>
              <a:xfrm>
                <a:off x="8291520" y="669600"/>
                <a:ext cx="319680" cy="265680"/>
                <a:chOff x="8291520" y="669600"/>
                <a:chExt cx="319680" cy="265680"/>
              </a:xfrm>
            </p:grpSpPr>
            <p:grpSp>
              <p:nvGrpSpPr>
                <p:cNvPr id="1236" name=""/>
                <p:cNvGrpSpPr/>
                <p:nvPr/>
              </p:nvGrpSpPr>
              <p:grpSpPr>
                <a:xfrm>
                  <a:off x="8291520" y="669600"/>
                  <a:ext cx="319680" cy="265680"/>
                  <a:chOff x="8291520" y="669600"/>
                  <a:chExt cx="319680" cy="265680"/>
                </a:xfrm>
              </p:grpSpPr>
              <p:sp>
                <p:nvSpPr>
                  <p:cNvPr id="1237" name=""/>
                  <p:cNvSpPr/>
                  <p:nvPr/>
                </p:nvSpPr>
                <p:spPr>
                  <a:xfrm flipH="1" rot="18900000">
                    <a:off x="836316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 flipH="1" rot="900000">
                    <a:off x="8443800" y="7833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H="1" rot="900000">
                    <a:off x="8420040" y="822600"/>
                    <a:ext cx="18972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H="1" rot="900000">
                    <a:off x="8424000" y="8575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H="1" rot="900000">
                    <a:off x="8368920" y="8827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 flipH="1" rot="900000">
                    <a:off x="8307720" y="753120"/>
                    <a:ext cx="178560" cy="14940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3" name=""/>
                <p:cNvGrpSpPr/>
                <p:nvPr/>
              </p:nvGrpSpPr>
              <p:grpSpPr>
                <a:xfrm>
                  <a:off x="8291520" y="669600"/>
                  <a:ext cx="319680" cy="265680"/>
                  <a:chOff x="8291520" y="669600"/>
                  <a:chExt cx="319680" cy="265680"/>
                </a:xfrm>
              </p:grpSpPr>
              <p:sp>
                <p:nvSpPr>
                  <p:cNvPr id="1244" name=""/>
                  <p:cNvSpPr/>
                  <p:nvPr/>
                </p:nvSpPr>
                <p:spPr>
                  <a:xfrm flipH="1" rot="18900000">
                    <a:off x="836316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flipH="1" rot="900000">
                    <a:off x="8443800" y="7833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 flipH="1" rot="900000">
                    <a:off x="8420040" y="822600"/>
                    <a:ext cx="18972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H="1" rot="900000">
                    <a:off x="8424000" y="8575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H="1" rot="900000">
                    <a:off x="8368920" y="8827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H="1" rot="900000">
                    <a:off x="8307720" y="753120"/>
                    <a:ext cx="178560" cy="14940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50" name=""/>
            <p:cNvGrpSpPr/>
            <p:nvPr/>
          </p:nvGrpSpPr>
          <p:grpSpPr>
            <a:xfrm>
              <a:off x="8308800" y="912960"/>
              <a:ext cx="403560" cy="149040"/>
              <a:chOff x="8308800" y="912960"/>
              <a:chExt cx="403560" cy="149040"/>
            </a:xfrm>
          </p:grpSpPr>
          <p:sp>
            <p:nvSpPr>
              <p:cNvPr id="1251" name=""/>
              <p:cNvSpPr txBox="1"/>
              <p:nvPr/>
            </p:nvSpPr>
            <p:spPr>
              <a:xfrm>
                <a:off x="8312040" y="91296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仮契約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252" name=""/>
              <p:cNvSpPr txBox="1"/>
              <p:nvPr/>
            </p:nvSpPr>
            <p:spPr>
              <a:xfrm>
                <a:off x="8308800" y="91296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仮契約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253" name=""/>
          <p:cNvGrpSpPr/>
          <p:nvPr/>
        </p:nvGrpSpPr>
        <p:grpSpPr>
          <a:xfrm>
            <a:off x="9083520" y="669600"/>
            <a:ext cx="433440" cy="392400"/>
            <a:chOff x="9083520" y="669600"/>
            <a:chExt cx="433440" cy="392400"/>
          </a:xfrm>
        </p:grpSpPr>
        <p:grpSp>
          <p:nvGrpSpPr>
            <p:cNvPr id="1254" name=""/>
            <p:cNvGrpSpPr/>
            <p:nvPr/>
          </p:nvGrpSpPr>
          <p:grpSpPr>
            <a:xfrm>
              <a:off x="9083520" y="669600"/>
              <a:ext cx="433440" cy="266040"/>
              <a:chOff x="9083520" y="669600"/>
              <a:chExt cx="433440" cy="266040"/>
            </a:xfrm>
          </p:grpSpPr>
          <p:grpSp>
            <p:nvGrpSpPr>
              <p:cNvPr id="1255" name=""/>
              <p:cNvGrpSpPr/>
              <p:nvPr/>
            </p:nvGrpSpPr>
            <p:grpSpPr>
              <a:xfrm>
                <a:off x="9196920" y="669600"/>
                <a:ext cx="320040" cy="266040"/>
                <a:chOff x="9196920" y="669600"/>
                <a:chExt cx="320040" cy="266040"/>
              </a:xfrm>
            </p:grpSpPr>
            <p:grpSp>
              <p:nvGrpSpPr>
                <p:cNvPr id="1256" name=""/>
                <p:cNvGrpSpPr/>
                <p:nvPr/>
              </p:nvGrpSpPr>
              <p:grpSpPr>
                <a:xfrm>
                  <a:off x="9196920" y="669600"/>
                  <a:ext cx="320040" cy="266040"/>
                  <a:chOff x="9196920" y="669600"/>
                  <a:chExt cx="320040" cy="266040"/>
                </a:xfrm>
              </p:grpSpPr>
              <p:sp>
                <p:nvSpPr>
                  <p:cNvPr id="1257" name=""/>
                  <p:cNvSpPr/>
                  <p:nvPr/>
                </p:nvSpPr>
                <p:spPr>
                  <a:xfrm rot="2700000">
                    <a:off x="929448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 rot="20700000">
                    <a:off x="9218880" y="7833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 rot="20700000">
                    <a:off x="9198000" y="822600"/>
                    <a:ext cx="18972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 rot="20700000">
                    <a:off x="9238680" y="8575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 rot="20700000">
                    <a:off x="9293760" y="8827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 rot="20700000">
                    <a:off x="9321840" y="753120"/>
                    <a:ext cx="17856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3" name=""/>
                <p:cNvGrpSpPr/>
                <p:nvPr/>
              </p:nvGrpSpPr>
              <p:grpSpPr>
                <a:xfrm>
                  <a:off x="9196920" y="669600"/>
                  <a:ext cx="320040" cy="266040"/>
                  <a:chOff x="9196920" y="669600"/>
                  <a:chExt cx="320040" cy="266040"/>
                </a:xfrm>
              </p:grpSpPr>
              <p:sp>
                <p:nvSpPr>
                  <p:cNvPr id="1264" name=""/>
                  <p:cNvSpPr/>
                  <p:nvPr/>
                </p:nvSpPr>
                <p:spPr>
                  <a:xfrm rot="2700000">
                    <a:off x="929448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 rot="20700000">
                    <a:off x="9218880" y="7833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 rot="20700000">
                    <a:off x="9198000" y="822600"/>
                    <a:ext cx="18972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 rot="20700000">
                    <a:off x="9238680" y="8575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rot="20700000">
                    <a:off x="9293760" y="8827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rot="20700000">
                    <a:off x="9321840" y="753120"/>
                    <a:ext cx="17856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0" name=""/>
              <p:cNvGrpSpPr/>
              <p:nvPr/>
            </p:nvGrpSpPr>
            <p:grpSpPr>
              <a:xfrm>
                <a:off x="9083520" y="669600"/>
                <a:ext cx="319680" cy="265680"/>
                <a:chOff x="9083520" y="669600"/>
                <a:chExt cx="319680" cy="265680"/>
              </a:xfrm>
            </p:grpSpPr>
            <p:grpSp>
              <p:nvGrpSpPr>
                <p:cNvPr id="1271" name=""/>
                <p:cNvGrpSpPr/>
                <p:nvPr/>
              </p:nvGrpSpPr>
              <p:grpSpPr>
                <a:xfrm>
                  <a:off x="9083520" y="669600"/>
                  <a:ext cx="319680" cy="265680"/>
                  <a:chOff x="9083520" y="669600"/>
                  <a:chExt cx="319680" cy="26568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 flipH="1" rot="18900000">
                    <a:off x="915516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flipH="1" rot="900000">
                    <a:off x="9235800" y="7833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 flipH="1" rot="900000">
                    <a:off x="9212040" y="822600"/>
                    <a:ext cx="18972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flipH="1" rot="900000">
                    <a:off x="9216000" y="8575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 flipH="1" rot="900000">
                    <a:off x="9160920" y="8827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 flipH="1" rot="900000">
                    <a:off x="9099720" y="753120"/>
                    <a:ext cx="178560" cy="14940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" name=""/>
                <p:cNvGrpSpPr/>
                <p:nvPr/>
              </p:nvGrpSpPr>
              <p:grpSpPr>
                <a:xfrm>
                  <a:off x="9083520" y="669600"/>
                  <a:ext cx="319680" cy="265680"/>
                  <a:chOff x="9083520" y="669600"/>
                  <a:chExt cx="319680" cy="26568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 flipH="1" rot="18900000">
                    <a:off x="9155160" y="7160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 flipH="1" rot="900000">
                    <a:off x="9235800" y="7833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 flipH="1" rot="900000">
                    <a:off x="9212040" y="822600"/>
                    <a:ext cx="18972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 flipH="1" rot="900000">
                    <a:off x="9216000" y="8575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 flipH="1" rot="900000">
                    <a:off x="9160920" y="8827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flipH="1" rot="900000">
                    <a:off x="9099720" y="753120"/>
                    <a:ext cx="178560" cy="14940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5" name=""/>
            <p:cNvGrpSpPr/>
            <p:nvPr/>
          </p:nvGrpSpPr>
          <p:grpSpPr>
            <a:xfrm>
              <a:off x="9086760" y="912960"/>
              <a:ext cx="403200" cy="149040"/>
              <a:chOff x="9086760" y="912960"/>
              <a:chExt cx="403200" cy="149040"/>
            </a:xfrm>
          </p:grpSpPr>
          <p:sp>
            <p:nvSpPr>
              <p:cNvPr id="1286" name=""/>
              <p:cNvSpPr txBox="1"/>
              <p:nvPr/>
            </p:nvSpPr>
            <p:spPr>
              <a:xfrm>
                <a:off x="9090000" y="9129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本契約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287" name=""/>
              <p:cNvSpPr txBox="1"/>
              <p:nvPr/>
            </p:nvSpPr>
            <p:spPr>
              <a:xfrm>
                <a:off x="9086760" y="91296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本契約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288" name=""/>
          <p:cNvGrpSpPr/>
          <p:nvPr/>
        </p:nvGrpSpPr>
        <p:grpSpPr>
          <a:xfrm>
            <a:off x="536400" y="4292640"/>
            <a:ext cx="413640" cy="360360"/>
            <a:chOff x="536400" y="4292640"/>
            <a:chExt cx="413640" cy="360360"/>
          </a:xfrm>
        </p:grpSpPr>
        <p:grpSp>
          <p:nvGrpSpPr>
            <p:cNvPr id="1289" name=""/>
            <p:cNvGrpSpPr/>
            <p:nvPr/>
          </p:nvGrpSpPr>
          <p:grpSpPr>
            <a:xfrm>
              <a:off x="560520" y="4292640"/>
              <a:ext cx="389520" cy="231480"/>
              <a:chOff x="560520" y="4292640"/>
              <a:chExt cx="389520" cy="231480"/>
            </a:xfrm>
          </p:grpSpPr>
          <p:grpSp>
            <p:nvGrpSpPr>
              <p:cNvPr id="1290" name=""/>
              <p:cNvGrpSpPr/>
              <p:nvPr/>
            </p:nvGrpSpPr>
            <p:grpSpPr>
              <a:xfrm>
                <a:off x="561600" y="4292640"/>
                <a:ext cx="388440" cy="231480"/>
                <a:chOff x="561600" y="4292640"/>
                <a:chExt cx="388440" cy="231480"/>
              </a:xfrm>
            </p:grpSpPr>
            <p:sp>
              <p:nvSpPr>
                <p:cNvPr id="1291" name=""/>
                <p:cNvSpPr/>
                <p:nvPr/>
              </p:nvSpPr>
              <p:spPr>
                <a:xfrm flipH="1">
                  <a:off x="900360" y="4292640"/>
                  <a:ext cx="31320" cy="195840"/>
                </a:xfrm>
                <a:custGeom>
                  <a:avLst/>
                  <a:gdLst/>
                  <a:ahLst/>
                  <a:rect l="l" t="t" r="r" b="b"/>
                  <a:pathLst>
                    <a:path w="159" h="998">
                      <a:moveTo>
                        <a:pt x="159" y="975"/>
                      </a:moveTo>
                      <a:lnTo>
                        <a:pt x="136" y="998"/>
                      </a:lnTo>
                      <a:lnTo>
                        <a:pt x="91" y="998"/>
                      </a:ln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159" y="9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>
                  <a:off x="561240" y="4292640"/>
                  <a:ext cx="388440" cy="231480"/>
                </a:xfrm>
                <a:custGeom>
                  <a:avLst/>
                  <a:gdLst/>
                  <a:ahLst/>
                  <a:rect l="l" t="t" r="r" b="b"/>
                  <a:pathLst>
                    <a:path w="1951" h="1179">
                      <a:moveTo>
                        <a:pt x="68" y="1156"/>
                      </a:moveTo>
                      <a:lnTo>
                        <a:pt x="45" y="1179"/>
                      </a:lnTo>
                      <a:lnTo>
                        <a:pt x="0" y="1179"/>
                      </a:lnTo>
                      <a:lnTo>
                        <a:pt x="91" y="45"/>
                      </a:lnTo>
                      <a:lnTo>
                        <a:pt x="91" y="0"/>
                      </a:lnTo>
                      <a:lnTo>
                        <a:pt x="1860" y="0"/>
                      </a:lnTo>
                      <a:lnTo>
                        <a:pt x="1860" y="45"/>
                      </a:lnTo>
                      <a:lnTo>
                        <a:pt x="1951" y="1179"/>
                      </a:lnTo>
                      <a:lnTo>
                        <a:pt x="1905" y="1179"/>
                      </a:lnTo>
                      <a:lnTo>
                        <a:pt x="1882" y="1156"/>
                      </a:lnTo>
                      <a:lnTo>
                        <a:pt x="1792" y="45"/>
                      </a:lnTo>
                      <a:lnTo>
                        <a:pt x="1542" y="45"/>
                      </a:lnTo>
                      <a:lnTo>
                        <a:pt x="1542" y="90"/>
                      </a:lnTo>
                      <a:lnTo>
                        <a:pt x="1746" y="90"/>
                      </a:lnTo>
                      <a:lnTo>
                        <a:pt x="1746" y="363"/>
                      </a:lnTo>
                      <a:lnTo>
                        <a:pt x="204" y="363"/>
                      </a:lnTo>
                      <a:lnTo>
                        <a:pt x="204" y="90"/>
                      </a:lnTo>
                      <a:lnTo>
                        <a:pt x="1452" y="90"/>
                      </a:lnTo>
                      <a:lnTo>
                        <a:pt x="1452" y="45"/>
                      </a:lnTo>
                      <a:lnTo>
                        <a:pt x="544" y="45"/>
                      </a:lnTo>
                      <a:lnTo>
                        <a:pt x="544" y="90"/>
                      </a:lnTo>
                      <a:lnTo>
                        <a:pt x="454" y="90"/>
                      </a:lnTo>
                      <a:lnTo>
                        <a:pt x="454" y="45"/>
                      </a:lnTo>
                      <a:lnTo>
                        <a:pt x="159" y="45"/>
                      </a:lnTo>
                      <a:lnTo>
                        <a:pt x="68" y="1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>
                  <a:off x="914040" y="440820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37" h="136">
                      <a:moveTo>
                        <a:pt x="23" y="136"/>
                      </a:moveTo>
                      <a:lnTo>
                        <a:pt x="137" y="46"/>
                      </a:lnTo>
                      <a:lnTo>
                        <a:pt x="137" y="0"/>
                      </a:lnTo>
                      <a:lnTo>
                        <a:pt x="91" y="0"/>
                      </a:lnTo>
                      <a:lnTo>
                        <a:pt x="0" y="68"/>
                      </a:lnTo>
                      <a:lnTo>
                        <a:pt x="0" y="136"/>
                      </a:lnTo>
                      <a:lnTo>
                        <a:pt x="23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70960" y="440820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37" h="136">
                      <a:moveTo>
                        <a:pt x="23" y="136"/>
                      </a:moveTo>
                      <a:lnTo>
                        <a:pt x="137" y="46"/>
                      </a:lnTo>
                      <a:lnTo>
                        <a:pt x="137" y="0"/>
                      </a:lnTo>
                      <a:lnTo>
                        <a:pt x="91" y="0"/>
                      </a:lnTo>
                      <a:lnTo>
                        <a:pt x="0" y="68"/>
                      </a:lnTo>
                      <a:lnTo>
                        <a:pt x="0" y="136"/>
                      </a:lnTo>
                      <a:lnTo>
                        <a:pt x="23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80320" y="4292640"/>
                  <a:ext cx="31320" cy="195840"/>
                </a:xfrm>
                <a:custGeom>
                  <a:avLst/>
                  <a:gdLst/>
                  <a:ahLst/>
                  <a:rect l="l" t="t" r="r" b="b"/>
                  <a:pathLst>
                    <a:path w="159" h="998">
                      <a:moveTo>
                        <a:pt x="159" y="975"/>
                      </a:moveTo>
                      <a:lnTo>
                        <a:pt x="136" y="998"/>
                      </a:lnTo>
                      <a:lnTo>
                        <a:pt x="91" y="998"/>
                      </a:ln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159" y="9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>
                  <a:off x="606960" y="4461840"/>
                  <a:ext cx="298080" cy="900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>
                  <a:off x="575280" y="4497480"/>
                  <a:ext cx="361440" cy="900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560520" y="4292640"/>
                <a:ext cx="387360" cy="231480"/>
                <a:chOff x="560520" y="4292640"/>
                <a:chExt cx="387360" cy="231480"/>
              </a:xfrm>
            </p:grpSpPr>
            <p:sp>
              <p:nvSpPr>
                <p:cNvPr id="1299" name=""/>
                <p:cNvSpPr/>
                <p:nvPr/>
              </p:nvSpPr>
              <p:spPr>
                <a:xfrm flipH="1">
                  <a:off x="902520" y="4292640"/>
                  <a:ext cx="27000" cy="195840"/>
                </a:xfrm>
                <a:custGeom>
                  <a:avLst/>
                  <a:gdLst/>
                  <a:ahLst/>
                  <a:rect l="l" t="t" r="r" b="b"/>
                  <a:pathLst>
                    <a:path w="136" h="998">
                      <a:moveTo>
                        <a:pt x="90" y="998"/>
                      </a:moveTo>
                      <a:lnTo>
                        <a:pt x="0" y="0"/>
                      </a:lnTo>
                      <a:lnTo>
                        <a:pt x="45" y="0"/>
                      </a:lnTo>
                      <a:lnTo>
                        <a:pt x="136" y="998"/>
                      </a:lnTo>
                      <a:lnTo>
                        <a:pt x="90" y="998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H="1">
                  <a:off x="897840" y="4292640"/>
                  <a:ext cx="22680" cy="195840"/>
                </a:xfrm>
                <a:custGeom>
                  <a:avLst/>
                  <a:gdLst/>
                  <a:ahLst/>
                  <a:rect l="l" t="t" r="r" b="b"/>
                  <a:pathLst>
                    <a:path w="114" h="998">
                      <a:moveTo>
                        <a:pt x="91" y="998"/>
                      </a:moveTo>
                      <a:lnTo>
                        <a:pt x="114" y="975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91" y="998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78520" y="4292640"/>
                  <a:ext cx="27000" cy="195840"/>
                </a:xfrm>
                <a:custGeom>
                  <a:avLst/>
                  <a:gdLst/>
                  <a:ahLst/>
                  <a:rect l="l" t="t" r="r" b="b"/>
                  <a:pathLst>
                    <a:path w="136" h="998">
                      <a:moveTo>
                        <a:pt x="90" y="998"/>
                      </a:moveTo>
                      <a:lnTo>
                        <a:pt x="0" y="0"/>
                      </a:lnTo>
                      <a:lnTo>
                        <a:pt x="45" y="0"/>
                      </a:lnTo>
                      <a:lnTo>
                        <a:pt x="136" y="998"/>
                      </a:lnTo>
                      <a:lnTo>
                        <a:pt x="90" y="998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H="1">
                  <a:off x="839880" y="4296960"/>
                  <a:ext cx="17640" cy="2232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>
                  <a:off x="641160" y="4296960"/>
                  <a:ext cx="17640" cy="2232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87160" y="4292640"/>
                  <a:ext cx="22680" cy="195840"/>
                </a:xfrm>
                <a:custGeom>
                  <a:avLst/>
                  <a:gdLst/>
                  <a:ahLst/>
                  <a:rect l="l" t="t" r="r" b="b"/>
                  <a:pathLst>
                    <a:path w="114" h="998">
                      <a:moveTo>
                        <a:pt x="91" y="998"/>
                      </a:moveTo>
                      <a:lnTo>
                        <a:pt x="114" y="975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91" y="998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"/>
                <p:cNvGrpSpPr/>
                <p:nvPr/>
              </p:nvGrpSpPr>
              <p:grpSpPr>
                <a:xfrm>
                  <a:off x="600840" y="4310280"/>
                  <a:ext cx="306720" cy="53280"/>
                  <a:chOff x="600840" y="4310280"/>
                  <a:chExt cx="306720" cy="5328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 flipH="1">
                    <a:off x="600840" y="4310280"/>
                    <a:ext cx="3067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 flipH="1">
                    <a:off x="855000" y="4310280"/>
                    <a:ext cx="5256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272">
                        <a:moveTo>
                          <a:pt x="0" y="272"/>
                        </a:moveTo>
                        <a:lnTo>
                          <a:pt x="0" y="91"/>
                        </a:lnTo>
                        <a:lnTo>
                          <a:pt x="91" y="0"/>
                        </a:lnTo>
                        <a:lnTo>
                          <a:pt x="272" y="0"/>
                        </a:lnTo>
                        <a:lnTo>
                          <a:pt x="0" y="27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>
                    <a:off x="784800" y="4310280"/>
                    <a:ext cx="874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272">
                        <a:moveTo>
                          <a:pt x="453" y="1"/>
                        </a:moveTo>
                        <a:lnTo>
                          <a:pt x="272" y="0"/>
                        </a:lnTo>
                        <a:lnTo>
                          <a:pt x="0" y="272"/>
                        </a:lnTo>
                        <a:lnTo>
                          <a:pt x="181" y="272"/>
                        </a:lnTo>
                        <a:lnTo>
                          <a:pt x="453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 flipH="1">
                    <a:off x="714600" y="4310280"/>
                    <a:ext cx="874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272">
                        <a:moveTo>
                          <a:pt x="453" y="1"/>
                        </a:moveTo>
                        <a:lnTo>
                          <a:pt x="272" y="0"/>
                        </a:lnTo>
                        <a:lnTo>
                          <a:pt x="0" y="272"/>
                        </a:lnTo>
                        <a:lnTo>
                          <a:pt x="181" y="272"/>
                        </a:lnTo>
                        <a:lnTo>
                          <a:pt x="453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flipH="1">
                    <a:off x="644400" y="4310280"/>
                    <a:ext cx="874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272">
                        <a:moveTo>
                          <a:pt x="453" y="1"/>
                        </a:moveTo>
                        <a:lnTo>
                          <a:pt x="272" y="0"/>
                        </a:lnTo>
                        <a:lnTo>
                          <a:pt x="0" y="272"/>
                        </a:lnTo>
                        <a:lnTo>
                          <a:pt x="181" y="272"/>
                        </a:lnTo>
                        <a:lnTo>
                          <a:pt x="453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H="1">
                    <a:off x="600840" y="4310280"/>
                    <a:ext cx="612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72">
                        <a:moveTo>
                          <a:pt x="0" y="272"/>
                        </a:moveTo>
                        <a:lnTo>
                          <a:pt x="181" y="272"/>
                        </a:lnTo>
                        <a:lnTo>
                          <a:pt x="318" y="136"/>
                        </a:lnTo>
                        <a:lnTo>
                          <a:pt x="318" y="0"/>
                        </a:lnTo>
                        <a:lnTo>
                          <a:pt x="272" y="0"/>
                        </a:lnTo>
                        <a:lnTo>
                          <a:pt x="0" y="27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"/>
                <p:cNvSpPr/>
                <p:nvPr/>
              </p:nvSpPr>
              <p:spPr>
                <a:xfrm flipH="1">
                  <a:off x="604800" y="4461840"/>
                  <a:ext cx="297720" cy="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H="1">
                  <a:off x="912240" y="44082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113" h="136">
                      <a:moveTo>
                        <a:pt x="113" y="0"/>
                      </a:moveTo>
                      <a:lnTo>
                        <a:pt x="0" y="91"/>
                      </a:lnTo>
                      <a:lnTo>
                        <a:pt x="0" y="136"/>
                      </a:lnTo>
                      <a:lnTo>
                        <a:pt x="113" y="46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573840" y="44082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113" h="136">
                      <a:moveTo>
                        <a:pt x="113" y="0"/>
                      </a:moveTo>
                      <a:lnTo>
                        <a:pt x="0" y="91"/>
                      </a:lnTo>
                      <a:lnTo>
                        <a:pt x="0" y="136"/>
                      </a:lnTo>
                      <a:lnTo>
                        <a:pt x="113" y="46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H="1">
                  <a:off x="911880" y="4408200"/>
                  <a:ext cx="27000" cy="13320"/>
                </a:xfrm>
                <a:custGeom>
                  <a:avLst/>
                  <a:gdLst/>
                  <a:ahLst/>
                  <a:rect l="l" t="t" r="r" b="b"/>
                  <a:pathLst>
                    <a:path w="136" h="68">
                      <a:moveTo>
                        <a:pt x="136" y="0"/>
                      </a:moveTo>
                      <a:lnTo>
                        <a:pt x="91" y="0"/>
                      </a:lnTo>
                      <a:lnTo>
                        <a:pt x="0" y="68"/>
                      </a:lnTo>
                      <a:lnTo>
                        <a:pt x="46" y="68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69520" y="4408200"/>
                  <a:ext cx="27000" cy="13320"/>
                </a:xfrm>
                <a:custGeom>
                  <a:avLst/>
                  <a:gdLst/>
                  <a:ahLst/>
                  <a:rect l="l" t="t" r="r" b="b"/>
                  <a:pathLst>
                    <a:path w="136" h="68">
                      <a:moveTo>
                        <a:pt x="136" y="0"/>
                      </a:moveTo>
                      <a:lnTo>
                        <a:pt x="91" y="0"/>
                      </a:lnTo>
                      <a:lnTo>
                        <a:pt x="0" y="68"/>
                      </a:lnTo>
                      <a:lnTo>
                        <a:pt x="46" y="68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560520" y="4292640"/>
                  <a:ext cx="27000" cy="231480"/>
                </a:xfrm>
                <a:custGeom>
                  <a:avLst/>
                  <a:gdLst/>
                  <a:ahLst/>
                  <a:rect l="l" t="t" r="r" b="b"/>
                  <a:pathLst>
                    <a:path w="136" h="1180">
                      <a:moveTo>
                        <a:pt x="136" y="0"/>
                      </a:moveTo>
                      <a:lnTo>
                        <a:pt x="45" y="1180"/>
                      </a:lnTo>
                      <a:lnTo>
                        <a:pt x="0" y="1180"/>
                      </a:lnTo>
                      <a:lnTo>
                        <a:pt x="91" y="0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569160" y="4301640"/>
                  <a:ext cx="22680" cy="222480"/>
                </a:xfrm>
                <a:custGeom>
                  <a:avLst/>
                  <a:gdLst/>
                  <a:ahLst/>
                  <a:rect l="l" t="t" r="r" b="b"/>
                  <a:pathLst>
                    <a:path w="114" h="1134">
                      <a:moveTo>
                        <a:pt x="0" y="1134"/>
                      </a:moveTo>
                      <a:lnTo>
                        <a:pt x="23" y="1111"/>
                      </a:lnTo>
                      <a:lnTo>
                        <a:pt x="114" y="0"/>
                      </a:lnTo>
                      <a:lnTo>
                        <a:pt x="91" y="0"/>
                      </a:lnTo>
                      <a:lnTo>
                        <a:pt x="0" y="113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H="1">
                  <a:off x="916920" y="4301640"/>
                  <a:ext cx="22320" cy="222480"/>
                </a:xfrm>
                <a:custGeom>
                  <a:avLst/>
                  <a:gdLst/>
                  <a:ahLst/>
                  <a:rect l="l" t="t" r="r" b="b"/>
                  <a:pathLst>
                    <a:path w="114" h="1134">
                      <a:moveTo>
                        <a:pt x="0" y="1134"/>
                      </a:moveTo>
                      <a:lnTo>
                        <a:pt x="91" y="0"/>
                      </a:lnTo>
                      <a:lnTo>
                        <a:pt x="114" y="0"/>
                      </a:lnTo>
                      <a:lnTo>
                        <a:pt x="23" y="1111"/>
                      </a:lnTo>
                      <a:lnTo>
                        <a:pt x="0" y="113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flipH="1">
                  <a:off x="920520" y="4301640"/>
                  <a:ext cx="27000" cy="222480"/>
                </a:xfrm>
                <a:custGeom>
                  <a:avLst/>
                  <a:gdLst/>
                  <a:ahLst/>
                  <a:rect l="l" t="t" r="r" b="b"/>
                  <a:pathLst>
                    <a:path w="136" h="1134">
                      <a:moveTo>
                        <a:pt x="45" y="1134"/>
                      </a:moveTo>
                      <a:lnTo>
                        <a:pt x="136" y="0"/>
                      </a:lnTo>
                      <a:lnTo>
                        <a:pt x="91" y="0"/>
                      </a:lnTo>
                      <a:lnTo>
                        <a:pt x="0" y="1134"/>
                      </a:lnTo>
                      <a:lnTo>
                        <a:pt x="45" y="113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H="1">
                  <a:off x="573840" y="4497480"/>
                  <a:ext cx="360720" cy="9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>
                  <a:off x="577800" y="4292640"/>
                  <a:ext cx="351720" cy="86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"/>
            <p:cNvSpPr txBox="1"/>
            <p:nvPr/>
          </p:nvSpPr>
          <p:spPr>
            <a:xfrm>
              <a:off x="536400" y="4503600"/>
              <a:ext cx="400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工事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24" name=""/>
            <p:cNvSpPr txBox="1"/>
            <p:nvPr/>
          </p:nvSpPr>
          <p:spPr>
            <a:xfrm>
              <a:off x="536400" y="4503600"/>
              <a:ext cx="400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工事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1289160" y="4292640"/>
            <a:ext cx="412200" cy="360360"/>
            <a:chOff x="1289160" y="4292640"/>
            <a:chExt cx="412200" cy="360360"/>
          </a:xfrm>
        </p:grpSpPr>
        <p:grpSp>
          <p:nvGrpSpPr>
            <p:cNvPr id="1326" name=""/>
            <p:cNvGrpSpPr/>
            <p:nvPr/>
          </p:nvGrpSpPr>
          <p:grpSpPr>
            <a:xfrm>
              <a:off x="1289160" y="4292640"/>
              <a:ext cx="412200" cy="247320"/>
              <a:chOff x="1289160" y="4292640"/>
              <a:chExt cx="412200" cy="247320"/>
            </a:xfrm>
          </p:grpSpPr>
          <p:grpSp>
            <p:nvGrpSpPr>
              <p:cNvPr id="1327" name=""/>
              <p:cNvGrpSpPr/>
              <p:nvPr/>
            </p:nvGrpSpPr>
            <p:grpSpPr>
              <a:xfrm>
                <a:off x="1291320" y="4292640"/>
                <a:ext cx="410040" cy="247320"/>
                <a:chOff x="1291320" y="4292640"/>
                <a:chExt cx="410040" cy="24732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300680" y="4416120"/>
                  <a:ext cx="28800" cy="28440"/>
                </a:xfrm>
                <a:custGeom>
                  <a:avLst/>
                  <a:gdLst/>
                  <a:ahLst/>
                  <a:rect l="l" t="t" r="r" b="b"/>
                  <a:pathLst>
                    <a:path w="137" h="136">
                      <a:moveTo>
                        <a:pt x="23" y="136"/>
                      </a:moveTo>
                      <a:lnTo>
                        <a:pt x="137" y="46"/>
                      </a:lnTo>
                      <a:lnTo>
                        <a:pt x="137" y="0"/>
                      </a:lnTo>
                      <a:lnTo>
                        <a:pt x="91" y="0"/>
                      </a:lnTo>
                      <a:lnTo>
                        <a:pt x="0" y="68"/>
                      </a:lnTo>
                      <a:lnTo>
                        <a:pt x="0" y="136"/>
                      </a:lnTo>
                      <a:lnTo>
                        <a:pt x="23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1663200" y="4416120"/>
                  <a:ext cx="28800" cy="28440"/>
                </a:xfrm>
                <a:custGeom>
                  <a:avLst/>
                  <a:gdLst/>
                  <a:ahLst/>
                  <a:rect l="l" t="t" r="r" b="b"/>
                  <a:pathLst>
                    <a:path w="137" h="136">
                      <a:moveTo>
                        <a:pt x="23" y="136"/>
                      </a:moveTo>
                      <a:lnTo>
                        <a:pt x="137" y="46"/>
                      </a:lnTo>
                      <a:lnTo>
                        <a:pt x="137" y="0"/>
                      </a:lnTo>
                      <a:lnTo>
                        <a:pt x="91" y="0"/>
                      </a:lnTo>
                      <a:lnTo>
                        <a:pt x="0" y="68"/>
                      </a:lnTo>
                      <a:lnTo>
                        <a:pt x="0" y="136"/>
                      </a:lnTo>
                      <a:lnTo>
                        <a:pt x="23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1648080" y="4292640"/>
                  <a:ext cx="33480" cy="209520"/>
                </a:xfrm>
                <a:custGeom>
                  <a:avLst/>
                  <a:gdLst/>
                  <a:ahLst/>
                  <a:rect l="l" t="t" r="r" b="b"/>
                  <a:pathLst>
                    <a:path w="159" h="998">
                      <a:moveTo>
                        <a:pt x="159" y="975"/>
                      </a:moveTo>
                      <a:lnTo>
                        <a:pt x="136" y="998"/>
                      </a:lnTo>
                      <a:lnTo>
                        <a:pt x="91" y="998"/>
                      </a:ln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159" y="9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310400" y="4292640"/>
                  <a:ext cx="33120" cy="209520"/>
                </a:xfrm>
                <a:custGeom>
                  <a:avLst/>
                  <a:gdLst/>
                  <a:ahLst/>
                  <a:rect l="l" t="t" r="r" b="b"/>
                  <a:pathLst>
                    <a:path w="159" h="998">
                      <a:moveTo>
                        <a:pt x="159" y="975"/>
                      </a:moveTo>
                      <a:lnTo>
                        <a:pt x="136" y="998"/>
                      </a:lnTo>
                      <a:lnTo>
                        <a:pt x="91" y="998"/>
                      </a:ln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159" y="9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1338840" y="4473360"/>
                  <a:ext cx="314640" cy="936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1305360" y="4511520"/>
                  <a:ext cx="381240" cy="936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1291320" y="4292640"/>
                  <a:ext cx="410040" cy="247320"/>
                </a:xfrm>
                <a:custGeom>
                  <a:avLst/>
                  <a:gdLst/>
                  <a:ahLst/>
                  <a:rect l="l" t="t" r="r" b="b"/>
                  <a:pathLst>
                    <a:path w="1951" h="1179">
                      <a:moveTo>
                        <a:pt x="68" y="1156"/>
                      </a:moveTo>
                      <a:lnTo>
                        <a:pt x="45" y="1179"/>
                      </a:lnTo>
                      <a:lnTo>
                        <a:pt x="0" y="1179"/>
                      </a:lnTo>
                      <a:lnTo>
                        <a:pt x="91" y="45"/>
                      </a:lnTo>
                      <a:lnTo>
                        <a:pt x="91" y="0"/>
                      </a:lnTo>
                      <a:lnTo>
                        <a:pt x="1860" y="0"/>
                      </a:lnTo>
                      <a:lnTo>
                        <a:pt x="1860" y="45"/>
                      </a:lnTo>
                      <a:lnTo>
                        <a:pt x="1951" y="1179"/>
                      </a:lnTo>
                      <a:lnTo>
                        <a:pt x="1905" y="1179"/>
                      </a:lnTo>
                      <a:lnTo>
                        <a:pt x="1882" y="1156"/>
                      </a:lnTo>
                      <a:lnTo>
                        <a:pt x="1792" y="45"/>
                      </a:lnTo>
                      <a:lnTo>
                        <a:pt x="1542" y="45"/>
                      </a:lnTo>
                      <a:lnTo>
                        <a:pt x="1542" y="90"/>
                      </a:lnTo>
                      <a:lnTo>
                        <a:pt x="1746" y="90"/>
                      </a:lnTo>
                      <a:lnTo>
                        <a:pt x="1747" y="320"/>
                      </a:lnTo>
                      <a:lnTo>
                        <a:pt x="203" y="312"/>
                      </a:lnTo>
                      <a:lnTo>
                        <a:pt x="204" y="90"/>
                      </a:lnTo>
                      <a:lnTo>
                        <a:pt x="1452" y="90"/>
                      </a:lnTo>
                      <a:lnTo>
                        <a:pt x="1452" y="45"/>
                      </a:lnTo>
                      <a:lnTo>
                        <a:pt x="544" y="45"/>
                      </a:lnTo>
                      <a:lnTo>
                        <a:pt x="544" y="90"/>
                      </a:lnTo>
                      <a:lnTo>
                        <a:pt x="454" y="90"/>
                      </a:lnTo>
                      <a:lnTo>
                        <a:pt x="454" y="45"/>
                      </a:lnTo>
                      <a:lnTo>
                        <a:pt x="159" y="45"/>
                      </a:lnTo>
                      <a:lnTo>
                        <a:pt x="68" y="1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1289160" y="4292640"/>
                <a:ext cx="410040" cy="247320"/>
                <a:chOff x="1289160" y="4292640"/>
                <a:chExt cx="410040" cy="24732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1308240" y="4292640"/>
                  <a:ext cx="28440" cy="209160"/>
                </a:xfrm>
                <a:custGeom>
                  <a:avLst/>
                  <a:gdLst/>
                  <a:ahLst/>
                  <a:rect l="l" t="t" r="r" b="b"/>
                  <a:pathLst>
                    <a:path w="136" h="998">
                      <a:moveTo>
                        <a:pt x="90" y="998"/>
                      </a:moveTo>
                      <a:lnTo>
                        <a:pt x="0" y="0"/>
                      </a:lnTo>
                      <a:lnTo>
                        <a:pt x="45" y="0"/>
                      </a:lnTo>
                      <a:lnTo>
                        <a:pt x="136" y="998"/>
                      </a:lnTo>
                      <a:lnTo>
                        <a:pt x="90" y="99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1317600" y="4292640"/>
                  <a:ext cx="23760" cy="209160"/>
                </a:xfrm>
                <a:custGeom>
                  <a:avLst/>
                  <a:gdLst/>
                  <a:ahLst/>
                  <a:rect l="l" t="t" r="r" b="b"/>
                  <a:pathLst>
                    <a:path w="114" h="998">
                      <a:moveTo>
                        <a:pt x="91" y="998"/>
                      </a:moveTo>
                      <a:lnTo>
                        <a:pt x="114" y="975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91" y="99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>
                  <a:off x="1651320" y="4292640"/>
                  <a:ext cx="28440" cy="209160"/>
                </a:xfrm>
                <a:custGeom>
                  <a:avLst/>
                  <a:gdLst/>
                  <a:ahLst/>
                  <a:rect l="l" t="t" r="r" b="b"/>
                  <a:pathLst>
                    <a:path w="136" h="998">
                      <a:moveTo>
                        <a:pt x="90" y="998"/>
                      </a:moveTo>
                      <a:lnTo>
                        <a:pt x="0" y="0"/>
                      </a:lnTo>
                      <a:lnTo>
                        <a:pt x="45" y="0"/>
                      </a:lnTo>
                      <a:lnTo>
                        <a:pt x="136" y="998"/>
                      </a:lnTo>
                      <a:lnTo>
                        <a:pt x="90" y="99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384560" y="4297320"/>
                  <a:ext cx="18720" cy="2376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594800" y="4297320"/>
                  <a:ext cx="18720" cy="2376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H="1">
                  <a:off x="1647360" y="4292640"/>
                  <a:ext cx="23760" cy="209160"/>
                </a:xfrm>
                <a:custGeom>
                  <a:avLst/>
                  <a:gdLst/>
                  <a:ahLst/>
                  <a:rect l="l" t="t" r="r" b="b"/>
                  <a:pathLst>
                    <a:path w="114" h="998">
                      <a:moveTo>
                        <a:pt x="91" y="998"/>
                      </a:moveTo>
                      <a:lnTo>
                        <a:pt x="114" y="975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91" y="99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332000" y="4311720"/>
                  <a:ext cx="324720" cy="47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1336680" y="4473360"/>
                  <a:ext cx="315000" cy="936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1303200" y="4416480"/>
                  <a:ext cx="23760" cy="28440"/>
                </a:xfrm>
                <a:custGeom>
                  <a:avLst/>
                  <a:gdLst/>
                  <a:ahLst/>
                  <a:rect l="l" t="t" r="r" b="b"/>
                  <a:pathLst>
                    <a:path w="113" h="136">
                      <a:moveTo>
                        <a:pt x="113" y="0"/>
                      </a:moveTo>
                      <a:lnTo>
                        <a:pt x="0" y="91"/>
                      </a:lnTo>
                      <a:lnTo>
                        <a:pt x="0" y="136"/>
                      </a:lnTo>
                      <a:lnTo>
                        <a:pt x="113" y="46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1661400" y="4416480"/>
                  <a:ext cx="23760" cy="28440"/>
                </a:xfrm>
                <a:custGeom>
                  <a:avLst/>
                  <a:gdLst/>
                  <a:ahLst/>
                  <a:rect l="l" t="t" r="r" b="b"/>
                  <a:pathLst>
                    <a:path w="113" h="136">
                      <a:moveTo>
                        <a:pt x="113" y="0"/>
                      </a:moveTo>
                      <a:lnTo>
                        <a:pt x="0" y="91"/>
                      </a:lnTo>
                      <a:lnTo>
                        <a:pt x="0" y="136"/>
                      </a:lnTo>
                      <a:lnTo>
                        <a:pt x="113" y="46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298520" y="4416480"/>
                  <a:ext cx="28440" cy="14040"/>
                </a:xfrm>
                <a:custGeom>
                  <a:avLst/>
                  <a:gdLst/>
                  <a:ahLst/>
                  <a:rect l="l" t="t" r="r" b="b"/>
                  <a:pathLst>
                    <a:path w="136" h="68">
                      <a:moveTo>
                        <a:pt x="136" y="0"/>
                      </a:moveTo>
                      <a:lnTo>
                        <a:pt x="91" y="0"/>
                      </a:lnTo>
                      <a:lnTo>
                        <a:pt x="0" y="68"/>
                      </a:lnTo>
                      <a:lnTo>
                        <a:pt x="46" y="68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>
                  <a:off x="1660680" y="4416480"/>
                  <a:ext cx="28440" cy="14040"/>
                </a:xfrm>
                <a:custGeom>
                  <a:avLst/>
                  <a:gdLst/>
                  <a:ahLst/>
                  <a:rect l="l" t="t" r="r" b="b"/>
                  <a:pathLst>
                    <a:path w="136" h="68">
                      <a:moveTo>
                        <a:pt x="136" y="0"/>
                      </a:moveTo>
                      <a:lnTo>
                        <a:pt x="91" y="0"/>
                      </a:lnTo>
                      <a:lnTo>
                        <a:pt x="0" y="68"/>
                      </a:lnTo>
                      <a:lnTo>
                        <a:pt x="46" y="68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>
                  <a:off x="1670400" y="4292640"/>
                  <a:ext cx="28440" cy="247320"/>
                </a:xfrm>
                <a:custGeom>
                  <a:avLst/>
                  <a:gdLst/>
                  <a:ahLst/>
                  <a:rect l="l" t="t" r="r" b="b"/>
                  <a:pathLst>
                    <a:path w="136" h="1180">
                      <a:moveTo>
                        <a:pt x="136" y="0"/>
                      </a:moveTo>
                      <a:lnTo>
                        <a:pt x="45" y="1180"/>
                      </a:lnTo>
                      <a:lnTo>
                        <a:pt x="0" y="1180"/>
                      </a:lnTo>
                      <a:lnTo>
                        <a:pt x="91" y="0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H="1">
                  <a:off x="1666440" y="4302000"/>
                  <a:ext cx="23760" cy="237960"/>
                </a:xfrm>
                <a:custGeom>
                  <a:avLst/>
                  <a:gdLst/>
                  <a:ahLst/>
                  <a:rect l="l" t="t" r="r" b="b"/>
                  <a:pathLst>
                    <a:path w="114" h="1134">
                      <a:moveTo>
                        <a:pt x="0" y="1134"/>
                      </a:moveTo>
                      <a:lnTo>
                        <a:pt x="23" y="1111"/>
                      </a:lnTo>
                      <a:lnTo>
                        <a:pt x="114" y="0"/>
                      </a:lnTo>
                      <a:lnTo>
                        <a:pt x="91" y="0"/>
                      </a:lnTo>
                      <a:lnTo>
                        <a:pt x="0" y="113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1298520" y="4302000"/>
                  <a:ext cx="23760" cy="237960"/>
                </a:xfrm>
                <a:custGeom>
                  <a:avLst/>
                  <a:gdLst/>
                  <a:ahLst/>
                  <a:rect l="l" t="t" r="r" b="b"/>
                  <a:pathLst>
                    <a:path w="114" h="1134">
                      <a:moveTo>
                        <a:pt x="0" y="1134"/>
                      </a:moveTo>
                      <a:lnTo>
                        <a:pt x="91" y="0"/>
                      </a:lnTo>
                      <a:lnTo>
                        <a:pt x="114" y="0"/>
                      </a:lnTo>
                      <a:lnTo>
                        <a:pt x="23" y="1111"/>
                      </a:lnTo>
                      <a:lnTo>
                        <a:pt x="0" y="113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1289160" y="4302000"/>
                  <a:ext cx="28440" cy="237960"/>
                </a:xfrm>
                <a:custGeom>
                  <a:avLst/>
                  <a:gdLst/>
                  <a:ahLst/>
                  <a:rect l="l" t="t" r="r" b="b"/>
                  <a:pathLst>
                    <a:path w="136" h="1134">
                      <a:moveTo>
                        <a:pt x="45" y="1134"/>
                      </a:moveTo>
                      <a:lnTo>
                        <a:pt x="136" y="0"/>
                      </a:lnTo>
                      <a:lnTo>
                        <a:pt x="91" y="0"/>
                      </a:lnTo>
                      <a:lnTo>
                        <a:pt x="0" y="1134"/>
                      </a:lnTo>
                      <a:lnTo>
                        <a:pt x="45" y="113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303200" y="4511520"/>
                  <a:ext cx="381960" cy="936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308240" y="4292640"/>
                  <a:ext cx="372240" cy="936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475280" y="4311720"/>
                  <a:ext cx="37440" cy="47520"/>
                </a:xfrm>
                <a:custGeom>
                  <a:avLst/>
                  <a:gdLst/>
                  <a:ahLst/>
                  <a:rect l="l" t="t" r="r" b="b"/>
                  <a:pathLst>
                    <a:path w="179" h="227">
                      <a:moveTo>
                        <a:pt x="68" y="0"/>
                      </a:moveTo>
                      <a:lnTo>
                        <a:pt x="0" y="114"/>
                      </a:lnTo>
                      <a:lnTo>
                        <a:pt x="68" y="227"/>
                      </a:lnTo>
                      <a:lnTo>
                        <a:pt x="114" y="227"/>
                      </a:lnTo>
                      <a:lnTo>
                        <a:pt x="179" y="114"/>
                      </a:lnTo>
                      <a:lnTo>
                        <a:pt x="113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332000" y="431172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182" h="227">
                      <a:moveTo>
                        <a:pt x="68" y="227"/>
                      </a:moveTo>
                      <a:lnTo>
                        <a:pt x="0" y="114"/>
                      </a:lnTo>
                      <a:lnTo>
                        <a:pt x="68" y="0"/>
                      </a:lnTo>
                      <a:lnTo>
                        <a:pt x="182" y="0"/>
                      </a:lnTo>
                      <a:lnTo>
                        <a:pt x="114" y="114"/>
                      </a:lnTo>
                      <a:lnTo>
                        <a:pt x="182" y="227"/>
                      </a:lnTo>
                      <a:lnTo>
                        <a:pt x="68" y="22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379880" y="431172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182" h="227">
                      <a:moveTo>
                        <a:pt x="68" y="227"/>
                      </a:moveTo>
                      <a:lnTo>
                        <a:pt x="0" y="114"/>
                      </a:lnTo>
                      <a:lnTo>
                        <a:pt x="68" y="0"/>
                      </a:lnTo>
                      <a:lnTo>
                        <a:pt x="182" y="0"/>
                      </a:lnTo>
                      <a:lnTo>
                        <a:pt x="114" y="114"/>
                      </a:lnTo>
                      <a:lnTo>
                        <a:pt x="182" y="227"/>
                      </a:lnTo>
                      <a:lnTo>
                        <a:pt x="68" y="22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427760" y="431172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182" h="227">
                      <a:moveTo>
                        <a:pt x="68" y="227"/>
                      </a:moveTo>
                      <a:lnTo>
                        <a:pt x="0" y="114"/>
                      </a:lnTo>
                      <a:lnTo>
                        <a:pt x="68" y="0"/>
                      </a:lnTo>
                      <a:lnTo>
                        <a:pt x="182" y="0"/>
                      </a:lnTo>
                      <a:lnTo>
                        <a:pt x="114" y="114"/>
                      </a:lnTo>
                      <a:lnTo>
                        <a:pt x="182" y="227"/>
                      </a:lnTo>
                      <a:lnTo>
                        <a:pt x="68" y="22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H="1">
                  <a:off x="1523160" y="431172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182" h="227">
                      <a:moveTo>
                        <a:pt x="68" y="227"/>
                      </a:moveTo>
                      <a:lnTo>
                        <a:pt x="0" y="114"/>
                      </a:lnTo>
                      <a:lnTo>
                        <a:pt x="68" y="0"/>
                      </a:lnTo>
                      <a:lnTo>
                        <a:pt x="182" y="0"/>
                      </a:lnTo>
                      <a:lnTo>
                        <a:pt x="114" y="114"/>
                      </a:lnTo>
                      <a:lnTo>
                        <a:pt x="182" y="227"/>
                      </a:lnTo>
                      <a:lnTo>
                        <a:pt x="68" y="22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>
                  <a:off x="1570680" y="431172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182" h="227">
                      <a:moveTo>
                        <a:pt x="68" y="227"/>
                      </a:moveTo>
                      <a:lnTo>
                        <a:pt x="0" y="114"/>
                      </a:lnTo>
                      <a:lnTo>
                        <a:pt x="68" y="0"/>
                      </a:lnTo>
                      <a:lnTo>
                        <a:pt x="182" y="0"/>
                      </a:lnTo>
                      <a:lnTo>
                        <a:pt x="114" y="114"/>
                      </a:lnTo>
                      <a:lnTo>
                        <a:pt x="182" y="227"/>
                      </a:lnTo>
                      <a:lnTo>
                        <a:pt x="68" y="22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H="1">
                  <a:off x="1618560" y="4311720"/>
                  <a:ext cx="38160" cy="47520"/>
                </a:xfrm>
                <a:custGeom>
                  <a:avLst/>
                  <a:gdLst/>
                  <a:ahLst/>
                  <a:rect l="l" t="t" r="r" b="b"/>
                  <a:pathLst>
                    <a:path w="182" h="227">
                      <a:moveTo>
                        <a:pt x="68" y="227"/>
                      </a:moveTo>
                      <a:lnTo>
                        <a:pt x="0" y="114"/>
                      </a:lnTo>
                      <a:lnTo>
                        <a:pt x="68" y="0"/>
                      </a:lnTo>
                      <a:lnTo>
                        <a:pt x="182" y="0"/>
                      </a:lnTo>
                      <a:lnTo>
                        <a:pt x="114" y="114"/>
                      </a:lnTo>
                      <a:lnTo>
                        <a:pt x="182" y="227"/>
                      </a:lnTo>
                      <a:lnTo>
                        <a:pt x="68" y="22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1" name=""/>
            <p:cNvSpPr txBox="1"/>
            <p:nvPr/>
          </p:nvSpPr>
          <p:spPr>
            <a:xfrm>
              <a:off x="1297080" y="4503600"/>
              <a:ext cx="39996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作業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62" name=""/>
            <p:cNvSpPr txBox="1"/>
            <p:nvPr/>
          </p:nvSpPr>
          <p:spPr>
            <a:xfrm>
              <a:off x="1297080" y="4503600"/>
              <a:ext cx="39996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作業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6738840" y="4292640"/>
            <a:ext cx="399960" cy="358560"/>
            <a:chOff x="6738840" y="4292640"/>
            <a:chExt cx="399960" cy="358560"/>
          </a:xfrm>
        </p:grpSpPr>
        <p:grpSp>
          <p:nvGrpSpPr>
            <p:cNvPr id="1364" name=""/>
            <p:cNvGrpSpPr/>
            <p:nvPr/>
          </p:nvGrpSpPr>
          <p:grpSpPr>
            <a:xfrm>
              <a:off x="6796080" y="4292640"/>
              <a:ext cx="287280" cy="287280"/>
              <a:chOff x="6796080" y="4292640"/>
              <a:chExt cx="287280" cy="287280"/>
            </a:xfrm>
          </p:grpSpPr>
          <p:sp>
            <p:nvSpPr>
              <p:cNvPr id="1365" name=""/>
              <p:cNvSpPr/>
              <p:nvPr/>
            </p:nvSpPr>
            <p:spPr>
              <a:xfrm>
                <a:off x="6796080" y="4292640"/>
                <a:ext cx="287280" cy="287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6796080" y="4292640"/>
                <a:ext cx="287280" cy="287280"/>
                <a:chOff x="6796080" y="4292640"/>
                <a:chExt cx="287280" cy="28728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6796080" y="4292640"/>
                  <a:ext cx="287280" cy="2872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6805080" y="4301640"/>
                  <a:ext cx="268920" cy="26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f0f0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6885720" y="4382280"/>
                  <a:ext cx="107640" cy="1076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6904080" y="4400640"/>
                  <a:ext cx="71640" cy="716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1" name=""/>
            <p:cNvGrpSpPr/>
            <p:nvPr/>
          </p:nvGrpSpPr>
          <p:grpSpPr>
            <a:xfrm>
              <a:off x="6738840" y="4502160"/>
              <a:ext cx="399960" cy="149040"/>
              <a:chOff x="6738840" y="4502160"/>
              <a:chExt cx="399960" cy="149040"/>
            </a:xfrm>
          </p:grpSpPr>
          <p:sp>
            <p:nvSpPr>
              <p:cNvPr id="1372" name=""/>
              <p:cNvSpPr txBox="1"/>
              <p:nvPr/>
            </p:nvSpPr>
            <p:spPr>
              <a:xfrm>
                <a:off x="6738840" y="45021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バックアップ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373" name=""/>
              <p:cNvSpPr txBox="1"/>
              <p:nvPr/>
            </p:nvSpPr>
            <p:spPr>
              <a:xfrm>
                <a:off x="6738840" y="45021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バックアップ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374" name=""/>
          <p:cNvGrpSpPr/>
          <p:nvPr/>
        </p:nvGrpSpPr>
        <p:grpSpPr>
          <a:xfrm>
            <a:off x="7526160" y="4235400"/>
            <a:ext cx="400320" cy="415800"/>
            <a:chOff x="7526160" y="4235400"/>
            <a:chExt cx="400320" cy="415800"/>
          </a:xfrm>
        </p:grpSpPr>
        <p:grpSp>
          <p:nvGrpSpPr>
            <p:cNvPr id="1375" name=""/>
            <p:cNvGrpSpPr/>
            <p:nvPr/>
          </p:nvGrpSpPr>
          <p:grpSpPr>
            <a:xfrm>
              <a:off x="7543800" y="4235400"/>
              <a:ext cx="363600" cy="273240"/>
              <a:chOff x="7543800" y="4235400"/>
              <a:chExt cx="363600" cy="273240"/>
            </a:xfrm>
          </p:grpSpPr>
          <p:sp>
            <p:nvSpPr>
              <p:cNvPr id="1376" name=""/>
              <p:cNvSpPr/>
              <p:nvPr/>
            </p:nvSpPr>
            <p:spPr>
              <a:xfrm>
                <a:off x="7543800" y="4235400"/>
                <a:ext cx="363600" cy="273240"/>
              </a:xfrm>
              <a:prstGeom prst="can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43800" y="4235400"/>
                <a:ext cx="363600" cy="27324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8" name=""/>
            <p:cNvSpPr txBox="1"/>
            <p:nvPr/>
          </p:nvSpPr>
          <p:spPr>
            <a:xfrm>
              <a:off x="7526160" y="4502160"/>
              <a:ext cx="40032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データ管理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379" name=""/>
            <p:cNvSpPr txBox="1"/>
            <p:nvPr/>
          </p:nvSpPr>
          <p:spPr>
            <a:xfrm>
              <a:off x="7526160" y="4502160"/>
              <a:ext cx="40032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データ管理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8261640" y="4231440"/>
            <a:ext cx="448920" cy="419760"/>
            <a:chOff x="8261640" y="4231440"/>
            <a:chExt cx="448920" cy="419760"/>
          </a:xfrm>
        </p:grpSpPr>
        <p:grpSp>
          <p:nvGrpSpPr>
            <p:cNvPr id="1381" name=""/>
            <p:cNvGrpSpPr/>
            <p:nvPr/>
          </p:nvGrpSpPr>
          <p:grpSpPr>
            <a:xfrm>
              <a:off x="8261640" y="4231440"/>
              <a:ext cx="442440" cy="367560"/>
              <a:chOff x="8261640" y="4231440"/>
              <a:chExt cx="442440" cy="367560"/>
            </a:xfrm>
          </p:grpSpPr>
          <p:grpSp>
            <p:nvGrpSpPr>
              <p:cNvPr id="1382" name=""/>
              <p:cNvGrpSpPr/>
              <p:nvPr/>
            </p:nvGrpSpPr>
            <p:grpSpPr>
              <a:xfrm>
                <a:off x="8261640" y="4232160"/>
                <a:ext cx="441720" cy="366840"/>
                <a:chOff x="8261640" y="4232160"/>
                <a:chExt cx="441720" cy="366840"/>
              </a:xfrm>
            </p:grpSpPr>
            <p:sp>
              <p:nvSpPr>
                <p:cNvPr id="1383" name=""/>
                <p:cNvSpPr/>
                <p:nvPr/>
              </p:nvSpPr>
              <p:spPr>
                <a:xfrm rot="18240600">
                  <a:off x="8310600" y="4280040"/>
                  <a:ext cx="249840" cy="251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rot="18240600">
                  <a:off x="8551800" y="4442760"/>
                  <a:ext cx="35280" cy="107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rot="18240600">
                  <a:off x="8609760" y="4478760"/>
                  <a:ext cx="53280" cy="125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8261640" y="4231440"/>
                <a:ext cx="442440" cy="367560"/>
                <a:chOff x="8261640" y="4231440"/>
                <a:chExt cx="442440" cy="367560"/>
              </a:xfrm>
            </p:grpSpPr>
            <p:sp>
              <p:nvSpPr>
                <p:cNvPr id="1387" name=""/>
                <p:cNvSpPr/>
                <p:nvPr/>
              </p:nvSpPr>
              <p:spPr>
                <a:xfrm rot="18240600">
                  <a:off x="8552520" y="4442400"/>
                  <a:ext cx="35280" cy="10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rot="18240600">
                  <a:off x="8328600" y="4298400"/>
                  <a:ext cx="214560" cy="21528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18240600">
                  <a:off x="8310240" y="4279680"/>
                  <a:ext cx="250560" cy="251280"/>
                </a:xfrm>
                <a:prstGeom prst="donut">
                  <a:avLst>
                    <a:gd name="adj" fmla="val 12731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rot="18240600">
                  <a:off x="8609760" y="4478760"/>
                  <a:ext cx="53640" cy="12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1" name=""/>
            <p:cNvGrpSpPr/>
            <p:nvPr/>
          </p:nvGrpSpPr>
          <p:grpSpPr>
            <a:xfrm>
              <a:off x="8310600" y="4502160"/>
              <a:ext cx="399960" cy="149040"/>
              <a:chOff x="8310600" y="4502160"/>
              <a:chExt cx="399960" cy="149040"/>
            </a:xfrm>
          </p:grpSpPr>
          <p:sp>
            <p:nvSpPr>
              <p:cNvPr id="1392" name=""/>
              <p:cNvSpPr txBox="1"/>
              <p:nvPr/>
            </p:nvSpPr>
            <p:spPr>
              <a:xfrm>
                <a:off x="8310600" y="45021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検品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393" name=""/>
              <p:cNvSpPr txBox="1"/>
              <p:nvPr/>
            </p:nvSpPr>
            <p:spPr>
              <a:xfrm>
                <a:off x="8310600" y="45021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検品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394" name=""/>
          <p:cNvGrpSpPr/>
          <p:nvPr/>
        </p:nvGrpSpPr>
        <p:grpSpPr>
          <a:xfrm>
            <a:off x="2101680" y="4297320"/>
            <a:ext cx="400320" cy="355680"/>
            <a:chOff x="2101680" y="4297320"/>
            <a:chExt cx="400320" cy="355680"/>
          </a:xfrm>
        </p:grpSpPr>
        <p:grpSp>
          <p:nvGrpSpPr>
            <p:cNvPr id="1395" name=""/>
            <p:cNvGrpSpPr/>
            <p:nvPr/>
          </p:nvGrpSpPr>
          <p:grpSpPr>
            <a:xfrm>
              <a:off x="2178000" y="4297320"/>
              <a:ext cx="249120" cy="210960"/>
              <a:chOff x="2178000" y="4297320"/>
              <a:chExt cx="249120" cy="210960"/>
            </a:xfrm>
          </p:grpSpPr>
          <p:sp>
            <p:nvSpPr>
              <p:cNvPr id="1396" name=""/>
              <p:cNvSpPr/>
              <p:nvPr/>
            </p:nvSpPr>
            <p:spPr>
              <a:xfrm>
                <a:off x="2178000" y="4420440"/>
                <a:ext cx="249120" cy="878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178000" y="4420440"/>
                <a:ext cx="249120" cy="87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8" name=""/>
              <p:cNvGrpSpPr/>
              <p:nvPr/>
            </p:nvGrpSpPr>
            <p:grpSpPr>
              <a:xfrm>
                <a:off x="2210040" y="4297320"/>
                <a:ext cx="184680" cy="193680"/>
                <a:chOff x="2210040" y="4297320"/>
                <a:chExt cx="184680" cy="19368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2290320" y="4297320"/>
                  <a:ext cx="24120" cy="176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2210040" y="4414680"/>
                  <a:ext cx="184680" cy="763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2210040" y="4303080"/>
                  <a:ext cx="184680" cy="146880"/>
                </a:xfrm>
                <a:custGeom>
                  <a:avLst/>
                  <a:gdLst/>
                  <a:ahLst/>
                  <a:rect l="l" t="t" r="r" b="b"/>
                  <a:pathLst>
                    <a:path w="521" h="567">
                      <a:moveTo>
                        <a:pt x="0" y="567"/>
                      </a:moveTo>
                      <a:lnTo>
                        <a:pt x="521" y="567"/>
                      </a:lnTo>
                      <a:lnTo>
                        <a:pt x="295" y="0"/>
                      </a:lnTo>
                      <a:lnTo>
                        <a:pt x="227" y="0"/>
                      </a:lnTo>
                      <a:lnTo>
                        <a:pt x="0" y="5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2210040" y="4297320"/>
                <a:ext cx="184680" cy="193680"/>
                <a:chOff x="2210040" y="4297320"/>
                <a:chExt cx="184680" cy="19368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2290320" y="4297320"/>
                  <a:ext cx="24120" cy="176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2210040" y="4414680"/>
                  <a:ext cx="184680" cy="763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210040" y="4303080"/>
                  <a:ext cx="184680" cy="146880"/>
                </a:xfrm>
                <a:custGeom>
                  <a:avLst/>
                  <a:gdLst/>
                  <a:ahLst/>
                  <a:rect l="l" t="t" r="r" b="b"/>
                  <a:pathLst>
                    <a:path w="521" h="567">
                      <a:moveTo>
                        <a:pt x="0" y="567"/>
                      </a:moveTo>
                      <a:lnTo>
                        <a:pt x="521" y="567"/>
                      </a:lnTo>
                      <a:lnTo>
                        <a:pt x="295" y="0"/>
                      </a:lnTo>
                      <a:lnTo>
                        <a:pt x="227" y="0"/>
                      </a:lnTo>
                      <a:lnTo>
                        <a:pt x="0" y="56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6" name=""/>
            <p:cNvSpPr txBox="1"/>
            <p:nvPr/>
          </p:nvSpPr>
          <p:spPr>
            <a:xfrm>
              <a:off x="2101680" y="4503600"/>
              <a:ext cx="400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折返し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407" name=""/>
            <p:cNvSpPr txBox="1"/>
            <p:nvPr/>
          </p:nvSpPr>
          <p:spPr>
            <a:xfrm>
              <a:off x="2101680" y="4503600"/>
              <a:ext cx="400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折返し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5184720" y="4294080"/>
            <a:ext cx="399960" cy="352440"/>
            <a:chOff x="5184720" y="4294080"/>
            <a:chExt cx="399960" cy="352440"/>
          </a:xfrm>
        </p:grpSpPr>
        <p:grpSp>
          <p:nvGrpSpPr>
            <p:cNvPr id="1409" name=""/>
            <p:cNvGrpSpPr/>
            <p:nvPr/>
          </p:nvGrpSpPr>
          <p:grpSpPr>
            <a:xfrm>
              <a:off x="5205240" y="4294080"/>
              <a:ext cx="358920" cy="287280"/>
              <a:chOff x="5205240" y="4294080"/>
              <a:chExt cx="358920" cy="287280"/>
            </a:xfrm>
          </p:grpSpPr>
          <p:sp>
            <p:nvSpPr>
              <p:cNvPr id="1410" name=""/>
              <p:cNvSpPr/>
              <p:nvPr/>
            </p:nvSpPr>
            <p:spPr>
              <a:xfrm>
                <a:off x="5205240" y="4294080"/>
                <a:ext cx="358920" cy="287280"/>
              </a:xfrm>
              <a:custGeom>
                <a:avLst/>
                <a:gdLst/>
                <a:ahLst/>
                <a:rect l="l" t="t" r="r" b="b"/>
                <a:pathLst>
                  <a:path w="589" h="772">
                    <a:moveTo>
                      <a:pt x="589" y="681"/>
                    </a:moveTo>
                    <a:lnTo>
                      <a:pt x="499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589" y="0"/>
                    </a:lnTo>
                    <a:lnTo>
                      <a:pt x="589" y="6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ebebeb"/>
                  </a:gs>
                </a:gsLst>
                <a:lin ang="5400000"/>
              </a:gradFill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509800" y="4547520"/>
                <a:ext cx="54360" cy="33840"/>
              </a:xfrm>
              <a:custGeom>
                <a:avLst/>
                <a:gdLst/>
                <a:ahLst/>
                <a:rect l="l" t="t" r="r" b="b"/>
                <a:pathLst>
                  <a:path w="90" h="91">
                    <a:moveTo>
                      <a:pt x="90" y="0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232600" y="437832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232600" y="439524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232600" y="441180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232600" y="442908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232600" y="444600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232600" y="446256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232600" y="447984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232600" y="449640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232600" y="451368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307480" y="4327920"/>
                <a:ext cx="25200" cy="16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358960" y="4327920"/>
                <a:ext cx="25200" cy="16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409360" y="4327920"/>
                <a:ext cx="25200" cy="16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205240" y="4294080"/>
                <a:ext cx="358920" cy="287280"/>
              </a:xfrm>
              <a:custGeom>
                <a:avLst/>
                <a:gdLst/>
                <a:ahLst/>
                <a:rect l="l" t="t" r="r" b="b"/>
                <a:pathLst>
                  <a:path w="589" h="772">
                    <a:moveTo>
                      <a:pt x="589" y="681"/>
                    </a:moveTo>
                    <a:lnTo>
                      <a:pt x="499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589" y="0"/>
                    </a:lnTo>
                    <a:lnTo>
                      <a:pt x="589" y="681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5" name=""/>
            <p:cNvSpPr txBox="1"/>
            <p:nvPr/>
          </p:nvSpPr>
          <p:spPr>
            <a:xfrm>
              <a:off x="5184720" y="4497480"/>
              <a:ext cx="39996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仮見積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426" name=""/>
            <p:cNvSpPr txBox="1"/>
            <p:nvPr/>
          </p:nvSpPr>
          <p:spPr>
            <a:xfrm>
              <a:off x="5184720" y="4497480"/>
              <a:ext cx="39996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仮見積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5977080" y="4294080"/>
            <a:ext cx="399960" cy="352440"/>
            <a:chOff x="5977080" y="4294080"/>
            <a:chExt cx="399960" cy="352440"/>
          </a:xfrm>
        </p:grpSpPr>
        <p:grpSp>
          <p:nvGrpSpPr>
            <p:cNvPr id="1428" name=""/>
            <p:cNvGrpSpPr/>
            <p:nvPr/>
          </p:nvGrpSpPr>
          <p:grpSpPr>
            <a:xfrm>
              <a:off x="5997600" y="4294080"/>
              <a:ext cx="358920" cy="287280"/>
              <a:chOff x="5997600" y="4294080"/>
              <a:chExt cx="358920" cy="287280"/>
            </a:xfrm>
          </p:grpSpPr>
          <p:sp>
            <p:nvSpPr>
              <p:cNvPr id="1429" name=""/>
              <p:cNvSpPr/>
              <p:nvPr/>
            </p:nvSpPr>
            <p:spPr>
              <a:xfrm>
                <a:off x="5997600" y="4294080"/>
                <a:ext cx="358920" cy="287280"/>
              </a:xfrm>
              <a:custGeom>
                <a:avLst/>
                <a:gdLst/>
                <a:ahLst/>
                <a:rect l="l" t="t" r="r" b="b"/>
                <a:pathLst>
                  <a:path w="589" h="772">
                    <a:moveTo>
                      <a:pt x="589" y="681"/>
                    </a:moveTo>
                    <a:lnTo>
                      <a:pt x="499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589" y="0"/>
                    </a:lnTo>
                    <a:lnTo>
                      <a:pt x="589" y="6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ebebeb"/>
                  </a:gs>
                </a:gsLst>
                <a:lin ang="5400000"/>
              </a:gradFill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302160" y="4547520"/>
                <a:ext cx="54360" cy="33840"/>
              </a:xfrm>
              <a:custGeom>
                <a:avLst/>
                <a:gdLst/>
                <a:ahLst/>
                <a:rect l="l" t="t" r="r" b="b"/>
                <a:pathLst>
                  <a:path w="90" h="91">
                    <a:moveTo>
                      <a:pt x="90" y="0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9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024960" y="437832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024960" y="439524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024960" y="441180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024960" y="442908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024960" y="444600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024960" y="446256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024960" y="447984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024960" y="449640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024960" y="4513680"/>
                <a:ext cx="303840" cy="0"/>
              </a:xfrm>
              <a:prstGeom prst="line">
                <a:avLst/>
              </a:prstGeom>
              <a:ln w="3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099840" y="4327920"/>
                <a:ext cx="25200" cy="16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151320" y="4327920"/>
                <a:ext cx="25200" cy="16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201720" y="4327920"/>
                <a:ext cx="25200" cy="16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997600" y="4294080"/>
                <a:ext cx="358920" cy="287280"/>
              </a:xfrm>
              <a:custGeom>
                <a:avLst/>
                <a:gdLst/>
                <a:ahLst/>
                <a:rect l="l" t="t" r="r" b="b"/>
                <a:pathLst>
                  <a:path w="589" h="772">
                    <a:moveTo>
                      <a:pt x="589" y="681"/>
                    </a:moveTo>
                    <a:lnTo>
                      <a:pt x="499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589" y="0"/>
                    </a:lnTo>
                    <a:lnTo>
                      <a:pt x="589" y="681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 txBox="1"/>
            <p:nvPr/>
          </p:nvSpPr>
          <p:spPr>
            <a:xfrm>
              <a:off x="5977080" y="4497480"/>
              <a:ext cx="39996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見積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445" name=""/>
            <p:cNvSpPr txBox="1"/>
            <p:nvPr/>
          </p:nvSpPr>
          <p:spPr>
            <a:xfrm>
              <a:off x="5977080" y="4497480"/>
              <a:ext cx="39996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見積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3598920" y="4298760"/>
            <a:ext cx="455400" cy="347760"/>
            <a:chOff x="3598920" y="4298760"/>
            <a:chExt cx="455400" cy="347760"/>
          </a:xfrm>
        </p:grpSpPr>
        <p:grpSp>
          <p:nvGrpSpPr>
            <p:cNvPr id="1447" name=""/>
            <p:cNvGrpSpPr/>
            <p:nvPr/>
          </p:nvGrpSpPr>
          <p:grpSpPr>
            <a:xfrm>
              <a:off x="3598920" y="4298760"/>
              <a:ext cx="455400" cy="209880"/>
              <a:chOff x="3598920" y="4298760"/>
              <a:chExt cx="455400" cy="209880"/>
            </a:xfrm>
          </p:grpSpPr>
          <p:grpSp>
            <p:nvGrpSpPr>
              <p:cNvPr id="1448" name=""/>
              <p:cNvGrpSpPr/>
              <p:nvPr/>
            </p:nvGrpSpPr>
            <p:grpSpPr>
              <a:xfrm>
                <a:off x="3598920" y="4298760"/>
                <a:ext cx="455400" cy="209880"/>
                <a:chOff x="3598920" y="4298760"/>
                <a:chExt cx="455400" cy="209880"/>
              </a:xfrm>
            </p:grpSpPr>
            <p:sp>
              <p:nvSpPr>
                <p:cNvPr id="1449" name=""/>
                <p:cNvSpPr/>
                <p:nvPr/>
              </p:nvSpPr>
              <p:spPr>
                <a:xfrm rot="19522200">
                  <a:off x="3731400" y="4367160"/>
                  <a:ext cx="33120" cy="116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rot="2421600">
                  <a:off x="3783600" y="4359960"/>
                  <a:ext cx="33120" cy="116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rot="8721600">
                  <a:off x="3832920" y="4368240"/>
                  <a:ext cx="33120" cy="116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rot="3321600">
                  <a:off x="3891240" y="4370400"/>
                  <a:ext cx="33120" cy="116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rot="3321600">
                  <a:off x="3921480" y="4324680"/>
                  <a:ext cx="116280" cy="100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rot="2961600">
                  <a:off x="3654360" y="4362480"/>
                  <a:ext cx="33120" cy="16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"/>
              <p:cNvGrpSpPr/>
              <p:nvPr/>
            </p:nvGrpSpPr>
            <p:grpSpPr>
              <a:xfrm>
                <a:off x="3598920" y="4298760"/>
                <a:ext cx="455400" cy="209880"/>
                <a:chOff x="3598920" y="4298760"/>
                <a:chExt cx="455400" cy="209880"/>
              </a:xfrm>
            </p:grpSpPr>
            <p:sp>
              <p:nvSpPr>
                <p:cNvPr id="1456" name=""/>
                <p:cNvSpPr/>
                <p:nvPr/>
              </p:nvSpPr>
              <p:spPr>
                <a:xfrm rot="19522200">
                  <a:off x="3731400" y="4367160"/>
                  <a:ext cx="33120" cy="1162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rot="2421600">
                  <a:off x="3783600" y="4359960"/>
                  <a:ext cx="33120" cy="1162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rot="8721600">
                  <a:off x="3832920" y="4368240"/>
                  <a:ext cx="33120" cy="1162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rot="3321600">
                  <a:off x="3891240" y="4370400"/>
                  <a:ext cx="33120" cy="1166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rot="3321600">
                  <a:off x="3921480" y="4324680"/>
                  <a:ext cx="116280" cy="100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rot="2961600">
                  <a:off x="3654360" y="4362480"/>
                  <a:ext cx="33120" cy="1612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2" name=""/>
            <p:cNvSpPr txBox="1"/>
            <p:nvPr/>
          </p:nvSpPr>
          <p:spPr>
            <a:xfrm>
              <a:off x="3639960" y="4497480"/>
              <a:ext cx="40032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延長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463" name=""/>
            <p:cNvSpPr txBox="1"/>
            <p:nvPr/>
          </p:nvSpPr>
          <p:spPr>
            <a:xfrm>
              <a:off x="3639960" y="4497480"/>
              <a:ext cx="40032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延長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416480" y="4292640"/>
            <a:ext cx="399960" cy="353880"/>
            <a:chOff x="4416480" y="4292640"/>
            <a:chExt cx="399960" cy="353880"/>
          </a:xfrm>
        </p:grpSpPr>
        <p:grpSp>
          <p:nvGrpSpPr>
            <p:cNvPr id="1465" name=""/>
            <p:cNvGrpSpPr/>
            <p:nvPr/>
          </p:nvGrpSpPr>
          <p:grpSpPr>
            <a:xfrm>
              <a:off x="4473720" y="4292640"/>
              <a:ext cx="287280" cy="287280"/>
              <a:chOff x="4473720" y="4292640"/>
              <a:chExt cx="287280" cy="287280"/>
            </a:xfrm>
          </p:grpSpPr>
          <p:sp>
            <p:nvSpPr>
              <p:cNvPr id="1466" name=""/>
              <p:cNvSpPr/>
              <p:nvPr/>
            </p:nvSpPr>
            <p:spPr>
              <a:xfrm>
                <a:off x="4473720" y="4292640"/>
                <a:ext cx="287280" cy="287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7" name=""/>
              <p:cNvGrpSpPr/>
              <p:nvPr/>
            </p:nvGrpSpPr>
            <p:grpSpPr>
              <a:xfrm>
                <a:off x="4473720" y="4292640"/>
                <a:ext cx="287280" cy="287280"/>
                <a:chOff x="4473720" y="4292640"/>
                <a:chExt cx="287280" cy="28728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4473720" y="4292640"/>
                  <a:ext cx="287280" cy="2872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482720" y="4301640"/>
                  <a:ext cx="268920" cy="26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f0f0"/>
                    </a:gs>
                    <a:gs pos="100000">
                      <a:srgbClr val="dddddd"/>
                    </a:gs>
                  </a:gsLst>
                  <a:path path="rect">
                    <a:fillToRect l="50000" t="50000" r="50000" b="50000"/>
                  </a:path>
                </a:gra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563360" y="4382280"/>
                  <a:ext cx="107640" cy="1076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4581720" y="4400640"/>
                  <a:ext cx="71640" cy="716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2" name=""/>
            <p:cNvGrpSpPr/>
            <p:nvPr/>
          </p:nvGrpSpPr>
          <p:grpSpPr>
            <a:xfrm>
              <a:off x="4416480" y="4497480"/>
              <a:ext cx="399960" cy="149040"/>
              <a:chOff x="4416480" y="4497480"/>
              <a:chExt cx="399960" cy="149040"/>
            </a:xfrm>
          </p:grpSpPr>
          <p:sp>
            <p:nvSpPr>
              <p:cNvPr id="1473" name=""/>
              <p:cNvSpPr txBox="1"/>
              <p:nvPr/>
            </p:nvSpPr>
            <p:spPr>
              <a:xfrm>
                <a:off x="4416480" y="44974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データ出力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474" name=""/>
              <p:cNvSpPr txBox="1"/>
              <p:nvPr/>
            </p:nvSpPr>
            <p:spPr>
              <a:xfrm>
                <a:off x="4416480" y="44974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データ出力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475" name=""/>
          <p:cNvGrpSpPr/>
          <p:nvPr/>
        </p:nvGrpSpPr>
        <p:grpSpPr>
          <a:xfrm>
            <a:off x="5975280" y="2043720"/>
            <a:ext cx="403200" cy="455040"/>
            <a:chOff x="5975280" y="2043720"/>
            <a:chExt cx="403200" cy="455040"/>
          </a:xfrm>
        </p:grpSpPr>
        <p:grpSp>
          <p:nvGrpSpPr>
            <p:cNvPr id="1476" name=""/>
            <p:cNvGrpSpPr/>
            <p:nvPr/>
          </p:nvGrpSpPr>
          <p:grpSpPr>
            <a:xfrm>
              <a:off x="5980320" y="2043720"/>
              <a:ext cx="392760" cy="392760"/>
              <a:chOff x="5980320" y="2043720"/>
              <a:chExt cx="392760" cy="392760"/>
            </a:xfrm>
          </p:grpSpPr>
          <p:grpSp>
            <p:nvGrpSpPr>
              <p:cNvPr id="1477" name=""/>
              <p:cNvGrpSpPr/>
              <p:nvPr/>
            </p:nvGrpSpPr>
            <p:grpSpPr>
              <a:xfrm>
                <a:off x="5980680" y="2043720"/>
                <a:ext cx="392400" cy="392400"/>
                <a:chOff x="5980680" y="2043720"/>
                <a:chExt cx="392400" cy="392400"/>
              </a:xfrm>
            </p:grpSpPr>
            <p:sp>
              <p:nvSpPr>
                <p:cNvPr id="1478" name=""/>
                <p:cNvSpPr/>
                <p:nvPr/>
              </p:nvSpPr>
              <p:spPr>
                <a:xfrm rot="2700000">
                  <a:off x="6067440" y="2097720"/>
                  <a:ext cx="180720" cy="321480"/>
                </a:xfrm>
                <a:custGeom>
                  <a:avLst/>
                  <a:gdLst>
                    <a:gd name="textAreaLeft" fmla="*/ 4320 w 180720"/>
                    <a:gd name="textAreaRight" fmla="*/ 176400 w 180720"/>
                    <a:gd name="textAreaTop" fmla="*/ 4320 h 321480"/>
                    <a:gd name="textAreaBottom" fmla="*/ 317160 h 321480"/>
                  </a:gdLst>
                  <a:ahLst/>
                  <a:rect l="textAreaLeft" t="textAreaTop" r="textAreaRight" b="textAreaBottom"/>
                  <a:pathLst>
                    <a:path w="21600" h="38390">
                      <a:moveTo>
                        <a:pt x="1765" y="0"/>
                      </a:moveTo>
                      <a:arcTo wR="1765" hR="1765" stAng="16200000" swAng="-5400000"/>
                      <a:lnTo>
                        <a:pt x="0" y="36625"/>
                      </a:lnTo>
                      <a:arcTo wR="1765" hR="1765" stAng="10800000" swAng="-5400000"/>
                      <a:lnTo>
                        <a:pt x="19835" y="38390"/>
                      </a:lnTo>
                      <a:arcTo wR="1765" hR="1765" stAng="5400000" swAng="-5400000"/>
                      <a:lnTo>
                        <a:pt x="21600" y="1765"/>
                      </a:lnTo>
                      <a:arcTo wR="1765" hR="1765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rot="2700000">
                  <a:off x="6104880" y="2060280"/>
                  <a:ext cx="180720" cy="321480"/>
                </a:xfrm>
                <a:custGeom>
                  <a:avLst/>
                  <a:gdLst>
                    <a:gd name="textAreaLeft" fmla="*/ 4320 w 180720"/>
                    <a:gd name="textAreaRight" fmla="*/ 176400 w 180720"/>
                    <a:gd name="textAreaTop" fmla="*/ 4320 h 321480"/>
                    <a:gd name="textAreaBottom" fmla="*/ 317160 h 321480"/>
                  </a:gdLst>
                  <a:ahLst/>
                  <a:rect l="textAreaLeft" t="textAreaTop" r="textAreaRight" b="textAreaBottom"/>
                  <a:pathLst>
                    <a:path w="21600" h="38390">
                      <a:moveTo>
                        <a:pt x="1765" y="0"/>
                      </a:moveTo>
                      <a:arcTo wR="1765" hR="1765" stAng="16200000" swAng="-5400000"/>
                      <a:lnTo>
                        <a:pt x="0" y="36625"/>
                      </a:lnTo>
                      <a:arcTo wR="1765" hR="1765" stAng="10800000" swAng="-5400000"/>
                      <a:lnTo>
                        <a:pt x="19835" y="38390"/>
                      </a:lnTo>
                      <a:arcTo wR="1765" hR="1765" stAng="5400000" swAng="-5400000"/>
                      <a:lnTo>
                        <a:pt x="21600" y="1765"/>
                      </a:lnTo>
                      <a:arcTo wR="1765" hR="1765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0" name=""/>
              <p:cNvGrpSpPr/>
              <p:nvPr/>
            </p:nvGrpSpPr>
            <p:grpSpPr>
              <a:xfrm>
                <a:off x="5980320" y="2043720"/>
                <a:ext cx="392760" cy="392760"/>
                <a:chOff x="5980320" y="2043720"/>
                <a:chExt cx="392760" cy="392760"/>
              </a:xfrm>
            </p:grpSpPr>
            <p:sp>
              <p:nvSpPr>
                <p:cNvPr id="1481" name=""/>
                <p:cNvSpPr/>
                <p:nvPr/>
              </p:nvSpPr>
              <p:spPr>
                <a:xfrm rot="2700000">
                  <a:off x="6067440" y="2098080"/>
                  <a:ext cx="180720" cy="321120"/>
                </a:xfrm>
                <a:custGeom>
                  <a:avLst/>
                  <a:gdLst>
                    <a:gd name="textAreaLeft" fmla="*/ 4320 w 180720"/>
                    <a:gd name="textAreaRight" fmla="*/ 176400 w 180720"/>
                    <a:gd name="textAreaTop" fmla="*/ 4320 h 321120"/>
                    <a:gd name="textAreaBottom" fmla="*/ 316800 h 321120"/>
                  </a:gdLst>
                  <a:ahLst/>
                  <a:rect l="textAreaLeft" t="textAreaTop" r="textAreaRight" b="textAreaBottom"/>
                  <a:pathLst>
                    <a:path w="21600" h="38348">
                      <a:moveTo>
                        <a:pt x="1765" y="0"/>
                      </a:moveTo>
                      <a:arcTo wR="1765" hR="1765" stAng="16200000" swAng="-5400000"/>
                      <a:lnTo>
                        <a:pt x="0" y="36583"/>
                      </a:lnTo>
                      <a:arcTo wR="1765" hR="1765" stAng="10800000" swAng="-5400000"/>
                      <a:lnTo>
                        <a:pt x="19835" y="38348"/>
                      </a:lnTo>
                      <a:arcTo wR="1765" hR="1765" stAng="5400000" swAng="-5400000"/>
                      <a:lnTo>
                        <a:pt x="21600" y="1765"/>
                      </a:lnTo>
                      <a:arcTo wR="1765" hR="1765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rot="2700000">
                  <a:off x="6105240" y="2060280"/>
                  <a:ext cx="180720" cy="321120"/>
                </a:xfrm>
                <a:custGeom>
                  <a:avLst/>
                  <a:gdLst>
                    <a:gd name="textAreaLeft" fmla="*/ 4320 w 180720"/>
                    <a:gd name="textAreaRight" fmla="*/ 176400 w 180720"/>
                    <a:gd name="textAreaTop" fmla="*/ 4320 h 321120"/>
                    <a:gd name="textAreaBottom" fmla="*/ 316800 h 321120"/>
                  </a:gdLst>
                  <a:ahLst/>
                  <a:rect l="textAreaLeft" t="textAreaTop" r="textAreaRight" b="textAreaBottom"/>
                  <a:pathLst>
                    <a:path w="21600" h="38348">
                      <a:moveTo>
                        <a:pt x="1765" y="0"/>
                      </a:moveTo>
                      <a:arcTo wR="1765" hR="1765" stAng="16200000" swAng="-5400000"/>
                      <a:lnTo>
                        <a:pt x="0" y="36583"/>
                      </a:lnTo>
                      <a:arcTo wR="1765" hR="1765" stAng="10800000" swAng="-5400000"/>
                      <a:lnTo>
                        <a:pt x="19835" y="38348"/>
                      </a:lnTo>
                      <a:arcTo wR="1765" hR="1765" stAng="5400000" swAng="-5400000"/>
                      <a:lnTo>
                        <a:pt x="21600" y="1765"/>
                      </a:lnTo>
                      <a:arcTo wR="1765" hR="176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6c6c6c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rot="2700000">
                  <a:off x="6127200" y="2075760"/>
                  <a:ext cx="159480" cy="267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6078240" y="2300400"/>
                  <a:ext cx="39960" cy="39960"/>
                  <a:chOff x="6078240" y="2300400"/>
                  <a:chExt cx="39960" cy="3996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 rot="2700000">
                    <a:off x="6083640" y="2306160"/>
                    <a:ext cx="28440" cy="28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b6b6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rot="13500000">
                    <a:off x="6085800" y="2307960"/>
                    <a:ext cx="24120" cy="23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b6b6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rot="2700000">
                    <a:off x="6086880" y="2309400"/>
                    <a:ext cx="21960" cy="21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rot="2700000">
                    <a:off x="6087960" y="2310120"/>
                    <a:ext cx="20160" cy="2016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9" name=""/>
                <p:cNvGrpSpPr/>
                <p:nvPr/>
              </p:nvGrpSpPr>
              <p:grpSpPr>
                <a:xfrm>
                  <a:off x="6121080" y="2343600"/>
                  <a:ext cx="21960" cy="21960"/>
                  <a:chOff x="6121080" y="2343600"/>
                  <a:chExt cx="21960" cy="21960"/>
                </a:xfrm>
              </p:grpSpPr>
              <p:sp>
                <p:nvSpPr>
                  <p:cNvPr id="1490" name=""/>
                  <p:cNvSpPr/>
                  <p:nvPr/>
                </p:nvSpPr>
                <p:spPr>
                  <a:xfrm rot="13500000">
                    <a:off x="6120000" y="2350800"/>
                    <a:ext cx="23760" cy="7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b6b6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rot="2700000">
                    <a:off x="6121080" y="2350800"/>
                    <a:ext cx="21600" cy="64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 rot="2700000">
                    <a:off x="6121800" y="2350800"/>
                    <a:ext cx="19800" cy="61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3" name=""/>
                <p:cNvGrpSpPr/>
                <p:nvPr/>
              </p:nvGrpSpPr>
              <p:grpSpPr>
                <a:xfrm>
                  <a:off x="6053040" y="2275560"/>
                  <a:ext cx="21960" cy="21960"/>
                  <a:chOff x="6053040" y="2275560"/>
                  <a:chExt cx="21960" cy="21960"/>
                </a:xfrm>
              </p:grpSpPr>
              <p:sp>
                <p:nvSpPr>
                  <p:cNvPr id="1494" name=""/>
                  <p:cNvSpPr/>
                  <p:nvPr/>
                </p:nvSpPr>
                <p:spPr>
                  <a:xfrm rot="13500000">
                    <a:off x="6051960" y="2282760"/>
                    <a:ext cx="23760" cy="7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aeaea"/>
                      </a:gs>
                      <a:gs pos="100000">
                        <a:srgbClr val="6b6b6b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 rot="2700000">
                    <a:off x="6053400" y="2282760"/>
                    <a:ext cx="21600" cy="64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rot="2700000">
                    <a:off x="6053760" y="2282760"/>
                    <a:ext cx="19800" cy="61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3b3b3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7" name=""/>
                <p:cNvSpPr/>
                <p:nvPr/>
              </p:nvSpPr>
              <p:spPr>
                <a:xfrm rot="2700000">
                  <a:off x="6130800" y="2078640"/>
                  <a:ext cx="151920" cy="26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6699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8" name=""/>
            <p:cNvGrpSpPr/>
            <p:nvPr/>
          </p:nvGrpSpPr>
          <p:grpSpPr>
            <a:xfrm>
              <a:off x="5975280" y="2349360"/>
              <a:ext cx="403200" cy="149400"/>
              <a:chOff x="5975280" y="2349360"/>
              <a:chExt cx="403200" cy="149400"/>
            </a:xfrm>
          </p:grpSpPr>
          <p:sp>
            <p:nvSpPr>
              <p:cNvPr id="1499" name=""/>
              <p:cNvSpPr txBox="1"/>
              <p:nvPr/>
            </p:nvSpPr>
            <p:spPr>
              <a:xfrm>
                <a:off x="5978520" y="234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電話連絡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500" name=""/>
              <p:cNvSpPr txBox="1"/>
              <p:nvPr/>
            </p:nvSpPr>
            <p:spPr>
              <a:xfrm>
                <a:off x="5975280" y="234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電話連絡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501" name=""/>
          <p:cNvGrpSpPr/>
          <p:nvPr/>
        </p:nvGrpSpPr>
        <p:grpSpPr>
          <a:xfrm>
            <a:off x="8292960" y="2824200"/>
            <a:ext cx="432000" cy="398520"/>
            <a:chOff x="8292960" y="2824200"/>
            <a:chExt cx="432000" cy="398520"/>
          </a:xfrm>
        </p:grpSpPr>
        <p:grpSp>
          <p:nvGrpSpPr>
            <p:cNvPr id="1502" name=""/>
            <p:cNvGrpSpPr/>
            <p:nvPr/>
          </p:nvGrpSpPr>
          <p:grpSpPr>
            <a:xfrm>
              <a:off x="8308800" y="3073320"/>
              <a:ext cx="403560" cy="149400"/>
              <a:chOff x="8308800" y="3073320"/>
              <a:chExt cx="403560" cy="149400"/>
            </a:xfrm>
          </p:grpSpPr>
          <p:sp>
            <p:nvSpPr>
              <p:cNvPr id="1503" name=""/>
              <p:cNvSpPr txBox="1"/>
              <p:nvPr/>
            </p:nvSpPr>
            <p:spPr>
              <a:xfrm>
                <a:off x="8312040" y="307332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発送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504" name=""/>
              <p:cNvSpPr txBox="1"/>
              <p:nvPr/>
            </p:nvSpPr>
            <p:spPr>
              <a:xfrm>
                <a:off x="8308800" y="307332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発送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8292960" y="2824200"/>
              <a:ext cx="432000" cy="244440"/>
              <a:chOff x="8292960" y="2824200"/>
              <a:chExt cx="432000" cy="24444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8292960" y="2824200"/>
                <a:ext cx="432000" cy="244440"/>
                <a:chOff x="8292960" y="2824200"/>
                <a:chExt cx="432000" cy="24444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8595360" y="2982600"/>
                  <a:ext cx="86040" cy="86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8335440" y="2982600"/>
                  <a:ext cx="86400" cy="86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8292960" y="2824200"/>
                  <a:ext cx="432000" cy="201600"/>
                </a:xfrm>
                <a:custGeom>
                  <a:avLst/>
                  <a:gdLst/>
                  <a:ahLst/>
                  <a:rect l="l" t="t" r="r" b="b"/>
                  <a:pathLst>
                    <a:path w="680" h="318">
                      <a:moveTo>
                        <a:pt x="680" y="318"/>
                      </a:moveTo>
                      <a:lnTo>
                        <a:pt x="0" y="318"/>
                      </a:lnTo>
                      <a:lnTo>
                        <a:pt x="0" y="182"/>
                      </a:lnTo>
                      <a:lnTo>
                        <a:pt x="90" y="46"/>
                      </a:lnTo>
                      <a:lnTo>
                        <a:pt x="226" y="46"/>
                      </a:lnTo>
                      <a:lnTo>
                        <a:pt x="226" y="0"/>
                      </a:lnTo>
                      <a:lnTo>
                        <a:pt x="680" y="0"/>
                      </a:lnTo>
                      <a:lnTo>
                        <a:pt x="680" y="3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0" name=""/>
              <p:cNvGrpSpPr/>
              <p:nvPr/>
            </p:nvGrpSpPr>
            <p:grpSpPr>
              <a:xfrm>
                <a:off x="8292960" y="2824200"/>
                <a:ext cx="431640" cy="244080"/>
                <a:chOff x="8292960" y="2824200"/>
                <a:chExt cx="431640" cy="244080"/>
              </a:xfrm>
            </p:grpSpPr>
            <p:sp>
              <p:nvSpPr>
                <p:cNvPr id="1511" name=""/>
                <p:cNvSpPr/>
                <p:nvPr/>
              </p:nvSpPr>
              <p:spPr>
                <a:xfrm>
                  <a:off x="8595360" y="2982960"/>
                  <a:ext cx="85680" cy="8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8334720" y="2982960"/>
                  <a:ext cx="87120" cy="8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8349840" y="2996640"/>
                  <a:ext cx="56880" cy="568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8610480" y="2996640"/>
                  <a:ext cx="56880" cy="568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435880" y="2824200"/>
                  <a:ext cx="288720" cy="20088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292960" y="2852280"/>
                  <a:ext cx="142920" cy="172440"/>
                </a:xfrm>
                <a:custGeom>
                  <a:avLst/>
                  <a:gdLst/>
                  <a:ahLst/>
                  <a:rect l="l" t="t" r="r" b="b"/>
                  <a:pathLst>
                    <a:path w="226" h="272">
                      <a:moveTo>
                        <a:pt x="226" y="272"/>
                      </a:moveTo>
                      <a:lnTo>
                        <a:pt x="0" y="272"/>
                      </a:lnTo>
                      <a:lnTo>
                        <a:pt x="0" y="136"/>
                      </a:lnTo>
                      <a:lnTo>
                        <a:pt x="90" y="0"/>
                      </a:lnTo>
                      <a:lnTo>
                        <a:pt x="226" y="0"/>
                      </a:lnTo>
                      <a:lnTo>
                        <a:pt x="226" y="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8292960" y="285228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90" h="136">
                      <a:moveTo>
                        <a:pt x="0" y="136"/>
                      </a:moveTo>
                      <a:lnTo>
                        <a:pt x="90" y="136"/>
                      </a:lnTo>
                      <a:lnTo>
                        <a:pt x="90" y="0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8494560" y="2824200"/>
                  <a:ext cx="56880" cy="2008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610480" y="2824200"/>
                  <a:ext cx="56880" cy="2008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0" name=""/>
          <p:cNvGrpSpPr/>
          <p:nvPr/>
        </p:nvGrpSpPr>
        <p:grpSpPr>
          <a:xfrm>
            <a:off x="8308800" y="3497040"/>
            <a:ext cx="403560" cy="441720"/>
            <a:chOff x="8308800" y="3497040"/>
            <a:chExt cx="403560" cy="441720"/>
          </a:xfrm>
        </p:grpSpPr>
        <p:grpSp>
          <p:nvGrpSpPr>
            <p:cNvPr id="1521" name=""/>
            <p:cNvGrpSpPr/>
            <p:nvPr/>
          </p:nvGrpSpPr>
          <p:grpSpPr>
            <a:xfrm>
              <a:off x="8367840" y="3500280"/>
              <a:ext cx="284040" cy="379440"/>
              <a:chOff x="8367840" y="3500280"/>
              <a:chExt cx="284040" cy="379440"/>
            </a:xfrm>
          </p:grpSpPr>
          <p:sp>
            <p:nvSpPr>
              <p:cNvPr id="1522" name=""/>
              <p:cNvSpPr/>
              <p:nvPr/>
            </p:nvSpPr>
            <p:spPr>
              <a:xfrm>
                <a:off x="8367840" y="3500280"/>
                <a:ext cx="284040" cy="379440"/>
              </a:xfrm>
              <a:custGeom>
                <a:avLst/>
                <a:gdLst/>
                <a:ahLst/>
                <a:rect l="l" t="t" r="r" b="b"/>
                <a:pathLst>
                  <a:path w="408" h="544">
                    <a:moveTo>
                      <a:pt x="318" y="544"/>
                    </a:moveTo>
                    <a:lnTo>
                      <a:pt x="408" y="453"/>
                    </a:lnTo>
                    <a:lnTo>
                      <a:pt x="408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18" y="544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3" name=""/>
              <p:cNvGrpSpPr/>
              <p:nvPr/>
            </p:nvGrpSpPr>
            <p:grpSpPr>
              <a:xfrm>
                <a:off x="8367840" y="3500280"/>
                <a:ext cx="284040" cy="379440"/>
                <a:chOff x="8367840" y="3500280"/>
                <a:chExt cx="284040" cy="37944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8367840" y="3500280"/>
                  <a:ext cx="284040" cy="37944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318" y="544"/>
                      </a:moveTo>
                      <a:lnTo>
                        <a:pt x="408" y="453"/>
                      </a:lnTo>
                      <a:lnTo>
                        <a:pt x="408" y="0"/>
                      </a:lnTo>
                      <a:lnTo>
                        <a:pt x="0" y="0"/>
                      </a:lnTo>
                      <a:lnTo>
                        <a:pt x="0" y="544"/>
                      </a:lnTo>
                      <a:lnTo>
                        <a:pt x="318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cf6f6"/>
                    </a:gs>
                    <a:gs pos="100000">
                      <a:srgbClr val="bbe0e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398800" y="3532320"/>
                  <a:ext cx="221400" cy="313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6" name=""/>
                <p:cNvGrpSpPr/>
                <p:nvPr/>
              </p:nvGrpSpPr>
              <p:grpSpPr>
                <a:xfrm>
                  <a:off x="8398800" y="3594960"/>
                  <a:ext cx="221400" cy="253440"/>
                  <a:chOff x="8398800" y="3594960"/>
                  <a:chExt cx="221400" cy="253440"/>
                </a:xfrm>
              </p:grpSpPr>
              <p:sp>
                <p:nvSpPr>
                  <p:cNvPr id="1527" name=""/>
                  <p:cNvSpPr/>
                  <p:nvPr/>
                </p:nvSpPr>
                <p:spPr>
                  <a:xfrm>
                    <a:off x="8398800" y="362340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8398800" y="363816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8398800" y="365256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8398800" y="366732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8398800" y="359496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8398800" y="360900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8398800" y="371124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8398800" y="372600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8398800" y="374076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8398800" y="375516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8398800" y="368208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8398800" y="369648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8398800" y="379944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8398800" y="381384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8398800" y="382860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8398800" y="384300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8398800" y="376992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8398800" y="3784680"/>
                    <a:ext cx="22140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5" name=""/>
                <p:cNvSpPr/>
                <p:nvPr/>
              </p:nvSpPr>
              <p:spPr>
                <a:xfrm>
                  <a:off x="8589240" y="3817080"/>
                  <a:ext cx="62640" cy="62640"/>
                </a:xfrm>
                <a:custGeom>
                  <a:avLst/>
                  <a:gdLst/>
                  <a:ahLst/>
                  <a:rect l="l" t="t" r="r" b="b"/>
                  <a:pathLst>
                    <a:path w="90" h="90">
                      <a:moveTo>
                        <a:pt x="9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6" name=""/>
            <p:cNvGrpSpPr/>
            <p:nvPr/>
          </p:nvGrpSpPr>
          <p:grpSpPr>
            <a:xfrm>
              <a:off x="8355240" y="3497040"/>
              <a:ext cx="277920" cy="230760"/>
              <a:chOff x="8355240" y="3497040"/>
              <a:chExt cx="277920" cy="230760"/>
            </a:xfrm>
          </p:grpSpPr>
          <p:grpSp>
            <p:nvGrpSpPr>
              <p:cNvPr id="1547" name=""/>
              <p:cNvGrpSpPr/>
              <p:nvPr/>
            </p:nvGrpSpPr>
            <p:grpSpPr>
              <a:xfrm>
                <a:off x="8355240" y="3497040"/>
                <a:ext cx="277200" cy="230760"/>
                <a:chOff x="8355240" y="3497040"/>
                <a:chExt cx="277200" cy="230760"/>
              </a:xfrm>
            </p:grpSpPr>
            <p:sp>
              <p:nvSpPr>
                <p:cNvPr id="1548" name=""/>
                <p:cNvSpPr/>
                <p:nvPr/>
              </p:nvSpPr>
              <p:spPr>
                <a:xfrm rot="18240600">
                  <a:off x="8386200" y="3526920"/>
                  <a:ext cx="156600" cy="158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rot="18240600">
                  <a:off x="8537400" y="3629520"/>
                  <a:ext cx="21960" cy="676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rot="18240600">
                  <a:off x="8573400" y="3651840"/>
                  <a:ext cx="33480" cy="7920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1" name=""/>
              <p:cNvGrpSpPr/>
              <p:nvPr/>
            </p:nvGrpSpPr>
            <p:grpSpPr>
              <a:xfrm>
                <a:off x="8355240" y="3497040"/>
                <a:ext cx="277920" cy="230760"/>
                <a:chOff x="8355240" y="3497040"/>
                <a:chExt cx="277920" cy="230760"/>
              </a:xfrm>
            </p:grpSpPr>
            <p:sp>
              <p:nvSpPr>
                <p:cNvPr id="1552" name=""/>
                <p:cNvSpPr/>
                <p:nvPr/>
              </p:nvSpPr>
              <p:spPr>
                <a:xfrm rot="18240600">
                  <a:off x="8537760" y="3629520"/>
                  <a:ext cx="21960" cy="67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rot="18240600">
                  <a:off x="8397000" y="3538440"/>
                  <a:ext cx="134640" cy="13536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18240600">
                  <a:off x="8385840" y="3526920"/>
                  <a:ext cx="156960" cy="158040"/>
                </a:xfrm>
                <a:prstGeom prst="donut">
                  <a:avLst>
                    <a:gd name="adj" fmla="val 12731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18240600">
                  <a:off x="8574120" y="3651840"/>
                  <a:ext cx="33480" cy="79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6" name=""/>
            <p:cNvGrpSpPr/>
            <p:nvPr/>
          </p:nvGrpSpPr>
          <p:grpSpPr>
            <a:xfrm>
              <a:off x="8308800" y="3789360"/>
              <a:ext cx="403560" cy="149400"/>
              <a:chOff x="8308800" y="3789360"/>
              <a:chExt cx="403560" cy="149400"/>
            </a:xfrm>
          </p:grpSpPr>
          <p:sp>
            <p:nvSpPr>
              <p:cNvPr id="1557" name=""/>
              <p:cNvSpPr txBox="1"/>
              <p:nvPr/>
            </p:nvSpPr>
            <p:spPr>
              <a:xfrm>
                <a:off x="8312040" y="37893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審査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558" name=""/>
              <p:cNvSpPr txBox="1"/>
              <p:nvPr/>
            </p:nvSpPr>
            <p:spPr>
              <a:xfrm>
                <a:off x="8308800" y="37893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審査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7473960" y="2852640"/>
            <a:ext cx="503280" cy="370080"/>
            <a:chOff x="7473960" y="2852640"/>
            <a:chExt cx="503280" cy="370080"/>
          </a:xfrm>
        </p:grpSpPr>
        <p:sp>
          <p:nvSpPr>
            <p:cNvPr id="1560" name=""/>
            <p:cNvSpPr/>
            <p:nvPr/>
          </p:nvSpPr>
          <p:spPr>
            <a:xfrm>
              <a:off x="7473960" y="2852640"/>
              <a:ext cx="503280" cy="287280"/>
            </a:xfrm>
            <a:custGeom>
              <a:avLst/>
              <a:gdLst>
                <a:gd name="textAreaLeft" fmla="*/ 114840 w 503280"/>
                <a:gd name="textAreaRight" fmla="*/ 388440 w 503280"/>
                <a:gd name="textAreaTop" fmla="*/ 65520 h 287280"/>
                <a:gd name="textAreaBottom" fmla="*/ 221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1" name=""/>
            <p:cNvGrpSpPr/>
            <p:nvPr/>
          </p:nvGrpSpPr>
          <p:grpSpPr>
            <a:xfrm>
              <a:off x="7524720" y="3073320"/>
              <a:ext cx="403200" cy="149400"/>
              <a:chOff x="7524720" y="3073320"/>
              <a:chExt cx="403200" cy="149400"/>
            </a:xfrm>
          </p:grpSpPr>
          <p:sp>
            <p:nvSpPr>
              <p:cNvPr id="1562" name=""/>
              <p:cNvSpPr txBox="1"/>
              <p:nvPr/>
            </p:nvSpPr>
            <p:spPr>
              <a:xfrm>
                <a:off x="7527960" y="30733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発売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563" name=""/>
              <p:cNvSpPr txBox="1"/>
              <p:nvPr/>
            </p:nvSpPr>
            <p:spPr>
              <a:xfrm>
                <a:off x="7524720" y="30733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発売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564" name=""/>
          <p:cNvGrpSpPr/>
          <p:nvPr/>
        </p:nvGrpSpPr>
        <p:grpSpPr>
          <a:xfrm>
            <a:off x="7524720" y="2060640"/>
            <a:ext cx="403200" cy="442800"/>
            <a:chOff x="7524720" y="2060640"/>
            <a:chExt cx="403200" cy="442800"/>
          </a:xfrm>
        </p:grpSpPr>
        <p:sp>
          <p:nvSpPr>
            <p:cNvPr id="1565" name=""/>
            <p:cNvSpPr/>
            <p:nvPr/>
          </p:nvSpPr>
          <p:spPr>
            <a:xfrm>
              <a:off x="7545240" y="2060640"/>
              <a:ext cx="360360" cy="288720"/>
            </a:xfrm>
            <a:prstGeom prst="rightArrow">
              <a:avLst>
                <a:gd name="adj1" fmla="val 50000"/>
                <a:gd name="adj2" fmla="val 5443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7524720" y="2354400"/>
              <a:ext cx="403200" cy="149040"/>
              <a:chOff x="7524720" y="2354400"/>
              <a:chExt cx="403200" cy="149040"/>
            </a:xfrm>
          </p:grpSpPr>
          <p:sp>
            <p:nvSpPr>
              <p:cNvPr id="1567" name=""/>
              <p:cNvSpPr txBox="1"/>
              <p:nvPr/>
            </p:nvSpPr>
            <p:spPr>
              <a:xfrm>
                <a:off x="7527960" y="235440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開始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568" name=""/>
              <p:cNvSpPr txBox="1"/>
              <p:nvPr/>
            </p:nvSpPr>
            <p:spPr>
              <a:xfrm>
                <a:off x="7524720" y="235440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開始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9072720" y="2823480"/>
            <a:ext cx="403200" cy="399240"/>
            <a:chOff x="9072720" y="2823480"/>
            <a:chExt cx="403200" cy="399240"/>
          </a:xfrm>
        </p:grpSpPr>
        <p:grpSp>
          <p:nvGrpSpPr>
            <p:cNvPr id="1570" name=""/>
            <p:cNvGrpSpPr/>
            <p:nvPr/>
          </p:nvGrpSpPr>
          <p:grpSpPr>
            <a:xfrm>
              <a:off x="9098280" y="2823480"/>
              <a:ext cx="353520" cy="381960"/>
              <a:chOff x="9098280" y="2823480"/>
              <a:chExt cx="353520" cy="381960"/>
            </a:xfrm>
          </p:grpSpPr>
          <p:sp>
            <p:nvSpPr>
              <p:cNvPr id="1571" name=""/>
              <p:cNvSpPr/>
              <p:nvPr/>
            </p:nvSpPr>
            <p:spPr>
              <a:xfrm rot="1800000">
                <a:off x="9159840" y="2860200"/>
                <a:ext cx="230400" cy="308160"/>
              </a:xfrm>
              <a:custGeom>
                <a:avLst/>
                <a:gdLst/>
                <a:ahLst/>
                <a:rect l="l" t="t" r="r" b="b"/>
                <a:pathLst>
                  <a:path w="408" h="544">
                    <a:moveTo>
                      <a:pt x="318" y="544"/>
                    </a:moveTo>
                    <a:lnTo>
                      <a:pt x="408" y="453"/>
                    </a:lnTo>
                    <a:lnTo>
                      <a:pt x="408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18" y="544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2" name=""/>
              <p:cNvGrpSpPr/>
              <p:nvPr/>
            </p:nvGrpSpPr>
            <p:grpSpPr>
              <a:xfrm>
                <a:off x="9098280" y="2823480"/>
                <a:ext cx="353520" cy="381960"/>
                <a:chOff x="9098280" y="2823480"/>
                <a:chExt cx="353520" cy="381960"/>
              </a:xfrm>
            </p:grpSpPr>
            <p:sp>
              <p:nvSpPr>
                <p:cNvPr id="1573" name=""/>
                <p:cNvSpPr/>
                <p:nvPr/>
              </p:nvSpPr>
              <p:spPr>
                <a:xfrm rot="1800000">
                  <a:off x="9159840" y="2860200"/>
                  <a:ext cx="230400" cy="30816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318" y="544"/>
                      </a:moveTo>
                      <a:lnTo>
                        <a:pt x="408" y="453"/>
                      </a:lnTo>
                      <a:lnTo>
                        <a:pt x="408" y="0"/>
                      </a:lnTo>
                      <a:lnTo>
                        <a:pt x="0" y="0"/>
                      </a:lnTo>
                      <a:lnTo>
                        <a:pt x="0" y="544"/>
                      </a:lnTo>
                      <a:lnTo>
                        <a:pt x="318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cf6f6"/>
                    </a:gs>
                    <a:gs pos="100000">
                      <a:srgbClr val="bbe0e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rot="1800000">
                  <a:off x="9242640" y="2901960"/>
                  <a:ext cx="179640" cy="2520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5" name=""/>
                <p:cNvGrpSpPr/>
                <p:nvPr/>
              </p:nvGrpSpPr>
              <p:grpSpPr>
                <a:xfrm>
                  <a:off x="9132480" y="2903040"/>
                  <a:ext cx="258480" cy="268200"/>
                  <a:chOff x="9132480" y="2903040"/>
                  <a:chExt cx="258480" cy="26820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rot="1800000">
                    <a:off x="9210600" y="296712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rot="1800000">
                    <a:off x="9204840" y="297756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 rot="1800000">
                    <a:off x="9198720" y="298764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 rot="1800000">
                    <a:off x="9192960" y="299808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rot="1800000">
                    <a:off x="9222120" y="294732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 rot="1800000">
                    <a:off x="9216720" y="295704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 rot="1800000">
                    <a:off x="9174960" y="302904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rot="1800000">
                    <a:off x="9168840" y="303948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rot="1800000">
                    <a:off x="9163080" y="304992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rot="1800000">
                    <a:off x="9156960" y="306000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 rot="1800000">
                    <a:off x="9186840" y="300852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 rot="1800000">
                    <a:off x="9180720" y="301896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 rot="1800000">
                    <a:off x="9139320" y="309096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 rot="1800000">
                    <a:off x="9133200" y="310104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 rot="1800000">
                    <a:off x="9127440" y="311148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 rot="1800000">
                    <a:off x="9121320" y="312192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 rot="1800000">
                    <a:off x="9151200" y="307044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 rot="1800000">
                    <a:off x="9145080" y="3080520"/>
                    <a:ext cx="179640" cy="432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4" name=""/>
                <p:cNvSpPr/>
                <p:nvPr/>
              </p:nvSpPr>
              <p:spPr>
                <a:xfrm rot="1800000">
                  <a:off x="9263160" y="3144960"/>
                  <a:ext cx="50760" cy="50760"/>
                </a:xfrm>
                <a:custGeom>
                  <a:avLst/>
                  <a:gdLst/>
                  <a:ahLst/>
                  <a:rect l="l" t="t" r="r" b="b"/>
                  <a:pathLst>
                    <a:path w="90" h="90">
                      <a:moveTo>
                        <a:pt x="9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5" name=""/>
            <p:cNvGrpSpPr/>
            <p:nvPr/>
          </p:nvGrpSpPr>
          <p:grpSpPr>
            <a:xfrm>
              <a:off x="9072720" y="3073320"/>
              <a:ext cx="403200" cy="149400"/>
              <a:chOff x="9072720" y="3073320"/>
              <a:chExt cx="403200" cy="149400"/>
            </a:xfrm>
          </p:grpSpPr>
          <p:sp>
            <p:nvSpPr>
              <p:cNvPr id="1596" name=""/>
              <p:cNvSpPr txBox="1"/>
              <p:nvPr/>
            </p:nvSpPr>
            <p:spPr>
              <a:xfrm>
                <a:off x="9075960" y="30733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ニュースリリース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597" name=""/>
              <p:cNvSpPr txBox="1"/>
              <p:nvPr/>
            </p:nvSpPr>
            <p:spPr>
              <a:xfrm>
                <a:off x="9072720" y="307332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ニュースリリース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598" name=""/>
          <p:cNvGrpSpPr/>
          <p:nvPr/>
        </p:nvGrpSpPr>
        <p:grpSpPr>
          <a:xfrm>
            <a:off x="8256240" y="1266840"/>
            <a:ext cx="509760" cy="511200"/>
            <a:chOff x="8256240" y="1266840"/>
            <a:chExt cx="509760" cy="511200"/>
          </a:xfrm>
        </p:grpSpPr>
        <p:sp>
          <p:nvSpPr>
            <p:cNvPr id="1599" name=""/>
            <p:cNvSpPr/>
            <p:nvPr/>
          </p:nvSpPr>
          <p:spPr>
            <a:xfrm rot="2700000">
              <a:off x="8330760" y="1341360"/>
              <a:ext cx="360360" cy="360360"/>
            </a:xfrm>
            <a:prstGeom prst="plus">
              <a:avLst>
                <a:gd name="adj" fmla="val 35241"/>
              </a:avLst>
            </a:prstGeom>
            <a:solidFill>
              <a:srgbClr val="33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"/>
            <p:cNvGrpSpPr/>
            <p:nvPr/>
          </p:nvGrpSpPr>
          <p:grpSpPr>
            <a:xfrm>
              <a:off x="8308800" y="1628640"/>
              <a:ext cx="403560" cy="149400"/>
              <a:chOff x="8308800" y="1628640"/>
              <a:chExt cx="403560" cy="149400"/>
            </a:xfrm>
          </p:grpSpPr>
          <p:sp>
            <p:nvSpPr>
              <p:cNvPr id="1601" name=""/>
              <p:cNvSpPr txBox="1"/>
              <p:nvPr/>
            </p:nvSpPr>
            <p:spPr>
              <a:xfrm>
                <a:off x="8312040" y="162864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修正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602" name=""/>
              <p:cNvSpPr txBox="1"/>
              <p:nvPr/>
            </p:nvSpPr>
            <p:spPr>
              <a:xfrm>
                <a:off x="8308800" y="162864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修正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603" name=""/>
          <p:cNvGrpSpPr/>
          <p:nvPr/>
        </p:nvGrpSpPr>
        <p:grpSpPr>
          <a:xfrm>
            <a:off x="6737400" y="2060640"/>
            <a:ext cx="403200" cy="442800"/>
            <a:chOff x="6737400" y="2060640"/>
            <a:chExt cx="403200" cy="442800"/>
          </a:xfrm>
        </p:grpSpPr>
        <p:grpSp>
          <p:nvGrpSpPr>
            <p:cNvPr id="1604" name=""/>
            <p:cNvGrpSpPr/>
            <p:nvPr/>
          </p:nvGrpSpPr>
          <p:grpSpPr>
            <a:xfrm>
              <a:off x="6737400" y="2354400"/>
              <a:ext cx="403200" cy="149040"/>
              <a:chOff x="6737400" y="2354400"/>
              <a:chExt cx="403200" cy="149040"/>
            </a:xfrm>
          </p:grpSpPr>
          <p:sp>
            <p:nvSpPr>
              <p:cNvPr id="1605" name=""/>
              <p:cNvSpPr txBox="1"/>
              <p:nvPr/>
            </p:nvSpPr>
            <p:spPr>
              <a:xfrm>
                <a:off x="6740640" y="235440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運用開始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606" name=""/>
              <p:cNvSpPr txBox="1"/>
              <p:nvPr/>
            </p:nvSpPr>
            <p:spPr>
              <a:xfrm>
                <a:off x="6737400" y="235440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運用開始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>
              <a:off x="6757920" y="2060640"/>
              <a:ext cx="360360" cy="288720"/>
            </a:xfrm>
            <a:prstGeom prst="rightArrow">
              <a:avLst>
                <a:gd name="adj1" fmla="val 50000"/>
                <a:gd name="adj2" fmla="val 54432"/>
              </a:avLst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9072720" y="3500280"/>
            <a:ext cx="403200" cy="438480"/>
            <a:chOff x="9072720" y="3500280"/>
            <a:chExt cx="403200" cy="438480"/>
          </a:xfrm>
        </p:grpSpPr>
        <p:grpSp>
          <p:nvGrpSpPr>
            <p:cNvPr id="1609" name=""/>
            <p:cNvGrpSpPr/>
            <p:nvPr/>
          </p:nvGrpSpPr>
          <p:grpSpPr>
            <a:xfrm>
              <a:off x="9072720" y="3789360"/>
              <a:ext cx="403200" cy="149400"/>
              <a:chOff x="9072720" y="3789360"/>
              <a:chExt cx="403200" cy="149400"/>
            </a:xfrm>
          </p:grpSpPr>
          <p:sp>
            <p:nvSpPr>
              <p:cNvPr id="1610" name=""/>
              <p:cNvSpPr txBox="1"/>
              <p:nvPr/>
            </p:nvSpPr>
            <p:spPr>
              <a:xfrm>
                <a:off x="9075960" y="37893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スタート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611" name=""/>
              <p:cNvSpPr txBox="1"/>
              <p:nvPr/>
            </p:nvSpPr>
            <p:spPr>
              <a:xfrm>
                <a:off x="9072720" y="378936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スタート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  <p:sp>
          <p:nvSpPr>
            <p:cNvPr id="1612" name=""/>
            <p:cNvSpPr/>
            <p:nvPr/>
          </p:nvSpPr>
          <p:spPr>
            <a:xfrm>
              <a:off x="9093240" y="3500280"/>
              <a:ext cx="360360" cy="289080"/>
            </a:xfrm>
            <a:prstGeom prst="rightArrow">
              <a:avLst>
                <a:gd name="adj1" fmla="val 50000"/>
                <a:gd name="adj2" fmla="val 54364"/>
              </a:avLst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6706080" y="2691720"/>
            <a:ext cx="466920" cy="531000"/>
            <a:chOff x="6706080" y="2691720"/>
            <a:chExt cx="466920" cy="531000"/>
          </a:xfrm>
        </p:grpSpPr>
        <p:grpSp>
          <p:nvGrpSpPr>
            <p:cNvPr id="1614" name=""/>
            <p:cNvGrpSpPr/>
            <p:nvPr/>
          </p:nvGrpSpPr>
          <p:grpSpPr>
            <a:xfrm>
              <a:off x="6706080" y="2691720"/>
              <a:ext cx="466920" cy="466920"/>
              <a:chOff x="6706080" y="2691720"/>
              <a:chExt cx="466920" cy="466920"/>
            </a:xfrm>
          </p:grpSpPr>
          <p:sp>
            <p:nvSpPr>
              <p:cNvPr id="1615" name=""/>
              <p:cNvSpPr/>
              <p:nvPr/>
            </p:nvSpPr>
            <p:spPr>
              <a:xfrm rot="2700000">
                <a:off x="6795720" y="2738520"/>
                <a:ext cx="287280" cy="3729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2700000">
                <a:off x="6907320" y="2784600"/>
                <a:ext cx="287280" cy="57240"/>
              </a:xfrm>
              <a:custGeom>
                <a:avLst/>
                <a:gdLst>
                  <a:gd name="textAreaLeft" fmla="*/ 49320 w 287280"/>
                  <a:gd name="textAreaRight" fmla="*/ 237960 w 287280"/>
                  <a:gd name="textAreaTop" fmla="*/ 9720 h 57240"/>
                  <a:gd name="textAreaBottom" fmla="*/ 47520 h 5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80" y="21600"/>
                    </a:lnTo>
                    <a:lnTo>
                      <a:pt x="3520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H="1">
                <a:off x="6807960" y="2833200"/>
                <a:ext cx="222840" cy="2232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2700000">
                <a:off x="6795720" y="2738520"/>
                <a:ext cx="287280" cy="372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6737400" y="3073320"/>
              <a:ext cx="403200" cy="149400"/>
              <a:chOff x="6737400" y="3073320"/>
              <a:chExt cx="403200" cy="149400"/>
            </a:xfrm>
          </p:grpSpPr>
          <p:sp>
            <p:nvSpPr>
              <p:cNvPr id="1620" name=""/>
              <p:cNvSpPr txBox="1"/>
              <p:nvPr/>
            </p:nvSpPr>
            <p:spPr>
              <a:xfrm>
                <a:off x="6740640" y="30733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サンプル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621" name=""/>
              <p:cNvSpPr txBox="1"/>
              <p:nvPr/>
            </p:nvSpPr>
            <p:spPr>
              <a:xfrm>
                <a:off x="6737400" y="30733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サンプル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622" name=""/>
          <p:cNvGrpSpPr/>
          <p:nvPr/>
        </p:nvGrpSpPr>
        <p:grpSpPr>
          <a:xfrm>
            <a:off x="9056520" y="4149720"/>
            <a:ext cx="432000" cy="501480"/>
            <a:chOff x="9056520" y="4149720"/>
            <a:chExt cx="432000" cy="501480"/>
          </a:xfrm>
        </p:grpSpPr>
        <p:grpSp>
          <p:nvGrpSpPr>
            <p:cNvPr id="1623" name=""/>
            <p:cNvGrpSpPr/>
            <p:nvPr/>
          </p:nvGrpSpPr>
          <p:grpSpPr>
            <a:xfrm>
              <a:off x="9056520" y="4149720"/>
              <a:ext cx="432000" cy="431640"/>
              <a:chOff x="9056520" y="4149720"/>
              <a:chExt cx="432000" cy="431640"/>
            </a:xfrm>
          </p:grpSpPr>
          <p:sp>
            <p:nvSpPr>
              <p:cNvPr id="1624" name=""/>
              <p:cNvSpPr/>
              <p:nvPr/>
            </p:nvSpPr>
            <p:spPr>
              <a:xfrm>
                <a:off x="9056520" y="4149720"/>
                <a:ext cx="432000" cy="43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9092880" y="4185720"/>
                <a:ext cx="358920" cy="3589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9111240" y="4203360"/>
                <a:ext cx="323280" cy="3232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9111240" y="4239000"/>
                <a:ext cx="323280" cy="251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9111240" y="4311000"/>
                <a:ext cx="323280" cy="107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5400000">
                <a:off x="9111240" y="4239000"/>
                <a:ext cx="323280" cy="2520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5400000">
                <a:off x="9110520" y="4311000"/>
                <a:ext cx="323280" cy="107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9074160" y="4502160"/>
              <a:ext cx="399960" cy="149040"/>
              <a:chOff x="9074160" y="4502160"/>
              <a:chExt cx="399960" cy="149040"/>
            </a:xfrm>
          </p:grpSpPr>
          <p:sp>
            <p:nvSpPr>
              <p:cNvPr id="1632" name=""/>
              <p:cNvSpPr txBox="1"/>
              <p:nvPr/>
            </p:nvSpPr>
            <p:spPr>
              <a:xfrm>
                <a:off x="9074160" y="45021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配信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633" name=""/>
              <p:cNvSpPr txBox="1"/>
              <p:nvPr/>
            </p:nvSpPr>
            <p:spPr>
              <a:xfrm>
                <a:off x="9074160" y="45021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配信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1634" name=""/>
          <p:cNvGrpSpPr/>
          <p:nvPr/>
        </p:nvGrpSpPr>
        <p:grpSpPr>
          <a:xfrm>
            <a:off x="2844720" y="4238640"/>
            <a:ext cx="399960" cy="409680"/>
            <a:chOff x="2844720" y="4238640"/>
            <a:chExt cx="399960" cy="409680"/>
          </a:xfrm>
        </p:grpSpPr>
        <p:grpSp>
          <p:nvGrpSpPr>
            <p:cNvPr id="1635" name=""/>
            <p:cNvGrpSpPr/>
            <p:nvPr/>
          </p:nvGrpSpPr>
          <p:grpSpPr>
            <a:xfrm>
              <a:off x="2865600" y="4238640"/>
              <a:ext cx="360360" cy="270000"/>
              <a:chOff x="2865600" y="4238640"/>
              <a:chExt cx="360360" cy="270000"/>
            </a:xfrm>
          </p:grpSpPr>
          <p:grpSp>
            <p:nvGrpSpPr>
              <p:cNvPr id="1636" name=""/>
              <p:cNvGrpSpPr/>
              <p:nvPr/>
            </p:nvGrpSpPr>
            <p:grpSpPr>
              <a:xfrm>
                <a:off x="2865600" y="4238640"/>
                <a:ext cx="360360" cy="270000"/>
                <a:chOff x="2865600" y="4238640"/>
                <a:chExt cx="360360" cy="270000"/>
              </a:xfrm>
            </p:grpSpPr>
            <p:sp>
              <p:nvSpPr>
                <p:cNvPr id="1637" name=""/>
                <p:cNvSpPr/>
                <p:nvPr/>
              </p:nvSpPr>
              <p:spPr>
                <a:xfrm>
                  <a:off x="2865600" y="4238640"/>
                  <a:ext cx="360360" cy="270000"/>
                </a:xfrm>
                <a:prstGeom prst="roundRect">
                  <a:avLst>
                    <a:gd name="adj" fmla="val 2389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8" name=""/>
                <p:cNvGrpSpPr/>
                <p:nvPr/>
              </p:nvGrpSpPr>
              <p:grpSpPr>
                <a:xfrm>
                  <a:off x="2865600" y="4238640"/>
                  <a:ext cx="360360" cy="270000"/>
                  <a:chOff x="2865600" y="4238640"/>
                  <a:chExt cx="360360" cy="27000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>
                    <a:off x="2865600" y="4238640"/>
                    <a:ext cx="360360" cy="270000"/>
                  </a:xfrm>
                  <a:prstGeom prst="roundRect">
                    <a:avLst>
                      <a:gd name="adj" fmla="val 2389"/>
                    </a:avLst>
                  </a:prstGeom>
                  <a:gradFill rotWithShape="0">
                    <a:gsLst>
                      <a:gs pos="0">
                        <a:srgbClr val="002f75"/>
                      </a:gs>
                      <a:gs pos="100000">
                        <a:srgbClr val="0066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40" name=""/>
                  <p:cNvGrpSpPr/>
                  <p:nvPr/>
                </p:nvGrpSpPr>
                <p:grpSpPr>
                  <a:xfrm>
                    <a:off x="2869560" y="4260240"/>
                    <a:ext cx="352800" cy="243720"/>
                    <a:chOff x="2869560" y="4260240"/>
                    <a:chExt cx="352800" cy="243720"/>
                  </a:xfrm>
                </p:grpSpPr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2869560" y="4271400"/>
                      <a:ext cx="352800" cy="232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2" name=""/>
                    <p:cNvSpPr/>
                    <p:nvPr/>
                  </p:nvSpPr>
                  <p:spPr>
                    <a:xfrm>
                      <a:off x="2869560" y="4260240"/>
                      <a:ext cx="352800" cy="11160"/>
                    </a:xfrm>
                    <a:prstGeom prst="rect">
                      <a:avLst/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3174840" y="4242960"/>
                    <a:ext cx="44640" cy="14040"/>
                    <a:chOff x="3174840" y="4242960"/>
                    <a:chExt cx="44640" cy="14040"/>
                  </a:xfrm>
                </p:grpSpPr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3174840" y="4242960"/>
                      <a:ext cx="14040" cy="1404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3189960" y="4242960"/>
                      <a:ext cx="14040" cy="1404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3205440" y="4242960"/>
                      <a:ext cx="14040" cy="1404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cc0000"/>
                        </a:gs>
                        <a:gs pos="100000">
                          <a:srgbClr val="5e0000"/>
                        </a:gs>
                      </a:gsLst>
                      <a:lin ang="5400000"/>
                    </a:gra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47" name=""/>
                    <p:cNvGrpSpPr/>
                    <p:nvPr/>
                  </p:nvGrpSpPr>
                  <p:grpSpPr>
                    <a:xfrm>
                      <a:off x="3208320" y="4244760"/>
                      <a:ext cx="9000" cy="9720"/>
                      <a:chOff x="3208320" y="4244760"/>
                      <a:chExt cx="9000" cy="9720"/>
                    </a:xfrm>
                  </p:grpSpPr>
                  <p:sp>
                    <p:nvSpPr>
                      <p:cNvPr id="1648" name=""/>
                      <p:cNvSpPr/>
                      <p:nvPr/>
                    </p:nvSpPr>
                    <p:spPr>
                      <a:xfrm rot="8100000">
                        <a:off x="3206880" y="4249080"/>
                        <a:ext cx="11520" cy="1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720" bIns="-45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"/>
                      <p:cNvSpPr/>
                      <p:nvPr/>
                    </p:nvSpPr>
                    <p:spPr>
                      <a:xfrm rot="13500000">
                        <a:off x="3206880" y="4248720"/>
                        <a:ext cx="11520" cy="10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720" bIns="-45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50" name=""/>
                    <p:cNvSpPr/>
                    <p:nvPr/>
                  </p:nvSpPr>
                  <p:spPr>
                    <a:xfrm>
                      <a:off x="3177360" y="4253400"/>
                      <a:ext cx="8640" cy="1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51" name=""/>
                    <p:cNvGrpSpPr/>
                    <p:nvPr/>
                  </p:nvGrpSpPr>
                  <p:grpSpPr>
                    <a:xfrm>
                      <a:off x="3191400" y="4245480"/>
                      <a:ext cx="11520" cy="9720"/>
                      <a:chOff x="3191400" y="4245480"/>
                      <a:chExt cx="11520" cy="9720"/>
                    </a:xfrm>
                  </p:grpSpPr>
                  <p:sp>
                    <p:nvSpPr>
                      <p:cNvPr id="1652" name=""/>
                      <p:cNvSpPr/>
                      <p:nvPr/>
                    </p:nvSpPr>
                    <p:spPr>
                      <a:xfrm>
                        <a:off x="3191400" y="4248360"/>
                        <a:ext cx="8640" cy="1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"/>
                      <p:cNvSpPr/>
                      <p:nvPr/>
                    </p:nvSpPr>
                    <p:spPr>
                      <a:xfrm>
                        <a:off x="3199320" y="4249440"/>
                        <a:ext cx="720" cy="57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040" bIns="-41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"/>
                      <p:cNvSpPr/>
                      <p:nvPr/>
                    </p:nvSpPr>
                    <p:spPr>
                      <a:xfrm>
                        <a:off x="3191400" y="4249440"/>
                        <a:ext cx="720" cy="57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040" bIns="-41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"/>
                      <p:cNvSpPr/>
                      <p:nvPr/>
                    </p:nvSpPr>
                    <p:spPr>
                      <a:xfrm>
                        <a:off x="3191400" y="4254480"/>
                        <a:ext cx="8640" cy="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6080" bIns="-46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"/>
                      <p:cNvSpPr/>
                      <p:nvPr/>
                    </p:nvSpPr>
                    <p:spPr>
                      <a:xfrm>
                        <a:off x="3194280" y="4245480"/>
                        <a:ext cx="8640" cy="1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"/>
                      <p:cNvSpPr/>
                      <p:nvPr/>
                    </p:nvSpPr>
                    <p:spPr>
                      <a:xfrm>
                        <a:off x="3202200" y="4246200"/>
                        <a:ext cx="720" cy="57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040" bIns="-41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"/>
                      <p:cNvSpPr/>
                      <p:nvPr/>
                    </p:nvSpPr>
                    <p:spPr>
                      <a:xfrm>
                        <a:off x="3201120" y="4251240"/>
                        <a:ext cx="1800" cy="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6080" bIns="-46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659" name=""/>
              <p:cNvSpPr/>
              <p:nvPr/>
            </p:nvSpPr>
            <p:spPr>
              <a:xfrm>
                <a:off x="2936880" y="4292640"/>
                <a:ext cx="216000" cy="73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2844720" y="4498920"/>
              <a:ext cx="399960" cy="149400"/>
              <a:chOff x="2844720" y="4498920"/>
              <a:chExt cx="399960" cy="149400"/>
            </a:xfrm>
          </p:grpSpPr>
          <p:sp>
            <p:nvSpPr>
              <p:cNvPr id="1661" name=""/>
              <p:cNvSpPr txBox="1"/>
              <p:nvPr/>
            </p:nvSpPr>
            <p:spPr>
              <a:xfrm>
                <a:off x="2844720" y="44989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広告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1662" name=""/>
              <p:cNvSpPr txBox="1"/>
              <p:nvPr/>
            </p:nvSpPr>
            <p:spPr>
              <a:xfrm>
                <a:off x="2844720" y="44989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広告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sp>
        <p:nvSpPr>
          <p:cNvPr id="1663" name=""/>
          <p:cNvSpPr/>
          <p:nvPr/>
        </p:nvSpPr>
        <p:spPr>
          <a:xfrm>
            <a:off x="5097600" y="5950080"/>
            <a:ext cx="1295280" cy="501480"/>
          </a:xfrm>
          <a:prstGeom prst="foldedCorner">
            <a:avLst>
              <a:gd name="adj" fmla="val 6611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メイリオ"/>
              </a:rPr>
              <a:t>文字文字文字文字文字文字文字文字文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554880" y="5950080"/>
            <a:ext cx="1295280" cy="501480"/>
          </a:xfrm>
          <a:prstGeom prst="foldedCorner">
            <a:avLst>
              <a:gd name="adj" fmla="val 6611"/>
            </a:avLst>
          </a:prstGeom>
          <a:solidFill>
            <a:srgbClr val="99cc00"/>
          </a:solidFill>
          <a:ln w="255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メイリオ"/>
              </a:rPr>
              <a:t>文字文字文字文字文字文字文字文字文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7985160" y="5950080"/>
            <a:ext cx="1295280" cy="501480"/>
          </a:xfrm>
          <a:prstGeom prst="foldedCorner">
            <a:avLst>
              <a:gd name="adj" fmla="val 6611"/>
            </a:avLst>
          </a:prstGeom>
          <a:solidFill>
            <a:srgbClr val="ffcc99"/>
          </a:solidFill>
          <a:ln w="255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メイリオ"/>
              </a:rPr>
              <a:t>文字文字文字文字文字文字文字文字文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606960" y="260280"/>
            <a:ext cx="118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■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スケジュールパー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7534440" y="677880"/>
            <a:ext cx="399960" cy="1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</a:rPr>
              <a:t>契約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メイリオ"/>
              <a:ea typeface="メイリオ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8308800" y="677880"/>
            <a:ext cx="400320" cy="1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</a:rPr>
              <a:t>仮契約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メイリオ"/>
              <a:ea typeface="メイリオ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9086760" y="677880"/>
            <a:ext cx="400320" cy="1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</a:rPr>
              <a:t>本契約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メイリオ"/>
              <a:ea typeface="メイリオ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542880" y="668160"/>
            <a:ext cx="395280" cy="141120"/>
            <a:chOff x="542880" y="668160"/>
            <a:chExt cx="395280" cy="141120"/>
          </a:xfrm>
        </p:grpSpPr>
        <p:sp>
          <p:nvSpPr>
            <p:cNvPr id="1671" name=""/>
            <p:cNvSpPr txBox="1"/>
            <p:nvPr/>
          </p:nvSpPr>
          <p:spPr>
            <a:xfrm>
              <a:off x="542880" y="668160"/>
              <a:ext cx="39528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締切り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672" name=""/>
            <p:cNvSpPr txBox="1"/>
            <p:nvPr/>
          </p:nvSpPr>
          <p:spPr>
            <a:xfrm>
              <a:off x="542880" y="672120"/>
              <a:ext cx="39528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締切り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1322280" y="689040"/>
            <a:ext cx="400320" cy="140760"/>
            <a:chOff x="1322280" y="689040"/>
            <a:chExt cx="400320" cy="140760"/>
          </a:xfrm>
        </p:grpSpPr>
        <p:sp>
          <p:nvSpPr>
            <p:cNvPr id="1674" name=""/>
            <p:cNvSpPr txBox="1"/>
            <p:nvPr/>
          </p:nvSpPr>
          <p:spPr>
            <a:xfrm>
              <a:off x="1322280" y="689040"/>
              <a:ext cx="40032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キックオフ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675" name=""/>
            <p:cNvSpPr txBox="1"/>
            <p:nvPr/>
          </p:nvSpPr>
          <p:spPr>
            <a:xfrm>
              <a:off x="1322280" y="69300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キックオフ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5977080" y="673200"/>
            <a:ext cx="399960" cy="140760"/>
            <a:chOff x="5977080" y="673200"/>
            <a:chExt cx="399960" cy="140760"/>
          </a:xfrm>
        </p:grpSpPr>
        <p:sp>
          <p:nvSpPr>
            <p:cNvPr id="1677" name=""/>
            <p:cNvSpPr txBox="1"/>
            <p:nvPr/>
          </p:nvSpPr>
          <p:spPr>
            <a:xfrm>
              <a:off x="5977080" y="673200"/>
              <a:ext cx="3999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更新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678" name=""/>
            <p:cNvSpPr txBox="1"/>
            <p:nvPr/>
          </p:nvSpPr>
          <p:spPr>
            <a:xfrm>
              <a:off x="5977080" y="677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更新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sp>
        <p:nvSpPr>
          <p:cNvPr id="1679" name=""/>
          <p:cNvSpPr txBox="1"/>
          <p:nvPr/>
        </p:nvSpPr>
        <p:spPr>
          <a:xfrm>
            <a:off x="7534440" y="682560"/>
            <a:ext cx="399960" cy="1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</a:rPr>
              <a:t>契約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メイリオ"/>
              <a:ea typeface="メイリオ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2093760" y="674640"/>
            <a:ext cx="400320" cy="141120"/>
            <a:chOff x="2093760" y="674640"/>
            <a:chExt cx="400320" cy="141120"/>
          </a:xfrm>
        </p:grpSpPr>
        <p:sp>
          <p:nvSpPr>
            <p:cNvPr id="1681" name=""/>
            <p:cNvSpPr txBox="1"/>
            <p:nvPr/>
          </p:nvSpPr>
          <p:spPr>
            <a:xfrm>
              <a:off x="2093760" y="67464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予備日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682" name=""/>
            <p:cNvSpPr txBox="1"/>
            <p:nvPr/>
          </p:nvSpPr>
          <p:spPr>
            <a:xfrm>
              <a:off x="2093760" y="67860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予備日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2870280" y="673200"/>
            <a:ext cx="399960" cy="140760"/>
            <a:chOff x="2870280" y="673200"/>
            <a:chExt cx="399960" cy="140760"/>
          </a:xfrm>
        </p:grpSpPr>
        <p:sp>
          <p:nvSpPr>
            <p:cNvPr id="1684" name=""/>
            <p:cNvSpPr txBox="1"/>
            <p:nvPr/>
          </p:nvSpPr>
          <p:spPr>
            <a:xfrm>
              <a:off x="2870280" y="673200"/>
              <a:ext cx="3999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未定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685" name=""/>
            <p:cNvSpPr txBox="1"/>
            <p:nvPr/>
          </p:nvSpPr>
          <p:spPr>
            <a:xfrm>
              <a:off x="2870280" y="677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未定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199120" y="673200"/>
            <a:ext cx="399960" cy="140760"/>
            <a:chOff x="5199120" y="673200"/>
            <a:chExt cx="399960" cy="140760"/>
          </a:xfrm>
        </p:grpSpPr>
        <p:sp>
          <p:nvSpPr>
            <p:cNvPr id="1687" name=""/>
            <p:cNvSpPr txBox="1"/>
            <p:nvPr/>
          </p:nvSpPr>
          <p:spPr>
            <a:xfrm>
              <a:off x="5199120" y="673200"/>
              <a:ext cx="3999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訪問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688" name=""/>
            <p:cNvSpPr txBox="1"/>
            <p:nvPr/>
          </p:nvSpPr>
          <p:spPr>
            <a:xfrm>
              <a:off x="5199120" y="677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訪問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4425840" y="673200"/>
            <a:ext cx="400320" cy="140760"/>
            <a:chOff x="4425840" y="673200"/>
            <a:chExt cx="400320" cy="140760"/>
          </a:xfrm>
        </p:grpSpPr>
        <p:sp>
          <p:nvSpPr>
            <p:cNvPr id="1690" name=""/>
            <p:cNvSpPr txBox="1"/>
            <p:nvPr/>
          </p:nvSpPr>
          <p:spPr>
            <a:xfrm>
              <a:off x="4425840" y="673200"/>
              <a:ext cx="40032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再提出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691" name=""/>
            <p:cNvSpPr txBox="1"/>
            <p:nvPr/>
          </p:nvSpPr>
          <p:spPr>
            <a:xfrm>
              <a:off x="4425840" y="67716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再提出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48240" y="673200"/>
            <a:ext cx="399960" cy="140760"/>
            <a:chOff x="3648240" y="673200"/>
            <a:chExt cx="399960" cy="140760"/>
          </a:xfrm>
        </p:grpSpPr>
        <p:sp>
          <p:nvSpPr>
            <p:cNvPr id="1693" name=""/>
            <p:cNvSpPr txBox="1"/>
            <p:nvPr/>
          </p:nvSpPr>
          <p:spPr>
            <a:xfrm>
              <a:off x="3648240" y="673200"/>
              <a:ext cx="3999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提出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694" name=""/>
            <p:cNvSpPr txBox="1"/>
            <p:nvPr/>
          </p:nvSpPr>
          <p:spPr>
            <a:xfrm>
              <a:off x="3648240" y="677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提出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6757920" y="677880"/>
            <a:ext cx="399960" cy="140760"/>
            <a:chOff x="6757920" y="677880"/>
            <a:chExt cx="399960" cy="140760"/>
          </a:xfrm>
        </p:grpSpPr>
        <p:sp>
          <p:nvSpPr>
            <p:cNvPr id="1696" name=""/>
            <p:cNvSpPr txBox="1"/>
            <p:nvPr/>
          </p:nvSpPr>
          <p:spPr>
            <a:xfrm>
              <a:off x="6757920" y="67788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公開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697" name=""/>
            <p:cNvSpPr txBox="1"/>
            <p:nvPr/>
          </p:nvSpPr>
          <p:spPr>
            <a:xfrm>
              <a:off x="6757920" y="68184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公開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sp>
        <p:nvSpPr>
          <p:cNvPr id="1698" name=""/>
          <p:cNvSpPr txBox="1"/>
          <p:nvPr/>
        </p:nvSpPr>
        <p:spPr>
          <a:xfrm>
            <a:off x="8308800" y="682560"/>
            <a:ext cx="400320" cy="1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</a:rPr>
              <a:t>仮契約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メイリオ"/>
              <a:ea typeface="メイリオ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9086760" y="682560"/>
            <a:ext cx="400320" cy="1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</a:rPr>
              <a:t>本契約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メイリオ"/>
              <a:ea typeface="メイリオ"/>
            </a:endParaRPr>
          </a:p>
        </p:txBody>
      </p:sp>
      <p:grpSp>
        <p:nvGrpSpPr>
          <p:cNvPr id="1700" name=""/>
          <p:cNvGrpSpPr/>
          <p:nvPr/>
        </p:nvGrpSpPr>
        <p:grpSpPr>
          <a:xfrm>
            <a:off x="5981760" y="2201760"/>
            <a:ext cx="399960" cy="141120"/>
            <a:chOff x="5981760" y="2201760"/>
            <a:chExt cx="399960" cy="141120"/>
          </a:xfrm>
        </p:grpSpPr>
        <p:sp>
          <p:nvSpPr>
            <p:cNvPr id="1701" name=""/>
            <p:cNvSpPr txBox="1"/>
            <p:nvPr/>
          </p:nvSpPr>
          <p:spPr>
            <a:xfrm>
              <a:off x="5981760" y="220176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契約書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02" name=""/>
            <p:cNvSpPr txBox="1"/>
            <p:nvPr/>
          </p:nvSpPr>
          <p:spPr>
            <a:xfrm>
              <a:off x="5981760" y="22057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契約書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9086760" y="2206800"/>
            <a:ext cx="400320" cy="140760"/>
            <a:chOff x="9086760" y="2206800"/>
            <a:chExt cx="400320" cy="140760"/>
          </a:xfrm>
        </p:grpSpPr>
        <p:sp>
          <p:nvSpPr>
            <p:cNvPr id="1704" name=""/>
            <p:cNvSpPr txBox="1"/>
            <p:nvPr/>
          </p:nvSpPr>
          <p:spPr>
            <a:xfrm>
              <a:off x="9086760" y="220680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スタート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05" name=""/>
            <p:cNvSpPr txBox="1"/>
            <p:nvPr/>
          </p:nvSpPr>
          <p:spPr>
            <a:xfrm>
              <a:off x="9086760" y="2211120"/>
              <a:ext cx="40032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スタート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865600" y="2201760"/>
            <a:ext cx="399960" cy="141120"/>
            <a:chOff x="2865600" y="2201760"/>
            <a:chExt cx="399960" cy="141120"/>
          </a:xfrm>
        </p:grpSpPr>
        <p:sp>
          <p:nvSpPr>
            <p:cNvPr id="1707" name=""/>
            <p:cNvSpPr txBox="1"/>
            <p:nvPr/>
          </p:nvSpPr>
          <p:spPr>
            <a:xfrm>
              <a:off x="2865600" y="220176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メール連絡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08" name=""/>
            <p:cNvSpPr txBox="1"/>
            <p:nvPr/>
          </p:nvSpPr>
          <p:spPr>
            <a:xfrm>
              <a:off x="2865600" y="22057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メール連絡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09" name=""/>
          <p:cNvGrpSpPr/>
          <p:nvPr/>
        </p:nvGrpSpPr>
        <p:grpSpPr>
          <a:xfrm>
            <a:off x="1309680" y="2206800"/>
            <a:ext cx="399960" cy="140760"/>
            <a:chOff x="1309680" y="2206800"/>
            <a:chExt cx="399960" cy="140760"/>
          </a:xfrm>
        </p:grpSpPr>
        <p:sp>
          <p:nvSpPr>
            <p:cNvPr id="1710" name=""/>
            <p:cNvSpPr txBox="1"/>
            <p:nvPr/>
          </p:nvSpPr>
          <p:spPr>
            <a:xfrm>
              <a:off x="1309680" y="22068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メール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11" name=""/>
            <p:cNvSpPr txBox="1"/>
            <p:nvPr/>
          </p:nvSpPr>
          <p:spPr>
            <a:xfrm>
              <a:off x="1309680" y="2211120"/>
              <a:ext cx="3999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メール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12" name=""/>
          <p:cNvGrpSpPr/>
          <p:nvPr/>
        </p:nvGrpSpPr>
        <p:grpSpPr>
          <a:xfrm>
            <a:off x="2090880" y="2206800"/>
            <a:ext cx="399960" cy="140760"/>
            <a:chOff x="2090880" y="2206800"/>
            <a:chExt cx="399960" cy="140760"/>
          </a:xfrm>
        </p:grpSpPr>
        <p:sp>
          <p:nvSpPr>
            <p:cNvPr id="1713" name=""/>
            <p:cNvSpPr txBox="1"/>
            <p:nvPr/>
          </p:nvSpPr>
          <p:spPr>
            <a:xfrm>
              <a:off x="2090880" y="22068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メール報告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14" name=""/>
            <p:cNvSpPr txBox="1"/>
            <p:nvPr/>
          </p:nvSpPr>
          <p:spPr>
            <a:xfrm>
              <a:off x="2090880" y="2211120"/>
              <a:ext cx="3999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メール報告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536400" y="2206800"/>
            <a:ext cx="400320" cy="140760"/>
            <a:chOff x="536400" y="2206800"/>
            <a:chExt cx="400320" cy="140760"/>
          </a:xfrm>
        </p:grpSpPr>
        <p:sp>
          <p:nvSpPr>
            <p:cNvPr id="1716" name=""/>
            <p:cNvSpPr txBox="1"/>
            <p:nvPr/>
          </p:nvSpPr>
          <p:spPr>
            <a:xfrm>
              <a:off x="536400" y="220680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納品検査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17" name=""/>
            <p:cNvSpPr txBox="1"/>
            <p:nvPr/>
          </p:nvSpPr>
          <p:spPr>
            <a:xfrm>
              <a:off x="536400" y="2211120"/>
              <a:ext cx="40032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納品検査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3646440" y="2201760"/>
            <a:ext cx="399960" cy="141120"/>
            <a:chOff x="3646440" y="2201760"/>
            <a:chExt cx="399960" cy="141120"/>
          </a:xfrm>
        </p:grpSpPr>
        <p:sp>
          <p:nvSpPr>
            <p:cNvPr id="1719" name=""/>
            <p:cNvSpPr txBox="1"/>
            <p:nvPr/>
          </p:nvSpPr>
          <p:spPr>
            <a:xfrm>
              <a:off x="3646440" y="220176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予備期間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20" name=""/>
            <p:cNvSpPr txBox="1"/>
            <p:nvPr/>
          </p:nvSpPr>
          <p:spPr>
            <a:xfrm>
              <a:off x="3646440" y="22057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予備期間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756480" y="2206800"/>
            <a:ext cx="399960" cy="140760"/>
            <a:chOff x="6756480" y="2206800"/>
            <a:chExt cx="399960" cy="140760"/>
          </a:xfrm>
        </p:grpSpPr>
        <p:sp>
          <p:nvSpPr>
            <p:cNvPr id="1722" name=""/>
            <p:cNvSpPr txBox="1"/>
            <p:nvPr/>
          </p:nvSpPr>
          <p:spPr>
            <a:xfrm>
              <a:off x="6756480" y="22068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動作確認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23" name=""/>
            <p:cNvSpPr txBox="1"/>
            <p:nvPr/>
          </p:nvSpPr>
          <p:spPr>
            <a:xfrm>
              <a:off x="6756480" y="2211120"/>
              <a:ext cx="3999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動作確認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5200560" y="2201760"/>
            <a:ext cx="400320" cy="141120"/>
            <a:chOff x="5200560" y="2201760"/>
            <a:chExt cx="400320" cy="141120"/>
          </a:xfrm>
        </p:grpSpPr>
        <p:sp>
          <p:nvSpPr>
            <p:cNvPr id="1725" name=""/>
            <p:cNvSpPr txBox="1"/>
            <p:nvPr/>
          </p:nvSpPr>
          <p:spPr>
            <a:xfrm>
              <a:off x="5200560" y="220176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設計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26" name=""/>
            <p:cNvSpPr txBox="1"/>
            <p:nvPr/>
          </p:nvSpPr>
          <p:spPr>
            <a:xfrm>
              <a:off x="5200560" y="220572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設計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4421160" y="2206800"/>
            <a:ext cx="399960" cy="140760"/>
            <a:chOff x="4421160" y="2206800"/>
            <a:chExt cx="399960" cy="140760"/>
          </a:xfrm>
        </p:grpSpPr>
        <p:sp>
          <p:nvSpPr>
            <p:cNvPr id="1728" name=""/>
            <p:cNvSpPr txBox="1"/>
            <p:nvPr/>
          </p:nvSpPr>
          <p:spPr>
            <a:xfrm>
              <a:off x="4421160" y="22068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デザイン提出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29" name=""/>
            <p:cNvSpPr txBox="1"/>
            <p:nvPr/>
          </p:nvSpPr>
          <p:spPr>
            <a:xfrm>
              <a:off x="4421160" y="22107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デザイン提出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7534440" y="2206800"/>
            <a:ext cx="399960" cy="140760"/>
            <a:chOff x="7534440" y="2206800"/>
            <a:chExt cx="399960" cy="140760"/>
          </a:xfrm>
        </p:grpSpPr>
        <p:sp>
          <p:nvSpPr>
            <p:cNvPr id="1731" name=""/>
            <p:cNvSpPr txBox="1"/>
            <p:nvPr/>
          </p:nvSpPr>
          <p:spPr>
            <a:xfrm>
              <a:off x="7534440" y="22068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Web</a:t>
              </a: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公開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32" name=""/>
            <p:cNvSpPr txBox="1"/>
            <p:nvPr/>
          </p:nvSpPr>
          <p:spPr>
            <a:xfrm>
              <a:off x="7534440" y="2211120"/>
              <a:ext cx="3999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Web</a:t>
              </a: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公開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8312040" y="2206800"/>
            <a:ext cx="400320" cy="140760"/>
            <a:chOff x="8312040" y="2206800"/>
            <a:chExt cx="400320" cy="140760"/>
          </a:xfrm>
        </p:grpSpPr>
        <p:sp>
          <p:nvSpPr>
            <p:cNvPr id="1734" name=""/>
            <p:cNvSpPr txBox="1"/>
            <p:nvPr/>
          </p:nvSpPr>
          <p:spPr>
            <a:xfrm>
              <a:off x="8312040" y="220680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審査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35" name=""/>
            <p:cNvSpPr txBox="1"/>
            <p:nvPr/>
          </p:nvSpPr>
          <p:spPr>
            <a:xfrm>
              <a:off x="8312040" y="2211120"/>
              <a:ext cx="40032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審査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2089080" y="1484280"/>
            <a:ext cx="399960" cy="141120"/>
            <a:chOff x="2089080" y="1484280"/>
            <a:chExt cx="399960" cy="141120"/>
          </a:xfrm>
        </p:grpSpPr>
        <p:sp>
          <p:nvSpPr>
            <p:cNvPr id="1737" name=""/>
            <p:cNvSpPr txBox="1"/>
            <p:nvPr/>
          </p:nvSpPr>
          <p:spPr>
            <a:xfrm>
              <a:off x="2089080" y="148428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配達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38" name=""/>
            <p:cNvSpPr txBox="1"/>
            <p:nvPr/>
          </p:nvSpPr>
          <p:spPr>
            <a:xfrm>
              <a:off x="2089080" y="14886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配達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2881440" y="1484280"/>
            <a:ext cx="399960" cy="141120"/>
            <a:chOff x="2881440" y="1484280"/>
            <a:chExt cx="399960" cy="141120"/>
          </a:xfrm>
        </p:grpSpPr>
        <p:sp>
          <p:nvSpPr>
            <p:cNvPr id="1740" name=""/>
            <p:cNvSpPr txBox="1"/>
            <p:nvPr/>
          </p:nvSpPr>
          <p:spPr>
            <a:xfrm>
              <a:off x="2881440" y="148428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輸送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41" name=""/>
            <p:cNvSpPr txBox="1"/>
            <p:nvPr/>
          </p:nvSpPr>
          <p:spPr>
            <a:xfrm>
              <a:off x="2881440" y="14886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輸送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6756480" y="1488960"/>
            <a:ext cx="399960" cy="141120"/>
            <a:chOff x="6756480" y="1488960"/>
            <a:chExt cx="399960" cy="141120"/>
          </a:xfrm>
        </p:grpSpPr>
        <p:sp>
          <p:nvSpPr>
            <p:cNvPr id="1743" name=""/>
            <p:cNvSpPr txBox="1"/>
            <p:nvPr/>
          </p:nvSpPr>
          <p:spPr>
            <a:xfrm>
              <a:off x="6756480" y="148896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運用開始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44" name=""/>
            <p:cNvSpPr txBox="1"/>
            <p:nvPr/>
          </p:nvSpPr>
          <p:spPr>
            <a:xfrm>
              <a:off x="6756480" y="14929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運用開始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8308800" y="1488960"/>
            <a:ext cx="400320" cy="141120"/>
            <a:chOff x="8308800" y="1488960"/>
            <a:chExt cx="400320" cy="141120"/>
          </a:xfrm>
        </p:grpSpPr>
        <p:sp>
          <p:nvSpPr>
            <p:cNvPr id="1746" name=""/>
            <p:cNvSpPr txBox="1"/>
            <p:nvPr/>
          </p:nvSpPr>
          <p:spPr>
            <a:xfrm>
              <a:off x="8308800" y="148896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終了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47" name=""/>
            <p:cNvSpPr txBox="1"/>
            <p:nvPr/>
          </p:nvSpPr>
          <p:spPr>
            <a:xfrm>
              <a:off x="8308800" y="149292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終了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9086760" y="1488960"/>
            <a:ext cx="400320" cy="141120"/>
            <a:chOff x="9086760" y="1488960"/>
            <a:chExt cx="400320" cy="141120"/>
          </a:xfrm>
        </p:grpSpPr>
        <p:sp>
          <p:nvSpPr>
            <p:cNvPr id="1749" name=""/>
            <p:cNvSpPr txBox="1"/>
            <p:nvPr/>
          </p:nvSpPr>
          <p:spPr>
            <a:xfrm>
              <a:off x="9086760" y="148896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決定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50" name=""/>
            <p:cNvSpPr txBox="1"/>
            <p:nvPr/>
          </p:nvSpPr>
          <p:spPr>
            <a:xfrm>
              <a:off x="9086760" y="149292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決定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1312920" y="1484280"/>
            <a:ext cx="399960" cy="141120"/>
            <a:chOff x="1312920" y="1484280"/>
            <a:chExt cx="399960" cy="141120"/>
          </a:xfrm>
        </p:grpSpPr>
        <p:sp>
          <p:nvSpPr>
            <p:cNvPr id="1752" name=""/>
            <p:cNvSpPr txBox="1"/>
            <p:nvPr/>
          </p:nvSpPr>
          <p:spPr>
            <a:xfrm>
              <a:off x="1312920" y="148428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検査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53" name=""/>
            <p:cNvSpPr txBox="1"/>
            <p:nvPr/>
          </p:nvSpPr>
          <p:spPr>
            <a:xfrm>
              <a:off x="1312920" y="14886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検査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5183280" y="1484280"/>
            <a:ext cx="399960" cy="141120"/>
            <a:chOff x="5183280" y="1484280"/>
            <a:chExt cx="399960" cy="141120"/>
          </a:xfrm>
        </p:grpSpPr>
        <p:sp>
          <p:nvSpPr>
            <p:cNvPr id="1755" name=""/>
            <p:cNvSpPr txBox="1"/>
            <p:nvPr/>
          </p:nvSpPr>
          <p:spPr>
            <a:xfrm>
              <a:off x="5183280" y="148428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郵送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56" name=""/>
            <p:cNvSpPr txBox="1"/>
            <p:nvPr/>
          </p:nvSpPr>
          <p:spPr>
            <a:xfrm>
              <a:off x="5183280" y="14886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郵送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4424400" y="1488960"/>
            <a:ext cx="399960" cy="141120"/>
            <a:chOff x="4424400" y="1488960"/>
            <a:chExt cx="399960" cy="141120"/>
          </a:xfrm>
        </p:grpSpPr>
        <p:sp>
          <p:nvSpPr>
            <p:cNvPr id="1758" name=""/>
            <p:cNvSpPr txBox="1"/>
            <p:nvPr/>
          </p:nvSpPr>
          <p:spPr>
            <a:xfrm>
              <a:off x="4424400" y="148896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持込み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59" name=""/>
            <p:cNvSpPr txBox="1"/>
            <p:nvPr/>
          </p:nvSpPr>
          <p:spPr>
            <a:xfrm>
              <a:off x="4424400" y="14929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持込み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3643200" y="1484280"/>
            <a:ext cx="400320" cy="141120"/>
            <a:chOff x="3643200" y="1484280"/>
            <a:chExt cx="400320" cy="141120"/>
          </a:xfrm>
        </p:grpSpPr>
        <p:sp>
          <p:nvSpPr>
            <p:cNvPr id="1761" name=""/>
            <p:cNvSpPr txBox="1"/>
            <p:nvPr/>
          </p:nvSpPr>
          <p:spPr>
            <a:xfrm>
              <a:off x="3643200" y="148428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空輸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62" name=""/>
            <p:cNvSpPr txBox="1"/>
            <p:nvPr/>
          </p:nvSpPr>
          <p:spPr>
            <a:xfrm>
              <a:off x="3643200" y="148860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空輸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63" name=""/>
          <p:cNvGrpSpPr/>
          <p:nvPr/>
        </p:nvGrpSpPr>
        <p:grpSpPr>
          <a:xfrm>
            <a:off x="536400" y="1484280"/>
            <a:ext cx="400320" cy="141120"/>
            <a:chOff x="536400" y="1484280"/>
            <a:chExt cx="400320" cy="141120"/>
          </a:xfrm>
        </p:grpSpPr>
        <p:sp>
          <p:nvSpPr>
            <p:cNvPr id="1764" name=""/>
            <p:cNvSpPr txBox="1"/>
            <p:nvPr/>
          </p:nvSpPr>
          <p:spPr>
            <a:xfrm>
              <a:off x="536400" y="148428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納品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65" name=""/>
            <p:cNvSpPr txBox="1"/>
            <p:nvPr/>
          </p:nvSpPr>
          <p:spPr>
            <a:xfrm>
              <a:off x="536400" y="148860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納品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5978520" y="1484280"/>
            <a:ext cx="399960" cy="141120"/>
            <a:chOff x="5978520" y="1484280"/>
            <a:chExt cx="399960" cy="141120"/>
          </a:xfrm>
        </p:grpSpPr>
        <p:sp>
          <p:nvSpPr>
            <p:cNvPr id="1767" name=""/>
            <p:cNvSpPr txBox="1"/>
            <p:nvPr/>
          </p:nvSpPr>
          <p:spPr>
            <a:xfrm>
              <a:off x="5978520" y="148428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電話連絡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68" name=""/>
            <p:cNvSpPr txBox="1"/>
            <p:nvPr/>
          </p:nvSpPr>
          <p:spPr>
            <a:xfrm>
              <a:off x="5978520" y="14886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電話連絡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7531200" y="1488960"/>
            <a:ext cx="399960" cy="141120"/>
            <a:chOff x="7531200" y="1488960"/>
            <a:chExt cx="399960" cy="141120"/>
          </a:xfrm>
        </p:grpSpPr>
        <p:sp>
          <p:nvSpPr>
            <p:cNvPr id="1770" name=""/>
            <p:cNvSpPr txBox="1"/>
            <p:nvPr/>
          </p:nvSpPr>
          <p:spPr>
            <a:xfrm>
              <a:off x="7531200" y="148896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開始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71" name=""/>
            <p:cNvSpPr txBox="1"/>
            <p:nvPr/>
          </p:nvSpPr>
          <p:spPr>
            <a:xfrm>
              <a:off x="7531200" y="14929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開始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2844720" y="1055520"/>
            <a:ext cx="399960" cy="141120"/>
            <a:chOff x="2844720" y="1055520"/>
            <a:chExt cx="399960" cy="141120"/>
          </a:xfrm>
        </p:grpSpPr>
        <p:sp>
          <p:nvSpPr>
            <p:cNvPr id="1773" name=""/>
            <p:cNvSpPr txBox="1"/>
            <p:nvPr/>
          </p:nvSpPr>
          <p:spPr>
            <a:xfrm>
              <a:off x="2844720" y="10555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取消し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74" name=""/>
            <p:cNvSpPr txBox="1"/>
            <p:nvPr/>
          </p:nvSpPr>
          <p:spPr>
            <a:xfrm>
              <a:off x="2844720" y="105948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取消し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5200560" y="1050840"/>
            <a:ext cx="400320" cy="141120"/>
            <a:chOff x="5200560" y="1050840"/>
            <a:chExt cx="400320" cy="141120"/>
          </a:xfrm>
        </p:grpSpPr>
        <p:sp>
          <p:nvSpPr>
            <p:cNvPr id="1776" name=""/>
            <p:cNvSpPr txBox="1"/>
            <p:nvPr/>
          </p:nvSpPr>
          <p:spPr>
            <a:xfrm>
              <a:off x="5200560" y="105084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報告会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77" name=""/>
            <p:cNvSpPr txBox="1"/>
            <p:nvPr/>
          </p:nvSpPr>
          <p:spPr>
            <a:xfrm>
              <a:off x="5200560" y="105516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報告会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4424400" y="1050840"/>
            <a:ext cx="399960" cy="141120"/>
            <a:chOff x="4424400" y="1050840"/>
            <a:chExt cx="399960" cy="141120"/>
          </a:xfrm>
        </p:grpSpPr>
        <p:sp>
          <p:nvSpPr>
            <p:cNvPr id="1779" name=""/>
            <p:cNvSpPr txBox="1"/>
            <p:nvPr/>
          </p:nvSpPr>
          <p:spPr>
            <a:xfrm>
              <a:off x="4424400" y="105084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中止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80" name=""/>
            <p:cNvSpPr txBox="1"/>
            <p:nvPr/>
          </p:nvSpPr>
          <p:spPr>
            <a:xfrm>
              <a:off x="4424400" y="1055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中止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090880" y="1046160"/>
            <a:ext cx="399960" cy="140760"/>
            <a:chOff x="2090880" y="1046160"/>
            <a:chExt cx="399960" cy="140760"/>
          </a:xfrm>
        </p:grpSpPr>
        <p:sp>
          <p:nvSpPr>
            <p:cNvPr id="1782" name=""/>
            <p:cNvSpPr txBox="1"/>
            <p:nvPr/>
          </p:nvSpPr>
          <p:spPr>
            <a:xfrm>
              <a:off x="2090880" y="1046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打合せ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83" name=""/>
            <p:cNvSpPr txBox="1"/>
            <p:nvPr/>
          </p:nvSpPr>
          <p:spPr>
            <a:xfrm>
              <a:off x="2090880" y="105012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打合せ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84" name=""/>
          <p:cNvGrpSpPr/>
          <p:nvPr/>
        </p:nvGrpSpPr>
        <p:grpSpPr>
          <a:xfrm>
            <a:off x="1312920" y="1050840"/>
            <a:ext cx="399960" cy="141120"/>
            <a:chOff x="1312920" y="1050840"/>
            <a:chExt cx="399960" cy="141120"/>
          </a:xfrm>
        </p:grpSpPr>
        <p:sp>
          <p:nvSpPr>
            <p:cNvPr id="1785" name=""/>
            <p:cNvSpPr txBox="1"/>
            <p:nvPr/>
          </p:nvSpPr>
          <p:spPr>
            <a:xfrm>
              <a:off x="1312920" y="105084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定例会議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86" name=""/>
            <p:cNvSpPr txBox="1"/>
            <p:nvPr/>
          </p:nvSpPr>
          <p:spPr>
            <a:xfrm>
              <a:off x="1312920" y="1055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定例会議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87" name=""/>
          <p:cNvGrpSpPr/>
          <p:nvPr/>
        </p:nvGrpSpPr>
        <p:grpSpPr>
          <a:xfrm>
            <a:off x="560520" y="1046160"/>
            <a:ext cx="399960" cy="140760"/>
            <a:chOff x="560520" y="1046160"/>
            <a:chExt cx="399960" cy="140760"/>
          </a:xfrm>
        </p:grpSpPr>
        <p:sp>
          <p:nvSpPr>
            <p:cNvPr id="1788" name=""/>
            <p:cNvSpPr txBox="1"/>
            <p:nvPr/>
          </p:nvSpPr>
          <p:spPr>
            <a:xfrm>
              <a:off x="560520" y="1046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会議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89" name=""/>
            <p:cNvSpPr txBox="1"/>
            <p:nvPr/>
          </p:nvSpPr>
          <p:spPr>
            <a:xfrm>
              <a:off x="560520" y="105012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会議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9090000" y="1055520"/>
            <a:ext cx="399960" cy="141120"/>
            <a:chOff x="9090000" y="1055520"/>
            <a:chExt cx="399960" cy="141120"/>
          </a:xfrm>
        </p:grpSpPr>
        <p:sp>
          <p:nvSpPr>
            <p:cNvPr id="1791" name=""/>
            <p:cNvSpPr txBox="1"/>
            <p:nvPr/>
          </p:nvSpPr>
          <p:spPr>
            <a:xfrm>
              <a:off x="9090000" y="10555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確定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92" name=""/>
            <p:cNvSpPr txBox="1"/>
            <p:nvPr/>
          </p:nvSpPr>
          <p:spPr>
            <a:xfrm>
              <a:off x="9090000" y="105948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確定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3646440" y="1055520"/>
            <a:ext cx="399960" cy="141120"/>
            <a:chOff x="3646440" y="1055520"/>
            <a:chExt cx="399960" cy="141120"/>
          </a:xfrm>
        </p:grpSpPr>
        <p:sp>
          <p:nvSpPr>
            <p:cNvPr id="1794" name=""/>
            <p:cNvSpPr txBox="1"/>
            <p:nvPr/>
          </p:nvSpPr>
          <p:spPr>
            <a:xfrm>
              <a:off x="3646440" y="10555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報告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95" name=""/>
            <p:cNvSpPr txBox="1"/>
            <p:nvPr/>
          </p:nvSpPr>
          <p:spPr>
            <a:xfrm>
              <a:off x="3646440" y="105948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報告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969160" y="1050840"/>
            <a:ext cx="399960" cy="141120"/>
            <a:chOff x="5969160" y="1050840"/>
            <a:chExt cx="399960" cy="141120"/>
          </a:xfrm>
        </p:grpSpPr>
        <p:sp>
          <p:nvSpPr>
            <p:cNvPr id="1797" name=""/>
            <p:cNvSpPr txBox="1"/>
            <p:nvPr/>
          </p:nvSpPr>
          <p:spPr>
            <a:xfrm>
              <a:off x="5969160" y="105084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ご注文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798" name=""/>
            <p:cNvSpPr txBox="1"/>
            <p:nvPr/>
          </p:nvSpPr>
          <p:spPr>
            <a:xfrm>
              <a:off x="5969160" y="1055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ご注文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6753240" y="1055520"/>
            <a:ext cx="399960" cy="141120"/>
            <a:chOff x="6753240" y="1055520"/>
            <a:chExt cx="399960" cy="141120"/>
          </a:xfrm>
        </p:grpSpPr>
        <p:sp>
          <p:nvSpPr>
            <p:cNvPr id="1800" name=""/>
            <p:cNvSpPr txBox="1"/>
            <p:nvPr/>
          </p:nvSpPr>
          <p:spPr>
            <a:xfrm>
              <a:off x="6753240" y="10555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発注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01" name=""/>
            <p:cNvSpPr txBox="1"/>
            <p:nvPr/>
          </p:nvSpPr>
          <p:spPr>
            <a:xfrm>
              <a:off x="6753240" y="105948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発注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7531200" y="1055520"/>
            <a:ext cx="399960" cy="141120"/>
            <a:chOff x="7531200" y="1055520"/>
            <a:chExt cx="399960" cy="141120"/>
          </a:xfrm>
        </p:grpSpPr>
        <p:sp>
          <p:nvSpPr>
            <p:cNvPr id="1803" name=""/>
            <p:cNvSpPr txBox="1"/>
            <p:nvPr/>
          </p:nvSpPr>
          <p:spPr>
            <a:xfrm>
              <a:off x="7531200" y="10555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受注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04" name=""/>
            <p:cNvSpPr txBox="1"/>
            <p:nvPr/>
          </p:nvSpPr>
          <p:spPr>
            <a:xfrm>
              <a:off x="7531200" y="105948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受注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8312040" y="1055520"/>
            <a:ext cx="400320" cy="141120"/>
            <a:chOff x="8312040" y="1055520"/>
            <a:chExt cx="400320" cy="141120"/>
          </a:xfrm>
        </p:grpSpPr>
        <p:sp>
          <p:nvSpPr>
            <p:cNvPr id="1806" name=""/>
            <p:cNvSpPr txBox="1"/>
            <p:nvPr/>
          </p:nvSpPr>
          <p:spPr>
            <a:xfrm>
              <a:off x="8312040" y="105552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修正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07" name=""/>
            <p:cNvSpPr txBox="1"/>
            <p:nvPr/>
          </p:nvSpPr>
          <p:spPr>
            <a:xfrm>
              <a:off x="8312040" y="105948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修正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8308800" y="1843200"/>
            <a:ext cx="400320" cy="140760"/>
            <a:chOff x="8308800" y="1843200"/>
            <a:chExt cx="400320" cy="140760"/>
          </a:xfrm>
        </p:grpSpPr>
        <p:sp>
          <p:nvSpPr>
            <p:cNvPr id="1809" name=""/>
            <p:cNvSpPr txBox="1"/>
            <p:nvPr/>
          </p:nvSpPr>
          <p:spPr>
            <a:xfrm>
              <a:off x="8308800" y="184320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発送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10" name=""/>
            <p:cNvSpPr txBox="1"/>
            <p:nvPr/>
          </p:nvSpPr>
          <p:spPr>
            <a:xfrm>
              <a:off x="8308800" y="184716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発送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4421160" y="1838160"/>
            <a:ext cx="399960" cy="141120"/>
            <a:chOff x="4421160" y="1838160"/>
            <a:chExt cx="399960" cy="141120"/>
          </a:xfrm>
        </p:grpSpPr>
        <p:sp>
          <p:nvSpPr>
            <p:cNvPr id="1812" name=""/>
            <p:cNvSpPr txBox="1"/>
            <p:nvPr/>
          </p:nvSpPr>
          <p:spPr>
            <a:xfrm>
              <a:off x="4421160" y="1838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開発延期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13" name=""/>
            <p:cNvSpPr txBox="1"/>
            <p:nvPr/>
          </p:nvSpPr>
          <p:spPr>
            <a:xfrm>
              <a:off x="4421160" y="18421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開発延期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3643200" y="1838160"/>
            <a:ext cx="400320" cy="141120"/>
            <a:chOff x="3643200" y="1838160"/>
            <a:chExt cx="400320" cy="141120"/>
          </a:xfrm>
        </p:grpSpPr>
        <p:sp>
          <p:nvSpPr>
            <p:cNvPr id="1815" name=""/>
            <p:cNvSpPr txBox="1"/>
            <p:nvPr/>
          </p:nvSpPr>
          <p:spPr>
            <a:xfrm>
              <a:off x="3643200" y="183816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延期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16" name=""/>
            <p:cNvSpPr txBox="1"/>
            <p:nvPr/>
          </p:nvSpPr>
          <p:spPr>
            <a:xfrm>
              <a:off x="3643200" y="184212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延期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2090880" y="1844640"/>
            <a:ext cx="399960" cy="141120"/>
            <a:chOff x="2090880" y="1844640"/>
            <a:chExt cx="399960" cy="141120"/>
          </a:xfrm>
        </p:grpSpPr>
        <p:sp>
          <p:nvSpPr>
            <p:cNvPr id="1818" name=""/>
            <p:cNvSpPr txBox="1"/>
            <p:nvPr/>
          </p:nvSpPr>
          <p:spPr>
            <a:xfrm>
              <a:off x="2090880" y="184464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チェック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19" name=""/>
            <p:cNvSpPr txBox="1"/>
            <p:nvPr/>
          </p:nvSpPr>
          <p:spPr>
            <a:xfrm>
              <a:off x="2090880" y="18489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チェック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200560" y="1838160"/>
            <a:ext cx="400320" cy="141120"/>
            <a:chOff x="5200560" y="1838160"/>
            <a:chExt cx="400320" cy="141120"/>
          </a:xfrm>
        </p:grpSpPr>
        <p:sp>
          <p:nvSpPr>
            <p:cNvPr id="1821" name=""/>
            <p:cNvSpPr txBox="1"/>
            <p:nvPr/>
          </p:nvSpPr>
          <p:spPr>
            <a:xfrm>
              <a:off x="5200560" y="183816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開発期間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22" name=""/>
            <p:cNvSpPr txBox="1"/>
            <p:nvPr/>
          </p:nvSpPr>
          <p:spPr>
            <a:xfrm>
              <a:off x="5200560" y="184212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開発期間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5985000" y="1838160"/>
            <a:ext cx="399960" cy="141120"/>
            <a:chOff x="5985000" y="1838160"/>
            <a:chExt cx="399960" cy="141120"/>
          </a:xfrm>
        </p:grpSpPr>
        <p:sp>
          <p:nvSpPr>
            <p:cNvPr id="1824" name=""/>
            <p:cNvSpPr txBox="1"/>
            <p:nvPr/>
          </p:nvSpPr>
          <p:spPr>
            <a:xfrm>
              <a:off x="5985000" y="1838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運用期間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25" name=""/>
            <p:cNvSpPr txBox="1"/>
            <p:nvPr/>
          </p:nvSpPr>
          <p:spPr>
            <a:xfrm>
              <a:off x="5985000" y="18421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運用期間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536400" y="1844640"/>
            <a:ext cx="400320" cy="141120"/>
            <a:chOff x="536400" y="1844640"/>
            <a:chExt cx="400320" cy="141120"/>
          </a:xfrm>
        </p:grpSpPr>
        <p:sp>
          <p:nvSpPr>
            <p:cNvPr id="1827" name=""/>
            <p:cNvSpPr txBox="1"/>
            <p:nvPr/>
          </p:nvSpPr>
          <p:spPr>
            <a:xfrm>
              <a:off x="536400" y="184464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開発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28" name=""/>
            <p:cNvSpPr txBox="1"/>
            <p:nvPr/>
          </p:nvSpPr>
          <p:spPr>
            <a:xfrm>
              <a:off x="536400" y="184896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開発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2868480" y="1839960"/>
            <a:ext cx="400320" cy="140760"/>
            <a:chOff x="2868480" y="1839960"/>
            <a:chExt cx="400320" cy="140760"/>
          </a:xfrm>
        </p:grpSpPr>
        <p:sp>
          <p:nvSpPr>
            <p:cNvPr id="1830" name=""/>
            <p:cNvSpPr txBox="1"/>
            <p:nvPr/>
          </p:nvSpPr>
          <p:spPr>
            <a:xfrm>
              <a:off x="2868480" y="183996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校正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31" name=""/>
            <p:cNvSpPr txBox="1"/>
            <p:nvPr/>
          </p:nvSpPr>
          <p:spPr>
            <a:xfrm>
              <a:off x="2868480" y="184392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校正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1312920" y="1844640"/>
            <a:ext cx="399960" cy="141120"/>
            <a:chOff x="1312920" y="1844640"/>
            <a:chExt cx="399960" cy="141120"/>
          </a:xfrm>
        </p:grpSpPr>
        <p:sp>
          <p:nvSpPr>
            <p:cNvPr id="1833" name=""/>
            <p:cNvSpPr txBox="1"/>
            <p:nvPr/>
          </p:nvSpPr>
          <p:spPr>
            <a:xfrm>
              <a:off x="1312920" y="184464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納期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34" name=""/>
            <p:cNvSpPr txBox="1"/>
            <p:nvPr/>
          </p:nvSpPr>
          <p:spPr>
            <a:xfrm>
              <a:off x="1312920" y="18489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納期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7531200" y="1843200"/>
            <a:ext cx="399960" cy="140760"/>
            <a:chOff x="7531200" y="1843200"/>
            <a:chExt cx="399960" cy="140760"/>
          </a:xfrm>
        </p:grpSpPr>
        <p:sp>
          <p:nvSpPr>
            <p:cNvPr id="1836" name=""/>
            <p:cNvSpPr txBox="1"/>
            <p:nvPr/>
          </p:nvSpPr>
          <p:spPr>
            <a:xfrm>
              <a:off x="7531200" y="18432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発売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37" name=""/>
            <p:cNvSpPr txBox="1"/>
            <p:nvPr/>
          </p:nvSpPr>
          <p:spPr>
            <a:xfrm>
              <a:off x="7531200" y="1847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発売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9086760" y="1843200"/>
            <a:ext cx="400320" cy="140760"/>
            <a:chOff x="9086760" y="1843200"/>
            <a:chExt cx="400320" cy="140760"/>
          </a:xfrm>
        </p:grpSpPr>
        <p:sp>
          <p:nvSpPr>
            <p:cNvPr id="1839" name=""/>
            <p:cNvSpPr txBox="1"/>
            <p:nvPr/>
          </p:nvSpPr>
          <p:spPr>
            <a:xfrm>
              <a:off x="9086760" y="184320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ニュースリリース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40" name=""/>
            <p:cNvSpPr txBox="1"/>
            <p:nvPr/>
          </p:nvSpPr>
          <p:spPr>
            <a:xfrm>
              <a:off x="9086760" y="184716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ニュースリリース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6756480" y="1843200"/>
            <a:ext cx="399960" cy="140760"/>
            <a:chOff x="6756480" y="1843200"/>
            <a:chExt cx="399960" cy="140760"/>
          </a:xfrm>
        </p:grpSpPr>
        <p:sp>
          <p:nvSpPr>
            <p:cNvPr id="1842" name=""/>
            <p:cNvSpPr txBox="1"/>
            <p:nvPr/>
          </p:nvSpPr>
          <p:spPr>
            <a:xfrm>
              <a:off x="6756480" y="18432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サンプル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43" name=""/>
            <p:cNvSpPr txBox="1"/>
            <p:nvPr/>
          </p:nvSpPr>
          <p:spPr>
            <a:xfrm>
              <a:off x="6756480" y="18471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サンプル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536400" y="2571840"/>
            <a:ext cx="400320" cy="140760"/>
            <a:chOff x="536400" y="2571840"/>
            <a:chExt cx="400320" cy="140760"/>
          </a:xfrm>
        </p:grpSpPr>
        <p:sp>
          <p:nvSpPr>
            <p:cNvPr id="1845" name=""/>
            <p:cNvSpPr txBox="1"/>
            <p:nvPr/>
          </p:nvSpPr>
          <p:spPr>
            <a:xfrm>
              <a:off x="536400" y="257184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工事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46" name=""/>
            <p:cNvSpPr txBox="1"/>
            <p:nvPr/>
          </p:nvSpPr>
          <p:spPr>
            <a:xfrm>
              <a:off x="536400" y="257580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工事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312920" y="2571840"/>
            <a:ext cx="399960" cy="140760"/>
            <a:chOff x="1312920" y="2571840"/>
            <a:chExt cx="399960" cy="140760"/>
          </a:xfrm>
        </p:grpSpPr>
        <p:sp>
          <p:nvSpPr>
            <p:cNvPr id="1848" name=""/>
            <p:cNvSpPr txBox="1"/>
            <p:nvPr/>
          </p:nvSpPr>
          <p:spPr>
            <a:xfrm>
              <a:off x="1312920" y="257184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作業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49" name=""/>
            <p:cNvSpPr txBox="1"/>
            <p:nvPr/>
          </p:nvSpPr>
          <p:spPr>
            <a:xfrm>
              <a:off x="1312920" y="25758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作業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2090880" y="2571840"/>
            <a:ext cx="399960" cy="140760"/>
            <a:chOff x="2090880" y="2571840"/>
            <a:chExt cx="399960" cy="140760"/>
          </a:xfrm>
        </p:grpSpPr>
        <p:sp>
          <p:nvSpPr>
            <p:cNvPr id="1851" name=""/>
            <p:cNvSpPr txBox="1"/>
            <p:nvPr/>
          </p:nvSpPr>
          <p:spPr>
            <a:xfrm>
              <a:off x="2090880" y="257184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折返し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52" name=""/>
            <p:cNvSpPr txBox="1"/>
            <p:nvPr/>
          </p:nvSpPr>
          <p:spPr>
            <a:xfrm>
              <a:off x="2090880" y="257580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折返し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3646440" y="2565360"/>
            <a:ext cx="399960" cy="141120"/>
            <a:chOff x="3646440" y="2565360"/>
            <a:chExt cx="399960" cy="141120"/>
          </a:xfrm>
        </p:grpSpPr>
        <p:sp>
          <p:nvSpPr>
            <p:cNvPr id="1854" name=""/>
            <p:cNvSpPr txBox="1"/>
            <p:nvPr/>
          </p:nvSpPr>
          <p:spPr>
            <a:xfrm>
              <a:off x="3646440" y="256536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延長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55" name=""/>
            <p:cNvSpPr txBox="1"/>
            <p:nvPr/>
          </p:nvSpPr>
          <p:spPr>
            <a:xfrm>
              <a:off x="3646440" y="25693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延長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756480" y="2570040"/>
            <a:ext cx="399960" cy="141120"/>
            <a:chOff x="6756480" y="2570040"/>
            <a:chExt cx="399960" cy="141120"/>
          </a:xfrm>
        </p:grpSpPr>
        <p:sp>
          <p:nvSpPr>
            <p:cNvPr id="1857" name=""/>
            <p:cNvSpPr txBox="1"/>
            <p:nvPr/>
          </p:nvSpPr>
          <p:spPr>
            <a:xfrm>
              <a:off x="6756480" y="257004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バックアップ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58" name=""/>
            <p:cNvSpPr txBox="1"/>
            <p:nvPr/>
          </p:nvSpPr>
          <p:spPr>
            <a:xfrm>
              <a:off x="6756480" y="25743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バックアップ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59" name=""/>
          <p:cNvGrpSpPr/>
          <p:nvPr/>
        </p:nvGrpSpPr>
        <p:grpSpPr>
          <a:xfrm>
            <a:off x="7534440" y="2570040"/>
            <a:ext cx="399960" cy="141120"/>
            <a:chOff x="7534440" y="2570040"/>
            <a:chExt cx="399960" cy="141120"/>
          </a:xfrm>
        </p:grpSpPr>
        <p:sp>
          <p:nvSpPr>
            <p:cNvPr id="1860" name=""/>
            <p:cNvSpPr txBox="1"/>
            <p:nvPr/>
          </p:nvSpPr>
          <p:spPr>
            <a:xfrm>
              <a:off x="7534440" y="257004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データ管理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61" name=""/>
            <p:cNvSpPr txBox="1"/>
            <p:nvPr/>
          </p:nvSpPr>
          <p:spPr>
            <a:xfrm>
              <a:off x="7534440" y="25743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データ管理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8312040" y="2570040"/>
            <a:ext cx="400320" cy="141120"/>
            <a:chOff x="8312040" y="2570040"/>
            <a:chExt cx="400320" cy="141120"/>
          </a:xfrm>
        </p:grpSpPr>
        <p:sp>
          <p:nvSpPr>
            <p:cNvPr id="1863" name=""/>
            <p:cNvSpPr txBox="1"/>
            <p:nvPr/>
          </p:nvSpPr>
          <p:spPr>
            <a:xfrm>
              <a:off x="8312040" y="257004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検品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64" name=""/>
            <p:cNvSpPr txBox="1"/>
            <p:nvPr/>
          </p:nvSpPr>
          <p:spPr>
            <a:xfrm>
              <a:off x="8312040" y="257436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検品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5200560" y="2565360"/>
            <a:ext cx="400320" cy="141120"/>
            <a:chOff x="5200560" y="2565360"/>
            <a:chExt cx="400320" cy="141120"/>
          </a:xfrm>
        </p:grpSpPr>
        <p:sp>
          <p:nvSpPr>
            <p:cNvPr id="1866" name=""/>
            <p:cNvSpPr txBox="1"/>
            <p:nvPr/>
          </p:nvSpPr>
          <p:spPr>
            <a:xfrm>
              <a:off x="5200560" y="256536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仮見積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67" name=""/>
            <p:cNvSpPr txBox="1"/>
            <p:nvPr/>
          </p:nvSpPr>
          <p:spPr>
            <a:xfrm>
              <a:off x="5200560" y="2569320"/>
              <a:ext cx="40032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仮見積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5978520" y="2565360"/>
            <a:ext cx="399960" cy="141120"/>
            <a:chOff x="5978520" y="2565360"/>
            <a:chExt cx="399960" cy="141120"/>
          </a:xfrm>
        </p:grpSpPr>
        <p:sp>
          <p:nvSpPr>
            <p:cNvPr id="1869" name=""/>
            <p:cNvSpPr txBox="1"/>
            <p:nvPr/>
          </p:nvSpPr>
          <p:spPr>
            <a:xfrm>
              <a:off x="5978520" y="256536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見積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70" name=""/>
            <p:cNvSpPr txBox="1"/>
            <p:nvPr/>
          </p:nvSpPr>
          <p:spPr>
            <a:xfrm>
              <a:off x="5978520" y="256932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見積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71" name=""/>
          <p:cNvGrpSpPr/>
          <p:nvPr/>
        </p:nvGrpSpPr>
        <p:grpSpPr>
          <a:xfrm>
            <a:off x="4424400" y="2557440"/>
            <a:ext cx="399960" cy="141120"/>
            <a:chOff x="4424400" y="2557440"/>
            <a:chExt cx="399960" cy="141120"/>
          </a:xfrm>
        </p:grpSpPr>
        <p:sp>
          <p:nvSpPr>
            <p:cNvPr id="1872" name=""/>
            <p:cNvSpPr txBox="1"/>
            <p:nvPr/>
          </p:nvSpPr>
          <p:spPr>
            <a:xfrm>
              <a:off x="4424400" y="255744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データ出力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73" name=""/>
            <p:cNvSpPr txBox="1"/>
            <p:nvPr/>
          </p:nvSpPr>
          <p:spPr>
            <a:xfrm>
              <a:off x="4424400" y="256140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データ出力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74" name=""/>
          <p:cNvGrpSpPr/>
          <p:nvPr/>
        </p:nvGrpSpPr>
        <p:grpSpPr>
          <a:xfrm>
            <a:off x="9090000" y="2570040"/>
            <a:ext cx="399960" cy="141120"/>
            <a:chOff x="9090000" y="2570040"/>
            <a:chExt cx="399960" cy="141120"/>
          </a:xfrm>
        </p:grpSpPr>
        <p:sp>
          <p:nvSpPr>
            <p:cNvPr id="1875" name=""/>
            <p:cNvSpPr txBox="1"/>
            <p:nvPr/>
          </p:nvSpPr>
          <p:spPr>
            <a:xfrm>
              <a:off x="9090000" y="2570040"/>
              <a:ext cx="399960" cy="13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配信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76" name=""/>
            <p:cNvSpPr txBox="1"/>
            <p:nvPr/>
          </p:nvSpPr>
          <p:spPr>
            <a:xfrm>
              <a:off x="9090000" y="2574360"/>
              <a:ext cx="39996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配信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2868480" y="2567160"/>
            <a:ext cx="400320" cy="140760"/>
            <a:chOff x="2868480" y="2567160"/>
            <a:chExt cx="400320" cy="140760"/>
          </a:xfrm>
        </p:grpSpPr>
        <p:sp>
          <p:nvSpPr>
            <p:cNvPr id="1878" name=""/>
            <p:cNvSpPr txBox="1"/>
            <p:nvPr/>
          </p:nvSpPr>
          <p:spPr>
            <a:xfrm>
              <a:off x="2868480" y="2567160"/>
              <a:ext cx="400320" cy="1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広告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879" name=""/>
            <p:cNvSpPr txBox="1"/>
            <p:nvPr/>
          </p:nvSpPr>
          <p:spPr>
            <a:xfrm>
              <a:off x="2868480" y="2571480"/>
              <a:ext cx="40032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00"/>
                  </a:solidFill>
                  <a:latin typeface="メイリオ"/>
                </a:rPr>
                <a:t>広告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615960" y="4365720"/>
            <a:ext cx="216000" cy="287280"/>
            <a:chOff x="615960" y="4365720"/>
            <a:chExt cx="216000" cy="287280"/>
          </a:xfrm>
        </p:grpSpPr>
        <p:sp>
          <p:nvSpPr>
            <p:cNvPr id="1881" name=""/>
            <p:cNvSpPr txBox="1"/>
            <p:nvPr/>
          </p:nvSpPr>
          <p:spPr>
            <a:xfrm>
              <a:off x="61596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82" name=""/>
            <p:cNvSpPr txBox="1"/>
            <p:nvPr/>
          </p:nvSpPr>
          <p:spPr>
            <a:xfrm>
              <a:off x="61596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952560" y="4365720"/>
            <a:ext cx="216000" cy="287280"/>
            <a:chOff x="952560" y="4365720"/>
            <a:chExt cx="216000" cy="287280"/>
          </a:xfrm>
        </p:grpSpPr>
        <p:sp>
          <p:nvSpPr>
            <p:cNvPr id="1884" name=""/>
            <p:cNvSpPr txBox="1"/>
            <p:nvPr/>
          </p:nvSpPr>
          <p:spPr>
            <a:xfrm>
              <a:off x="95256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85" name=""/>
            <p:cNvSpPr txBox="1"/>
            <p:nvPr/>
          </p:nvSpPr>
          <p:spPr>
            <a:xfrm>
              <a:off x="95256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1290600" y="4365720"/>
            <a:ext cx="216000" cy="287280"/>
            <a:chOff x="1290600" y="4365720"/>
            <a:chExt cx="216000" cy="287280"/>
          </a:xfrm>
        </p:grpSpPr>
        <p:sp>
          <p:nvSpPr>
            <p:cNvPr id="1887" name=""/>
            <p:cNvSpPr txBox="1"/>
            <p:nvPr/>
          </p:nvSpPr>
          <p:spPr>
            <a:xfrm>
              <a:off x="129060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88" name=""/>
            <p:cNvSpPr txBox="1"/>
            <p:nvPr/>
          </p:nvSpPr>
          <p:spPr>
            <a:xfrm>
              <a:off x="129060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3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1628640" y="4365720"/>
            <a:ext cx="216000" cy="287280"/>
            <a:chOff x="1628640" y="4365720"/>
            <a:chExt cx="216000" cy="287280"/>
          </a:xfrm>
        </p:grpSpPr>
        <p:sp>
          <p:nvSpPr>
            <p:cNvPr id="1890" name=""/>
            <p:cNvSpPr txBox="1"/>
            <p:nvPr/>
          </p:nvSpPr>
          <p:spPr>
            <a:xfrm>
              <a:off x="162864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4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91" name=""/>
            <p:cNvSpPr txBox="1"/>
            <p:nvPr/>
          </p:nvSpPr>
          <p:spPr>
            <a:xfrm>
              <a:off x="162864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4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967040" y="4365720"/>
            <a:ext cx="215640" cy="287280"/>
            <a:chOff x="1967040" y="4365720"/>
            <a:chExt cx="215640" cy="287280"/>
          </a:xfrm>
        </p:grpSpPr>
        <p:sp>
          <p:nvSpPr>
            <p:cNvPr id="1893" name=""/>
            <p:cNvSpPr txBox="1"/>
            <p:nvPr/>
          </p:nvSpPr>
          <p:spPr>
            <a:xfrm>
              <a:off x="1967040" y="436572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5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94" name=""/>
            <p:cNvSpPr txBox="1"/>
            <p:nvPr/>
          </p:nvSpPr>
          <p:spPr>
            <a:xfrm>
              <a:off x="1967040" y="436572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2305080" y="4365720"/>
            <a:ext cx="216000" cy="287280"/>
            <a:chOff x="2305080" y="4365720"/>
            <a:chExt cx="216000" cy="287280"/>
          </a:xfrm>
        </p:grpSpPr>
        <p:sp>
          <p:nvSpPr>
            <p:cNvPr id="1896" name=""/>
            <p:cNvSpPr txBox="1"/>
            <p:nvPr/>
          </p:nvSpPr>
          <p:spPr>
            <a:xfrm>
              <a:off x="230508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6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97" name=""/>
            <p:cNvSpPr txBox="1"/>
            <p:nvPr/>
          </p:nvSpPr>
          <p:spPr>
            <a:xfrm>
              <a:off x="230508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6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2643120" y="4365720"/>
            <a:ext cx="216000" cy="287280"/>
            <a:chOff x="2643120" y="4365720"/>
            <a:chExt cx="216000" cy="287280"/>
          </a:xfrm>
        </p:grpSpPr>
        <p:sp>
          <p:nvSpPr>
            <p:cNvPr id="1899" name=""/>
            <p:cNvSpPr txBox="1"/>
            <p:nvPr/>
          </p:nvSpPr>
          <p:spPr>
            <a:xfrm>
              <a:off x="264312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7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0" name=""/>
            <p:cNvSpPr txBox="1"/>
            <p:nvPr/>
          </p:nvSpPr>
          <p:spPr>
            <a:xfrm>
              <a:off x="264312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7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2981160" y="4365720"/>
            <a:ext cx="216000" cy="287280"/>
            <a:chOff x="2981160" y="4365720"/>
            <a:chExt cx="216000" cy="287280"/>
          </a:xfrm>
        </p:grpSpPr>
        <p:sp>
          <p:nvSpPr>
            <p:cNvPr id="1902" name=""/>
            <p:cNvSpPr txBox="1"/>
            <p:nvPr/>
          </p:nvSpPr>
          <p:spPr>
            <a:xfrm>
              <a:off x="298116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8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3" name=""/>
            <p:cNvSpPr txBox="1"/>
            <p:nvPr/>
          </p:nvSpPr>
          <p:spPr>
            <a:xfrm>
              <a:off x="298116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8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3319560" y="4365720"/>
            <a:ext cx="215640" cy="287280"/>
            <a:chOff x="3319560" y="4365720"/>
            <a:chExt cx="215640" cy="287280"/>
          </a:xfrm>
        </p:grpSpPr>
        <p:sp>
          <p:nvSpPr>
            <p:cNvPr id="1905" name=""/>
            <p:cNvSpPr txBox="1"/>
            <p:nvPr/>
          </p:nvSpPr>
          <p:spPr>
            <a:xfrm>
              <a:off x="3319560" y="436572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9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6" name=""/>
            <p:cNvSpPr txBox="1"/>
            <p:nvPr/>
          </p:nvSpPr>
          <p:spPr>
            <a:xfrm>
              <a:off x="3319560" y="436572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9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07" name=""/>
          <p:cNvGrpSpPr/>
          <p:nvPr/>
        </p:nvGrpSpPr>
        <p:grpSpPr>
          <a:xfrm>
            <a:off x="3657600" y="4365720"/>
            <a:ext cx="216000" cy="287280"/>
            <a:chOff x="3657600" y="4365720"/>
            <a:chExt cx="216000" cy="287280"/>
          </a:xfrm>
        </p:grpSpPr>
        <p:sp>
          <p:nvSpPr>
            <p:cNvPr id="1908" name=""/>
            <p:cNvSpPr txBox="1"/>
            <p:nvPr/>
          </p:nvSpPr>
          <p:spPr>
            <a:xfrm>
              <a:off x="365760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0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09" name=""/>
            <p:cNvSpPr txBox="1"/>
            <p:nvPr/>
          </p:nvSpPr>
          <p:spPr>
            <a:xfrm>
              <a:off x="3657600" y="4365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0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633240" y="4869000"/>
            <a:ext cx="216000" cy="287280"/>
            <a:chOff x="633240" y="4869000"/>
            <a:chExt cx="216000" cy="287280"/>
          </a:xfrm>
        </p:grpSpPr>
        <p:sp>
          <p:nvSpPr>
            <p:cNvPr id="1911" name=""/>
            <p:cNvSpPr txBox="1"/>
            <p:nvPr/>
          </p:nvSpPr>
          <p:spPr>
            <a:xfrm>
              <a:off x="63324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1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12" name=""/>
            <p:cNvSpPr txBox="1"/>
            <p:nvPr/>
          </p:nvSpPr>
          <p:spPr>
            <a:xfrm>
              <a:off x="63324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1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969840" y="4869000"/>
            <a:ext cx="216000" cy="287280"/>
            <a:chOff x="969840" y="4869000"/>
            <a:chExt cx="216000" cy="287280"/>
          </a:xfrm>
        </p:grpSpPr>
        <p:sp>
          <p:nvSpPr>
            <p:cNvPr id="1914" name=""/>
            <p:cNvSpPr txBox="1"/>
            <p:nvPr/>
          </p:nvSpPr>
          <p:spPr>
            <a:xfrm>
              <a:off x="96984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2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15" name=""/>
            <p:cNvSpPr txBox="1"/>
            <p:nvPr/>
          </p:nvSpPr>
          <p:spPr>
            <a:xfrm>
              <a:off x="96984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2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1308240" y="4869000"/>
            <a:ext cx="215640" cy="287280"/>
            <a:chOff x="1308240" y="4869000"/>
            <a:chExt cx="215640" cy="287280"/>
          </a:xfrm>
        </p:grpSpPr>
        <p:sp>
          <p:nvSpPr>
            <p:cNvPr id="1917" name=""/>
            <p:cNvSpPr txBox="1"/>
            <p:nvPr/>
          </p:nvSpPr>
          <p:spPr>
            <a:xfrm>
              <a:off x="1308240" y="486900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3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18" name=""/>
            <p:cNvSpPr txBox="1"/>
            <p:nvPr/>
          </p:nvSpPr>
          <p:spPr>
            <a:xfrm>
              <a:off x="1308240" y="486900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3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1646280" y="4869000"/>
            <a:ext cx="216000" cy="287280"/>
            <a:chOff x="1646280" y="4869000"/>
            <a:chExt cx="216000" cy="287280"/>
          </a:xfrm>
        </p:grpSpPr>
        <p:sp>
          <p:nvSpPr>
            <p:cNvPr id="1920" name=""/>
            <p:cNvSpPr txBox="1"/>
            <p:nvPr/>
          </p:nvSpPr>
          <p:spPr>
            <a:xfrm>
              <a:off x="164628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4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21" name=""/>
            <p:cNvSpPr txBox="1"/>
            <p:nvPr/>
          </p:nvSpPr>
          <p:spPr>
            <a:xfrm>
              <a:off x="164628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4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1984320" y="4869000"/>
            <a:ext cx="216000" cy="287280"/>
            <a:chOff x="1984320" y="4869000"/>
            <a:chExt cx="216000" cy="287280"/>
          </a:xfrm>
        </p:grpSpPr>
        <p:sp>
          <p:nvSpPr>
            <p:cNvPr id="1923" name=""/>
            <p:cNvSpPr txBox="1"/>
            <p:nvPr/>
          </p:nvSpPr>
          <p:spPr>
            <a:xfrm>
              <a:off x="198432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5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24" name=""/>
            <p:cNvSpPr txBox="1"/>
            <p:nvPr/>
          </p:nvSpPr>
          <p:spPr>
            <a:xfrm>
              <a:off x="198432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5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2322360" y="4869000"/>
            <a:ext cx="216000" cy="287280"/>
            <a:chOff x="2322360" y="4869000"/>
            <a:chExt cx="216000" cy="287280"/>
          </a:xfrm>
        </p:grpSpPr>
        <p:sp>
          <p:nvSpPr>
            <p:cNvPr id="1926" name=""/>
            <p:cNvSpPr txBox="1"/>
            <p:nvPr/>
          </p:nvSpPr>
          <p:spPr>
            <a:xfrm>
              <a:off x="232236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6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27" name=""/>
            <p:cNvSpPr txBox="1"/>
            <p:nvPr/>
          </p:nvSpPr>
          <p:spPr>
            <a:xfrm>
              <a:off x="232236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6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2660760" y="4869000"/>
            <a:ext cx="215640" cy="287280"/>
            <a:chOff x="2660760" y="4869000"/>
            <a:chExt cx="215640" cy="287280"/>
          </a:xfrm>
        </p:grpSpPr>
        <p:sp>
          <p:nvSpPr>
            <p:cNvPr id="1929" name=""/>
            <p:cNvSpPr txBox="1"/>
            <p:nvPr/>
          </p:nvSpPr>
          <p:spPr>
            <a:xfrm>
              <a:off x="2660760" y="486900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7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0" name=""/>
            <p:cNvSpPr txBox="1"/>
            <p:nvPr/>
          </p:nvSpPr>
          <p:spPr>
            <a:xfrm>
              <a:off x="2660760" y="486900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7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2998800" y="4869000"/>
            <a:ext cx="216000" cy="287280"/>
            <a:chOff x="2998800" y="4869000"/>
            <a:chExt cx="216000" cy="287280"/>
          </a:xfrm>
        </p:grpSpPr>
        <p:sp>
          <p:nvSpPr>
            <p:cNvPr id="1932" name=""/>
            <p:cNvSpPr txBox="1"/>
            <p:nvPr/>
          </p:nvSpPr>
          <p:spPr>
            <a:xfrm>
              <a:off x="299880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8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3" name=""/>
            <p:cNvSpPr txBox="1"/>
            <p:nvPr/>
          </p:nvSpPr>
          <p:spPr>
            <a:xfrm>
              <a:off x="299880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8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3336840" y="4869000"/>
            <a:ext cx="216000" cy="287280"/>
            <a:chOff x="3336840" y="4869000"/>
            <a:chExt cx="216000" cy="287280"/>
          </a:xfrm>
        </p:grpSpPr>
        <p:sp>
          <p:nvSpPr>
            <p:cNvPr id="1935" name=""/>
            <p:cNvSpPr txBox="1"/>
            <p:nvPr/>
          </p:nvSpPr>
          <p:spPr>
            <a:xfrm>
              <a:off x="333684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19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6" name=""/>
            <p:cNvSpPr txBox="1"/>
            <p:nvPr/>
          </p:nvSpPr>
          <p:spPr>
            <a:xfrm>
              <a:off x="3336840" y="486900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19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3675240" y="4869000"/>
            <a:ext cx="215640" cy="287280"/>
            <a:chOff x="3675240" y="4869000"/>
            <a:chExt cx="215640" cy="287280"/>
          </a:xfrm>
        </p:grpSpPr>
        <p:sp>
          <p:nvSpPr>
            <p:cNvPr id="1938" name=""/>
            <p:cNvSpPr txBox="1"/>
            <p:nvPr/>
          </p:nvSpPr>
          <p:spPr>
            <a:xfrm>
              <a:off x="3675240" y="486900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0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39" name=""/>
            <p:cNvSpPr txBox="1"/>
            <p:nvPr/>
          </p:nvSpPr>
          <p:spPr>
            <a:xfrm>
              <a:off x="3675240" y="486900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0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633240" y="5373720"/>
            <a:ext cx="216000" cy="287280"/>
            <a:chOff x="633240" y="5373720"/>
            <a:chExt cx="216000" cy="287280"/>
          </a:xfrm>
        </p:grpSpPr>
        <p:sp>
          <p:nvSpPr>
            <p:cNvPr id="1941" name=""/>
            <p:cNvSpPr txBox="1"/>
            <p:nvPr/>
          </p:nvSpPr>
          <p:spPr>
            <a:xfrm>
              <a:off x="63324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1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42" name=""/>
            <p:cNvSpPr txBox="1"/>
            <p:nvPr/>
          </p:nvSpPr>
          <p:spPr>
            <a:xfrm>
              <a:off x="63324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1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969840" y="5373720"/>
            <a:ext cx="216000" cy="287280"/>
            <a:chOff x="969840" y="5373720"/>
            <a:chExt cx="216000" cy="287280"/>
          </a:xfrm>
        </p:grpSpPr>
        <p:sp>
          <p:nvSpPr>
            <p:cNvPr id="1944" name=""/>
            <p:cNvSpPr txBox="1"/>
            <p:nvPr/>
          </p:nvSpPr>
          <p:spPr>
            <a:xfrm>
              <a:off x="96984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2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45" name=""/>
            <p:cNvSpPr txBox="1"/>
            <p:nvPr/>
          </p:nvSpPr>
          <p:spPr>
            <a:xfrm>
              <a:off x="96984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2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1308240" y="5373720"/>
            <a:ext cx="215640" cy="287280"/>
            <a:chOff x="1308240" y="5373720"/>
            <a:chExt cx="215640" cy="287280"/>
          </a:xfrm>
        </p:grpSpPr>
        <p:sp>
          <p:nvSpPr>
            <p:cNvPr id="1947" name=""/>
            <p:cNvSpPr txBox="1"/>
            <p:nvPr/>
          </p:nvSpPr>
          <p:spPr>
            <a:xfrm>
              <a:off x="1308240" y="537372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3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48" name=""/>
            <p:cNvSpPr txBox="1"/>
            <p:nvPr/>
          </p:nvSpPr>
          <p:spPr>
            <a:xfrm>
              <a:off x="1308240" y="537372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3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1646280" y="5373720"/>
            <a:ext cx="216000" cy="287280"/>
            <a:chOff x="1646280" y="5373720"/>
            <a:chExt cx="216000" cy="287280"/>
          </a:xfrm>
        </p:grpSpPr>
        <p:sp>
          <p:nvSpPr>
            <p:cNvPr id="1950" name=""/>
            <p:cNvSpPr txBox="1"/>
            <p:nvPr/>
          </p:nvSpPr>
          <p:spPr>
            <a:xfrm>
              <a:off x="164628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4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51" name=""/>
            <p:cNvSpPr txBox="1"/>
            <p:nvPr/>
          </p:nvSpPr>
          <p:spPr>
            <a:xfrm>
              <a:off x="164628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4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1984320" y="5373720"/>
            <a:ext cx="216000" cy="287280"/>
            <a:chOff x="1984320" y="5373720"/>
            <a:chExt cx="216000" cy="287280"/>
          </a:xfrm>
        </p:grpSpPr>
        <p:sp>
          <p:nvSpPr>
            <p:cNvPr id="1953" name=""/>
            <p:cNvSpPr txBox="1"/>
            <p:nvPr/>
          </p:nvSpPr>
          <p:spPr>
            <a:xfrm>
              <a:off x="198432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5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54" name=""/>
            <p:cNvSpPr txBox="1"/>
            <p:nvPr/>
          </p:nvSpPr>
          <p:spPr>
            <a:xfrm>
              <a:off x="198432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5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55" name=""/>
          <p:cNvGrpSpPr/>
          <p:nvPr/>
        </p:nvGrpSpPr>
        <p:grpSpPr>
          <a:xfrm>
            <a:off x="2322360" y="5373720"/>
            <a:ext cx="216000" cy="287280"/>
            <a:chOff x="2322360" y="5373720"/>
            <a:chExt cx="216000" cy="287280"/>
          </a:xfrm>
        </p:grpSpPr>
        <p:sp>
          <p:nvSpPr>
            <p:cNvPr id="1956" name=""/>
            <p:cNvSpPr txBox="1"/>
            <p:nvPr/>
          </p:nvSpPr>
          <p:spPr>
            <a:xfrm>
              <a:off x="232236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6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57" name=""/>
            <p:cNvSpPr txBox="1"/>
            <p:nvPr/>
          </p:nvSpPr>
          <p:spPr>
            <a:xfrm>
              <a:off x="232236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6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2660760" y="5373720"/>
            <a:ext cx="215640" cy="287280"/>
            <a:chOff x="2660760" y="5373720"/>
            <a:chExt cx="215640" cy="287280"/>
          </a:xfrm>
        </p:grpSpPr>
        <p:sp>
          <p:nvSpPr>
            <p:cNvPr id="1959" name=""/>
            <p:cNvSpPr txBox="1"/>
            <p:nvPr/>
          </p:nvSpPr>
          <p:spPr>
            <a:xfrm>
              <a:off x="2660760" y="537372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7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60" name=""/>
            <p:cNvSpPr txBox="1"/>
            <p:nvPr/>
          </p:nvSpPr>
          <p:spPr>
            <a:xfrm>
              <a:off x="2660760" y="537372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7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2998800" y="5373720"/>
            <a:ext cx="216000" cy="287280"/>
            <a:chOff x="2998800" y="5373720"/>
            <a:chExt cx="216000" cy="287280"/>
          </a:xfrm>
        </p:grpSpPr>
        <p:sp>
          <p:nvSpPr>
            <p:cNvPr id="1962" name=""/>
            <p:cNvSpPr txBox="1"/>
            <p:nvPr/>
          </p:nvSpPr>
          <p:spPr>
            <a:xfrm>
              <a:off x="299880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8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63" name=""/>
            <p:cNvSpPr txBox="1"/>
            <p:nvPr/>
          </p:nvSpPr>
          <p:spPr>
            <a:xfrm>
              <a:off x="299880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8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3336840" y="5373720"/>
            <a:ext cx="216000" cy="287280"/>
            <a:chOff x="3336840" y="5373720"/>
            <a:chExt cx="216000" cy="287280"/>
          </a:xfrm>
        </p:grpSpPr>
        <p:sp>
          <p:nvSpPr>
            <p:cNvPr id="1965" name=""/>
            <p:cNvSpPr txBox="1"/>
            <p:nvPr/>
          </p:nvSpPr>
          <p:spPr>
            <a:xfrm>
              <a:off x="333684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29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66" name=""/>
            <p:cNvSpPr txBox="1"/>
            <p:nvPr/>
          </p:nvSpPr>
          <p:spPr>
            <a:xfrm>
              <a:off x="3336840" y="5373720"/>
              <a:ext cx="2160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29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3675240" y="5373720"/>
            <a:ext cx="215640" cy="287280"/>
            <a:chOff x="3675240" y="5373720"/>
            <a:chExt cx="215640" cy="287280"/>
          </a:xfrm>
        </p:grpSpPr>
        <p:sp>
          <p:nvSpPr>
            <p:cNvPr id="1968" name=""/>
            <p:cNvSpPr txBox="1"/>
            <p:nvPr/>
          </p:nvSpPr>
          <p:spPr>
            <a:xfrm>
              <a:off x="3675240" y="537372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0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69" name=""/>
            <p:cNvSpPr txBox="1"/>
            <p:nvPr/>
          </p:nvSpPr>
          <p:spPr>
            <a:xfrm>
              <a:off x="3675240" y="537372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633240" y="5805360"/>
            <a:ext cx="216000" cy="287640"/>
            <a:chOff x="633240" y="5805360"/>
            <a:chExt cx="216000" cy="287640"/>
          </a:xfrm>
        </p:grpSpPr>
        <p:sp>
          <p:nvSpPr>
            <p:cNvPr id="1971" name=""/>
            <p:cNvSpPr txBox="1"/>
            <p:nvPr/>
          </p:nvSpPr>
          <p:spPr>
            <a:xfrm>
              <a:off x="633240" y="5805360"/>
              <a:ext cx="21600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1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72" name=""/>
            <p:cNvSpPr txBox="1"/>
            <p:nvPr/>
          </p:nvSpPr>
          <p:spPr>
            <a:xfrm>
              <a:off x="633240" y="5805360"/>
              <a:ext cx="21600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31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631800" y="3068640"/>
            <a:ext cx="142920" cy="144360"/>
            <a:chOff x="631800" y="3068640"/>
            <a:chExt cx="142920" cy="144360"/>
          </a:xfrm>
        </p:grpSpPr>
        <p:sp>
          <p:nvSpPr>
            <p:cNvPr id="1974" name=""/>
            <p:cNvSpPr txBox="1"/>
            <p:nvPr/>
          </p:nvSpPr>
          <p:spPr>
            <a:xfrm>
              <a:off x="63180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月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975" name=""/>
            <p:cNvSpPr txBox="1"/>
            <p:nvPr/>
          </p:nvSpPr>
          <p:spPr>
            <a:xfrm>
              <a:off x="63180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ff00"/>
                  </a:solidFill>
                  <a:latin typeface="メイリオ"/>
                </a:rPr>
                <a:t>月</a:t>
              </a:r>
              <a:endParaRPr b="1" lang="en-US" sz="1800" spc="1" strike="noStrike">
                <a:ln w="0">
                  <a:noFill/>
                </a:ln>
                <a:solidFill>
                  <a:srgbClr val="00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976" name=""/>
          <p:cNvGrpSpPr/>
          <p:nvPr/>
        </p:nvGrpSpPr>
        <p:grpSpPr>
          <a:xfrm>
            <a:off x="1039680" y="3068640"/>
            <a:ext cx="142920" cy="144360"/>
            <a:chOff x="1039680" y="3068640"/>
            <a:chExt cx="142920" cy="144360"/>
          </a:xfrm>
        </p:grpSpPr>
        <p:sp>
          <p:nvSpPr>
            <p:cNvPr id="1977" name=""/>
            <p:cNvSpPr txBox="1"/>
            <p:nvPr/>
          </p:nvSpPr>
          <p:spPr>
            <a:xfrm>
              <a:off x="103968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火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978" name=""/>
            <p:cNvSpPr txBox="1"/>
            <p:nvPr/>
          </p:nvSpPr>
          <p:spPr>
            <a:xfrm>
              <a:off x="103968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ff00"/>
                  </a:solidFill>
                  <a:latin typeface="メイリオ"/>
                </a:rPr>
                <a:t>火</a:t>
              </a:r>
              <a:endParaRPr b="1" lang="en-US" sz="1800" spc="1" strike="noStrike">
                <a:ln w="0">
                  <a:noFill/>
                </a:ln>
                <a:solidFill>
                  <a:srgbClr val="00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1447920" y="3068640"/>
            <a:ext cx="142920" cy="144360"/>
            <a:chOff x="1447920" y="3068640"/>
            <a:chExt cx="142920" cy="144360"/>
          </a:xfrm>
        </p:grpSpPr>
        <p:sp>
          <p:nvSpPr>
            <p:cNvPr id="1980" name=""/>
            <p:cNvSpPr txBox="1"/>
            <p:nvPr/>
          </p:nvSpPr>
          <p:spPr>
            <a:xfrm>
              <a:off x="144792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水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981" name=""/>
            <p:cNvSpPr txBox="1"/>
            <p:nvPr/>
          </p:nvSpPr>
          <p:spPr>
            <a:xfrm>
              <a:off x="144792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ff00"/>
                  </a:solidFill>
                  <a:latin typeface="メイリオ"/>
                </a:rPr>
                <a:t>水</a:t>
              </a:r>
              <a:endParaRPr b="1" lang="en-US" sz="1800" spc="1" strike="noStrike">
                <a:ln w="0">
                  <a:noFill/>
                </a:ln>
                <a:solidFill>
                  <a:srgbClr val="00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1855800" y="3068640"/>
            <a:ext cx="142920" cy="144360"/>
            <a:chOff x="1855800" y="3068640"/>
            <a:chExt cx="142920" cy="144360"/>
          </a:xfrm>
        </p:grpSpPr>
        <p:sp>
          <p:nvSpPr>
            <p:cNvPr id="1983" name=""/>
            <p:cNvSpPr txBox="1"/>
            <p:nvPr/>
          </p:nvSpPr>
          <p:spPr>
            <a:xfrm>
              <a:off x="185580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木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984" name=""/>
            <p:cNvSpPr txBox="1"/>
            <p:nvPr/>
          </p:nvSpPr>
          <p:spPr>
            <a:xfrm>
              <a:off x="185580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ff00"/>
                  </a:solidFill>
                  <a:latin typeface="メイリオ"/>
                </a:rPr>
                <a:t>木</a:t>
              </a:r>
              <a:endParaRPr b="1" lang="en-US" sz="1800" spc="1" strike="noStrike">
                <a:ln w="0">
                  <a:noFill/>
                </a:ln>
                <a:solidFill>
                  <a:srgbClr val="00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2263680" y="3068640"/>
            <a:ext cx="142920" cy="144360"/>
            <a:chOff x="2263680" y="3068640"/>
            <a:chExt cx="142920" cy="144360"/>
          </a:xfrm>
        </p:grpSpPr>
        <p:sp>
          <p:nvSpPr>
            <p:cNvPr id="1986" name=""/>
            <p:cNvSpPr txBox="1"/>
            <p:nvPr/>
          </p:nvSpPr>
          <p:spPr>
            <a:xfrm>
              <a:off x="226368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金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987" name=""/>
            <p:cNvSpPr txBox="1"/>
            <p:nvPr/>
          </p:nvSpPr>
          <p:spPr>
            <a:xfrm>
              <a:off x="226368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ff00"/>
                  </a:solidFill>
                  <a:latin typeface="メイリオ"/>
                </a:rPr>
                <a:t>金</a:t>
              </a:r>
              <a:endParaRPr b="1" lang="en-US" sz="1800" spc="1" strike="noStrike">
                <a:ln w="0">
                  <a:noFill/>
                </a:ln>
                <a:solidFill>
                  <a:srgbClr val="00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2671920" y="3068640"/>
            <a:ext cx="142560" cy="144360"/>
            <a:chOff x="2671920" y="3068640"/>
            <a:chExt cx="142560" cy="144360"/>
          </a:xfrm>
        </p:grpSpPr>
        <p:sp>
          <p:nvSpPr>
            <p:cNvPr id="1989" name=""/>
            <p:cNvSpPr txBox="1"/>
            <p:nvPr/>
          </p:nvSpPr>
          <p:spPr>
            <a:xfrm>
              <a:off x="2671920" y="3068640"/>
              <a:ext cx="1425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土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990" name=""/>
            <p:cNvSpPr txBox="1"/>
            <p:nvPr/>
          </p:nvSpPr>
          <p:spPr>
            <a:xfrm>
              <a:off x="2671920" y="3068640"/>
              <a:ext cx="1425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ff00"/>
                  </a:solidFill>
                  <a:latin typeface="メイリオ"/>
                </a:rPr>
                <a:t>土</a:t>
              </a:r>
              <a:endParaRPr b="1" lang="en-US" sz="1800" spc="1" strike="noStrike">
                <a:ln w="0">
                  <a:noFill/>
                </a:ln>
                <a:solidFill>
                  <a:srgbClr val="00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3079800" y="3068640"/>
            <a:ext cx="142920" cy="144360"/>
            <a:chOff x="3079800" y="3068640"/>
            <a:chExt cx="142920" cy="144360"/>
          </a:xfrm>
        </p:grpSpPr>
        <p:sp>
          <p:nvSpPr>
            <p:cNvPr id="1992" name=""/>
            <p:cNvSpPr txBox="1"/>
            <p:nvPr/>
          </p:nvSpPr>
          <p:spPr>
            <a:xfrm>
              <a:off x="307980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日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993" name=""/>
            <p:cNvSpPr txBox="1"/>
            <p:nvPr/>
          </p:nvSpPr>
          <p:spPr>
            <a:xfrm>
              <a:off x="3079800" y="3068640"/>
              <a:ext cx="14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ff00"/>
                  </a:solidFill>
                  <a:latin typeface="メイリオ"/>
                </a:rPr>
                <a:t>日</a:t>
              </a:r>
              <a:endParaRPr b="1" lang="en-US" sz="1800" spc="1" strike="noStrike">
                <a:ln w="0">
                  <a:noFill/>
                </a:ln>
                <a:solidFill>
                  <a:srgbClr val="00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631800" y="3716280"/>
            <a:ext cx="285840" cy="144360"/>
            <a:chOff x="631800" y="3716280"/>
            <a:chExt cx="285840" cy="144360"/>
          </a:xfrm>
        </p:grpSpPr>
        <p:sp>
          <p:nvSpPr>
            <p:cNvPr id="1995" name=""/>
            <p:cNvSpPr txBox="1"/>
            <p:nvPr/>
          </p:nvSpPr>
          <p:spPr>
            <a:xfrm>
              <a:off x="631800" y="3716280"/>
              <a:ext cx="2858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毎日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996" name=""/>
            <p:cNvSpPr txBox="1"/>
            <p:nvPr/>
          </p:nvSpPr>
          <p:spPr>
            <a:xfrm>
              <a:off x="631800" y="3716280"/>
              <a:ext cx="2858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ff00"/>
                  </a:solidFill>
                  <a:latin typeface="メイリオ"/>
                </a:rPr>
                <a:t>毎日</a:t>
              </a:r>
              <a:endParaRPr b="1" lang="en-US" sz="1800" spc="1" strike="noStrike">
                <a:ln w="0">
                  <a:noFill/>
                </a:ln>
                <a:solidFill>
                  <a:srgbClr val="00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1208160" y="3716280"/>
            <a:ext cx="285840" cy="144360"/>
            <a:chOff x="1208160" y="3716280"/>
            <a:chExt cx="285840" cy="144360"/>
          </a:xfrm>
        </p:grpSpPr>
        <p:sp>
          <p:nvSpPr>
            <p:cNvPr id="1998" name=""/>
            <p:cNvSpPr txBox="1"/>
            <p:nvPr/>
          </p:nvSpPr>
          <p:spPr>
            <a:xfrm>
              <a:off x="1208160" y="3716280"/>
              <a:ext cx="2858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毎週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1999" name=""/>
            <p:cNvSpPr txBox="1"/>
            <p:nvPr/>
          </p:nvSpPr>
          <p:spPr>
            <a:xfrm>
              <a:off x="1208160" y="3716280"/>
              <a:ext cx="28584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ff00"/>
                  </a:solidFill>
                  <a:latin typeface="メイリオ"/>
                </a:rPr>
                <a:t>毎週</a:t>
              </a:r>
              <a:endParaRPr b="1" lang="en-US" sz="1800" spc="1" strike="noStrike">
                <a:ln w="0">
                  <a:noFill/>
                </a:ln>
                <a:solidFill>
                  <a:srgbClr val="00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1784520" y="3716280"/>
            <a:ext cx="285480" cy="144360"/>
            <a:chOff x="1784520" y="3716280"/>
            <a:chExt cx="285480" cy="144360"/>
          </a:xfrm>
        </p:grpSpPr>
        <p:sp>
          <p:nvSpPr>
            <p:cNvPr id="2001" name=""/>
            <p:cNvSpPr txBox="1"/>
            <p:nvPr/>
          </p:nvSpPr>
          <p:spPr>
            <a:xfrm>
              <a:off x="1784520" y="3716280"/>
              <a:ext cx="2854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毎月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2002" name=""/>
            <p:cNvSpPr txBox="1"/>
            <p:nvPr/>
          </p:nvSpPr>
          <p:spPr>
            <a:xfrm>
              <a:off x="1784520" y="3716280"/>
              <a:ext cx="2854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ff00"/>
                  </a:solidFill>
                  <a:latin typeface="メイリオ"/>
                </a:rPr>
                <a:t>毎月</a:t>
              </a:r>
              <a:endParaRPr b="1" lang="en-US" sz="1800" spc="1" strike="noStrike">
                <a:ln w="0">
                  <a:noFill/>
                </a:ln>
                <a:solidFill>
                  <a:srgbClr val="00ff00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4160880" y="3068640"/>
            <a:ext cx="692280" cy="291960"/>
            <a:chOff x="4160880" y="3068640"/>
            <a:chExt cx="692280" cy="291960"/>
          </a:xfrm>
        </p:grpSpPr>
        <p:sp>
          <p:nvSpPr>
            <p:cNvPr id="2004" name=""/>
            <p:cNvSpPr/>
            <p:nvPr/>
          </p:nvSpPr>
          <p:spPr>
            <a:xfrm>
              <a:off x="4160880" y="306864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97600" y="310680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4160880" y="3427560"/>
            <a:ext cx="692280" cy="291960"/>
            <a:chOff x="4160880" y="3427560"/>
            <a:chExt cx="692280" cy="291960"/>
          </a:xfrm>
        </p:grpSpPr>
        <p:sp>
          <p:nvSpPr>
            <p:cNvPr id="2007" name=""/>
            <p:cNvSpPr/>
            <p:nvPr/>
          </p:nvSpPr>
          <p:spPr>
            <a:xfrm>
              <a:off x="4160880" y="342756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197600" y="346572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4160880" y="3792600"/>
            <a:ext cx="692280" cy="291960"/>
            <a:chOff x="4160880" y="3792600"/>
            <a:chExt cx="692280" cy="291960"/>
          </a:xfrm>
        </p:grpSpPr>
        <p:sp>
          <p:nvSpPr>
            <p:cNvPr id="2010" name=""/>
            <p:cNvSpPr/>
            <p:nvPr/>
          </p:nvSpPr>
          <p:spPr>
            <a:xfrm>
              <a:off x="4160880" y="379260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197600" y="383076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4160880" y="4151160"/>
            <a:ext cx="692280" cy="291960"/>
            <a:chOff x="4160880" y="4151160"/>
            <a:chExt cx="692280" cy="291960"/>
          </a:xfrm>
        </p:grpSpPr>
        <p:sp>
          <p:nvSpPr>
            <p:cNvPr id="2013" name=""/>
            <p:cNvSpPr/>
            <p:nvPr/>
          </p:nvSpPr>
          <p:spPr>
            <a:xfrm>
              <a:off x="4160880" y="415116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197600" y="418932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4160880" y="4511520"/>
            <a:ext cx="692280" cy="291960"/>
            <a:chOff x="4160880" y="4511520"/>
            <a:chExt cx="692280" cy="291960"/>
          </a:xfrm>
        </p:grpSpPr>
        <p:sp>
          <p:nvSpPr>
            <p:cNvPr id="2016" name=""/>
            <p:cNvSpPr/>
            <p:nvPr/>
          </p:nvSpPr>
          <p:spPr>
            <a:xfrm>
              <a:off x="4160880" y="451152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197600" y="454968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4910040" y="3071880"/>
            <a:ext cx="692280" cy="291960"/>
            <a:chOff x="4910040" y="3071880"/>
            <a:chExt cx="692280" cy="291960"/>
          </a:xfrm>
        </p:grpSpPr>
        <p:sp>
          <p:nvSpPr>
            <p:cNvPr id="2019" name=""/>
            <p:cNvSpPr/>
            <p:nvPr/>
          </p:nvSpPr>
          <p:spPr>
            <a:xfrm>
              <a:off x="4910040" y="307188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946760" y="311004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4910040" y="3427560"/>
            <a:ext cx="692280" cy="291960"/>
            <a:chOff x="4910040" y="3427560"/>
            <a:chExt cx="692280" cy="291960"/>
          </a:xfrm>
        </p:grpSpPr>
        <p:sp>
          <p:nvSpPr>
            <p:cNvPr id="2022" name=""/>
            <p:cNvSpPr/>
            <p:nvPr/>
          </p:nvSpPr>
          <p:spPr>
            <a:xfrm>
              <a:off x="4910040" y="342756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946760" y="346572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4910040" y="3787920"/>
            <a:ext cx="692280" cy="291960"/>
            <a:chOff x="4910040" y="3787920"/>
            <a:chExt cx="692280" cy="291960"/>
          </a:xfrm>
        </p:grpSpPr>
        <p:sp>
          <p:nvSpPr>
            <p:cNvPr id="2025" name=""/>
            <p:cNvSpPr/>
            <p:nvPr/>
          </p:nvSpPr>
          <p:spPr>
            <a:xfrm>
              <a:off x="4910040" y="378792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946760" y="382608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4910040" y="4148280"/>
            <a:ext cx="692280" cy="291960"/>
            <a:chOff x="4910040" y="4148280"/>
            <a:chExt cx="692280" cy="291960"/>
          </a:xfrm>
        </p:grpSpPr>
        <p:sp>
          <p:nvSpPr>
            <p:cNvPr id="2028" name=""/>
            <p:cNvSpPr/>
            <p:nvPr/>
          </p:nvSpPr>
          <p:spPr>
            <a:xfrm>
              <a:off x="4910040" y="414828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946760" y="418644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4910040" y="4508640"/>
            <a:ext cx="692280" cy="291960"/>
            <a:chOff x="4910040" y="4508640"/>
            <a:chExt cx="692280" cy="291960"/>
          </a:xfrm>
        </p:grpSpPr>
        <p:sp>
          <p:nvSpPr>
            <p:cNvPr id="2031" name=""/>
            <p:cNvSpPr/>
            <p:nvPr/>
          </p:nvSpPr>
          <p:spPr>
            <a:xfrm>
              <a:off x="4910040" y="4508640"/>
              <a:ext cx="692280" cy="291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946760" y="4546800"/>
              <a:ext cx="61272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メイリオ"/>
                  <a:ea typeface="メイリオ"/>
                </a:rPr>
                <a:t>STEP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5889600" y="3141720"/>
            <a:ext cx="1728720" cy="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5889600" y="3429000"/>
            <a:ext cx="1728720" cy="0"/>
          </a:xfrm>
          <a:prstGeom prst="line">
            <a:avLst/>
          </a:prstGeom>
          <a:ln w="57240">
            <a:solidFill>
              <a:srgbClr val="808080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5889600" y="3718080"/>
            <a:ext cx="17287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889600" y="4005360"/>
            <a:ext cx="1728720" cy="0"/>
          </a:xfrm>
          <a:prstGeom prst="line">
            <a:avLst/>
          </a:prstGeom>
          <a:ln w="57240">
            <a:solidFill>
              <a:srgbClr val="339966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889600" y="4294080"/>
            <a:ext cx="1728720" cy="0"/>
          </a:xfrm>
          <a:prstGeom prst="line">
            <a:avLst/>
          </a:prstGeom>
          <a:ln w="57240">
            <a:solidFill>
              <a:srgbClr val="ff00ff"/>
            </a:solidFill>
            <a:miter/>
            <a:headEnd len="med" type="oval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7832880" y="3141720"/>
            <a:ext cx="1728720" cy="144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7832880" y="3429000"/>
            <a:ext cx="172872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7832880" y="3718080"/>
            <a:ext cx="1728720" cy="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7832880" y="4005360"/>
            <a:ext cx="1728720" cy="0"/>
          </a:xfrm>
          <a:prstGeom prst="line">
            <a:avLst/>
          </a:prstGeom>
          <a:ln cap="rnd" w="38160">
            <a:solidFill>
              <a:srgbClr val="339966"/>
            </a:solidFill>
            <a:custDash>
              <a:ds d="100000" sp="1000"/>
            </a:custDash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7832880" y="4294080"/>
            <a:ext cx="1728720" cy="0"/>
          </a:xfrm>
          <a:prstGeom prst="line">
            <a:avLst/>
          </a:prstGeom>
          <a:ln cap="rnd" w="38160">
            <a:solidFill>
              <a:srgbClr val="ff00ff"/>
            </a:solidFill>
            <a:custDash>
              <a:ds d="100000" sp="1000"/>
            </a:custDash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4232160" y="4941720"/>
            <a:ext cx="792360" cy="565200"/>
          </a:xfrm>
          <a:custGeom>
            <a:avLst/>
            <a:gdLst/>
            <a:ahLst/>
            <a:rect l="l" t="t" r="r" b="b"/>
            <a:pathLst>
              <a:path w="1270" h="907">
                <a:moveTo>
                  <a:pt x="0" y="136"/>
                </a:moveTo>
                <a:lnTo>
                  <a:pt x="79" y="0"/>
                </a:lnTo>
                <a:lnTo>
                  <a:pt x="545" y="0"/>
                </a:lnTo>
                <a:lnTo>
                  <a:pt x="624" y="136"/>
                </a:lnTo>
                <a:lnTo>
                  <a:pt x="1270" y="136"/>
                </a:lnTo>
                <a:lnTo>
                  <a:pt x="1270" y="907"/>
                </a:lnTo>
                <a:lnTo>
                  <a:pt x="0" y="907"/>
                </a:lnTo>
                <a:lnTo>
                  <a:pt x="0" y="136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lin ang="8100000"/>
          </a:gradFill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4448160" y="5157720"/>
            <a:ext cx="792000" cy="565200"/>
          </a:xfrm>
          <a:custGeom>
            <a:avLst/>
            <a:gdLst/>
            <a:ahLst/>
            <a:rect l="l" t="t" r="r" b="b"/>
            <a:pathLst>
              <a:path w="1270" h="907">
                <a:moveTo>
                  <a:pt x="0" y="136"/>
                </a:moveTo>
                <a:lnTo>
                  <a:pt x="79" y="0"/>
                </a:lnTo>
                <a:lnTo>
                  <a:pt x="545" y="0"/>
                </a:lnTo>
                <a:lnTo>
                  <a:pt x="624" y="136"/>
                </a:lnTo>
                <a:lnTo>
                  <a:pt x="1270" y="136"/>
                </a:lnTo>
                <a:lnTo>
                  <a:pt x="1270" y="907"/>
                </a:lnTo>
                <a:lnTo>
                  <a:pt x="0" y="907"/>
                </a:lnTo>
                <a:lnTo>
                  <a:pt x="0" y="136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33cc33"/>
              </a:gs>
            </a:gsLst>
            <a:lin ang="8100000"/>
          </a:gradFill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664160" y="5373720"/>
            <a:ext cx="792000" cy="565200"/>
          </a:xfrm>
          <a:custGeom>
            <a:avLst/>
            <a:gdLst/>
            <a:ahLst/>
            <a:rect l="l" t="t" r="r" b="b"/>
            <a:pathLst>
              <a:path w="1270" h="907">
                <a:moveTo>
                  <a:pt x="0" y="136"/>
                </a:moveTo>
                <a:lnTo>
                  <a:pt x="79" y="0"/>
                </a:lnTo>
                <a:lnTo>
                  <a:pt x="545" y="0"/>
                </a:lnTo>
                <a:lnTo>
                  <a:pt x="624" y="136"/>
                </a:lnTo>
                <a:lnTo>
                  <a:pt x="1270" y="136"/>
                </a:lnTo>
                <a:lnTo>
                  <a:pt x="1270" y="907"/>
                </a:lnTo>
                <a:lnTo>
                  <a:pt x="0" y="907"/>
                </a:lnTo>
                <a:lnTo>
                  <a:pt x="0" y="136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6699ff"/>
              </a:gs>
            </a:gsLst>
            <a:lin ang="8100000"/>
          </a:gradFill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881600" y="5589720"/>
            <a:ext cx="792000" cy="564840"/>
          </a:xfrm>
          <a:custGeom>
            <a:avLst/>
            <a:gdLst/>
            <a:ahLst/>
            <a:rect l="l" t="t" r="r" b="b"/>
            <a:pathLst>
              <a:path w="1270" h="907">
                <a:moveTo>
                  <a:pt x="0" y="136"/>
                </a:moveTo>
                <a:lnTo>
                  <a:pt x="79" y="0"/>
                </a:lnTo>
                <a:lnTo>
                  <a:pt x="545" y="0"/>
                </a:lnTo>
                <a:lnTo>
                  <a:pt x="624" y="136"/>
                </a:lnTo>
                <a:lnTo>
                  <a:pt x="1270" y="136"/>
                </a:lnTo>
                <a:lnTo>
                  <a:pt x="1270" y="907"/>
                </a:lnTo>
                <a:lnTo>
                  <a:pt x="0" y="907"/>
                </a:lnTo>
                <a:lnTo>
                  <a:pt x="0" y="136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99cc"/>
              </a:gs>
            </a:gsLst>
            <a:lin ang="8100000"/>
          </a:gra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097600" y="5805360"/>
            <a:ext cx="792000" cy="565200"/>
          </a:xfrm>
          <a:custGeom>
            <a:avLst/>
            <a:gdLst/>
            <a:ahLst/>
            <a:rect l="l" t="t" r="r" b="b"/>
            <a:pathLst>
              <a:path w="1270" h="907">
                <a:moveTo>
                  <a:pt x="0" y="136"/>
                </a:moveTo>
                <a:lnTo>
                  <a:pt x="79" y="0"/>
                </a:lnTo>
                <a:lnTo>
                  <a:pt x="545" y="0"/>
                </a:lnTo>
                <a:lnTo>
                  <a:pt x="624" y="136"/>
                </a:lnTo>
                <a:lnTo>
                  <a:pt x="1270" y="136"/>
                </a:lnTo>
                <a:lnTo>
                  <a:pt x="1270" y="907"/>
                </a:lnTo>
                <a:lnTo>
                  <a:pt x="0" y="907"/>
                </a:lnTo>
                <a:lnTo>
                  <a:pt x="0" y="13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8100000"/>
          </a:gra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313240" y="6021360"/>
            <a:ext cx="792360" cy="565200"/>
          </a:xfrm>
          <a:custGeom>
            <a:avLst/>
            <a:gdLst/>
            <a:ahLst/>
            <a:rect l="l" t="t" r="r" b="b"/>
            <a:pathLst>
              <a:path w="1270" h="907">
                <a:moveTo>
                  <a:pt x="0" y="136"/>
                </a:moveTo>
                <a:lnTo>
                  <a:pt x="79" y="0"/>
                </a:lnTo>
                <a:lnTo>
                  <a:pt x="545" y="0"/>
                </a:lnTo>
                <a:lnTo>
                  <a:pt x="624" y="136"/>
                </a:lnTo>
                <a:lnTo>
                  <a:pt x="1270" y="136"/>
                </a:lnTo>
                <a:lnTo>
                  <a:pt x="1270" y="907"/>
                </a:lnTo>
                <a:lnTo>
                  <a:pt x="0" y="907"/>
                </a:lnTo>
                <a:lnTo>
                  <a:pt x="0" y="13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00ff"/>
              </a:gs>
            </a:gsLst>
            <a:lin ang="8100000"/>
          </a:gra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6465960" y="4653000"/>
            <a:ext cx="574560" cy="574560"/>
            <a:chOff x="6465960" y="4653000"/>
            <a:chExt cx="574560" cy="574560"/>
          </a:xfrm>
        </p:grpSpPr>
        <p:sp>
          <p:nvSpPr>
            <p:cNvPr id="2050" name=""/>
            <p:cNvSpPr/>
            <p:nvPr/>
          </p:nvSpPr>
          <p:spPr>
            <a:xfrm>
              <a:off x="6465960" y="4653000"/>
              <a:ext cx="574560" cy="574560"/>
            </a:xfrm>
            <a:custGeom>
              <a:avLst/>
              <a:gdLst>
                <a:gd name="textAreaLeft" fmla="*/ 131040 w 574560"/>
                <a:gd name="textAreaRight" fmla="*/ 443520 w 57456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465960" y="4653000"/>
              <a:ext cx="574560" cy="574560"/>
            </a:xfrm>
            <a:custGeom>
              <a:avLst/>
              <a:gdLst>
                <a:gd name="textAreaLeft" fmla="*/ 131040 w 574560"/>
                <a:gd name="textAreaRight" fmla="*/ 443520 w 57456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7115040" y="4653000"/>
            <a:ext cx="574920" cy="574560"/>
            <a:chOff x="7115040" y="4653000"/>
            <a:chExt cx="574920" cy="574560"/>
          </a:xfrm>
        </p:grpSpPr>
        <p:sp>
          <p:nvSpPr>
            <p:cNvPr id="2053" name=""/>
            <p:cNvSpPr/>
            <p:nvPr/>
          </p:nvSpPr>
          <p:spPr>
            <a:xfrm>
              <a:off x="7115040" y="4653000"/>
              <a:ext cx="574920" cy="574560"/>
            </a:xfrm>
            <a:custGeom>
              <a:avLst/>
              <a:gdLst>
                <a:gd name="textAreaLeft" fmla="*/ 131040 w 574920"/>
                <a:gd name="textAreaRight" fmla="*/ 443880 w 57492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115040" y="4653000"/>
              <a:ext cx="574920" cy="574560"/>
            </a:xfrm>
            <a:custGeom>
              <a:avLst/>
              <a:gdLst>
                <a:gd name="textAreaLeft" fmla="*/ 131040 w 574920"/>
                <a:gd name="textAreaRight" fmla="*/ 443880 w 57492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7764480" y="4653000"/>
            <a:ext cx="574560" cy="574560"/>
            <a:chOff x="7764480" y="4653000"/>
            <a:chExt cx="574560" cy="574560"/>
          </a:xfrm>
        </p:grpSpPr>
        <p:sp>
          <p:nvSpPr>
            <p:cNvPr id="2056" name=""/>
            <p:cNvSpPr/>
            <p:nvPr/>
          </p:nvSpPr>
          <p:spPr>
            <a:xfrm>
              <a:off x="7764480" y="4653000"/>
              <a:ext cx="574560" cy="574560"/>
            </a:xfrm>
            <a:custGeom>
              <a:avLst/>
              <a:gdLst>
                <a:gd name="textAreaLeft" fmla="*/ 131040 w 574560"/>
                <a:gd name="textAreaRight" fmla="*/ 443520 w 57456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764480" y="4653000"/>
              <a:ext cx="574560" cy="574560"/>
            </a:xfrm>
            <a:custGeom>
              <a:avLst/>
              <a:gdLst>
                <a:gd name="textAreaLeft" fmla="*/ 131040 w 574560"/>
                <a:gd name="textAreaRight" fmla="*/ 443520 w 57456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6607080" y="5373720"/>
            <a:ext cx="1149120" cy="574560"/>
            <a:chOff x="6607080" y="5373720"/>
            <a:chExt cx="1149120" cy="574560"/>
          </a:xfrm>
        </p:grpSpPr>
        <p:sp>
          <p:nvSpPr>
            <p:cNvPr id="2059" name=""/>
            <p:cNvSpPr/>
            <p:nvPr/>
          </p:nvSpPr>
          <p:spPr>
            <a:xfrm>
              <a:off x="6607080" y="5373720"/>
              <a:ext cx="1149120" cy="574560"/>
            </a:xfrm>
            <a:custGeom>
              <a:avLst/>
              <a:gdLst>
                <a:gd name="textAreaLeft" fmla="*/ 262080 w 1149120"/>
                <a:gd name="textAreaRight" fmla="*/ 887040 w 114912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07080" y="5373720"/>
              <a:ext cx="1149120" cy="574560"/>
            </a:xfrm>
            <a:custGeom>
              <a:avLst/>
              <a:gdLst>
                <a:gd name="textAreaLeft" fmla="*/ 262080 w 1149120"/>
                <a:gd name="textAreaRight" fmla="*/ 887040 w 114912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7256520" y="5373720"/>
            <a:ext cx="1148760" cy="574560"/>
            <a:chOff x="7256520" y="5373720"/>
            <a:chExt cx="1148760" cy="574560"/>
          </a:xfrm>
        </p:grpSpPr>
        <p:sp>
          <p:nvSpPr>
            <p:cNvPr id="2062" name=""/>
            <p:cNvSpPr/>
            <p:nvPr/>
          </p:nvSpPr>
          <p:spPr>
            <a:xfrm>
              <a:off x="7256520" y="5373720"/>
              <a:ext cx="1148760" cy="574560"/>
            </a:xfrm>
            <a:custGeom>
              <a:avLst/>
              <a:gdLst>
                <a:gd name="textAreaLeft" fmla="*/ 262080 w 1148760"/>
                <a:gd name="textAreaRight" fmla="*/ 886680 w 114876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56520" y="5373720"/>
              <a:ext cx="1148760" cy="574560"/>
            </a:xfrm>
            <a:custGeom>
              <a:avLst/>
              <a:gdLst>
                <a:gd name="textAreaLeft" fmla="*/ 262080 w 1148760"/>
                <a:gd name="textAreaRight" fmla="*/ 886680 w 114876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7905600" y="5373720"/>
            <a:ext cx="1149120" cy="574560"/>
            <a:chOff x="7905600" y="5373720"/>
            <a:chExt cx="1149120" cy="574560"/>
          </a:xfrm>
        </p:grpSpPr>
        <p:sp>
          <p:nvSpPr>
            <p:cNvPr id="2065" name=""/>
            <p:cNvSpPr/>
            <p:nvPr/>
          </p:nvSpPr>
          <p:spPr>
            <a:xfrm>
              <a:off x="7905600" y="5373720"/>
              <a:ext cx="1149120" cy="574560"/>
            </a:xfrm>
            <a:custGeom>
              <a:avLst/>
              <a:gdLst>
                <a:gd name="textAreaLeft" fmla="*/ 262080 w 1149120"/>
                <a:gd name="textAreaRight" fmla="*/ 887040 w 114912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905600" y="5373720"/>
              <a:ext cx="1149120" cy="574560"/>
            </a:xfrm>
            <a:custGeom>
              <a:avLst/>
              <a:gdLst>
                <a:gd name="textAreaLeft" fmla="*/ 262080 w 1149120"/>
                <a:gd name="textAreaRight" fmla="*/ 887040 w 1149120"/>
                <a:gd name="textAreaTop" fmla="*/ 131040 h 574560"/>
                <a:gd name="textAreaBottom" fmla="*/ 4435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7" name=""/>
          <p:cNvGraphicFramePr/>
          <p:nvPr/>
        </p:nvGraphicFramePr>
        <p:xfrm>
          <a:off x="344520" y="836640"/>
          <a:ext cx="9217080" cy="5616720"/>
        </p:xfrm>
        <a:graphic>
          <a:graphicData uri="http://schemas.openxmlformats.org/drawingml/2006/table">
            <a:tbl>
              <a:tblPr/>
              <a:tblGrid>
                <a:gridCol w="1666800"/>
                <a:gridCol w="628560"/>
                <a:gridCol w="630360"/>
                <a:gridCol w="628560"/>
                <a:gridCol w="628920"/>
                <a:gridCol w="630000"/>
                <a:gridCol w="628560"/>
                <a:gridCol w="628920"/>
                <a:gridCol w="630000"/>
                <a:gridCol w="628920"/>
                <a:gridCol w="628560"/>
                <a:gridCol w="630360"/>
                <a:gridCol w="62856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営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開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運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068" name=""/>
          <p:cNvSpPr/>
          <p:nvPr/>
        </p:nvSpPr>
        <p:spPr>
          <a:xfrm>
            <a:off x="393480" y="260280"/>
            <a:ext cx="5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■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１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"/>
          <p:cNvGrpSpPr/>
          <p:nvPr/>
        </p:nvGrpSpPr>
        <p:grpSpPr>
          <a:xfrm>
            <a:off x="3079080" y="1547280"/>
            <a:ext cx="407160" cy="464040"/>
            <a:chOff x="3079080" y="1547280"/>
            <a:chExt cx="407160" cy="464040"/>
          </a:xfrm>
        </p:grpSpPr>
        <p:grpSp>
          <p:nvGrpSpPr>
            <p:cNvPr id="2070" name=""/>
            <p:cNvGrpSpPr/>
            <p:nvPr/>
          </p:nvGrpSpPr>
          <p:grpSpPr>
            <a:xfrm>
              <a:off x="3079080" y="1547280"/>
              <a:ext cx="407160" cy="385560"/>
              <a:chOff x="3079080" y="1547280"/>
              <a:chExt cx="407160" cy="385560"/>
            </a:xfrm>
          </p:grpSpPr>
          <p:sp>
            <p:nvSpPr>
              <p:cNvPr id="2071" name=""/>
              <p:cNvSpPr/>
              <p:nvPr/>
            </p:nvSpPr>
            <p:spPr>
              <a:xfrm>
                <a:off x="3109680" y="1566720"/>
                <a:ext cx="342360" cy="341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207960" y="1664640"/>
                <a:ext cx="146520" cy="126360"/>
              </a:xfrm>
              <a:prstGeom prst="hexagon">
                <a:avLst>
                  <a:gd name="adj" fmla="val 28989"/>
                  <a:gd name="vf" fmla="val 115470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150720" y="1836360"/>
                <a:ext cx="76320" cy="6228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6960000">
                <a:off x="3168000" y="1563840"/>
                <a:ext cx="75960" cy="6228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3624000">
                <a:off x="3086640" y="1675080"/>
                <a:ext cx="75960" cy="6228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18504600">
                <a:off x="3311640" y="1852560"/>
                <a:ext cx="75960" cy="6228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11026800">
                <a:off x="3334320" y="1569960"/>
                <a:ext cx="76680" cy="6192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14450400">
                <a:off x="3402360" y="1713960"/>
                <a:ext cx="75960" cy="6228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15"/>
                    </a:moveTo>
                    <a:lnTo>
                      <a:pt x="66" y="0"/>
                    </a:lnTo>
                    <a:lnTo>
                      <a:pt x="71" y="5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3081240" y="1860480"/>
              <a:ext cx="401760" cy="150840"/>
              <a:chOff x="3081240" y="1860480"/>
              <a:chExt cx="401760" cy="150840"/>
            </a:xfrm>
          </p:grpSpPr>
          <p:sp>
            <p:nvSpPr>
              <p:cNvPr id="2080" name=""/>
              <p:cNvSpPr txBox="1"/>
              <p:nvPr/>
            </p:nvSpPr>
            <p:spPr>
              <a:xfrm>
                <a:off x="3081240" y="186228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57240">
                      <a:solidFill>
                        <a:srgbClr val="333333"/>
                      </a:solidFill>
                      <a:miter/>
                    </a:ln>
                    <a:solidFill>
                      <a:srgbClr val="333333"/>
                    </a:solidFill>
                    <a:latin typeface="メイリオ"/>
                  </a:rPr>
                  <a:t>キックオフ</a:t>
                </a:r>
                <a:endParaRPr b="1" lang="en-US" sz="1800" spc="1" strike="noStrike">
                  <a:ln w="57240">
                    <a:solidFill>
                      <a:srgbClr val="333333"/>
                    </a:solidFill>
                    <a:miter/>
                  </a:ln>
                  <a:solidFill>
                    <a:srgbClr val="333333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081" name=""/>
              <p:cNvSpPr txBox="1"/>
              <p:nvPr/>
            </p:nvSpPr>
            <p:spPr>
              <a:xfrm>
                <a:off x="3082680" y="1860480"/>
                <a:ext cx="40032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キックオフ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082" name=""/>
          <p:cNvGrpSpPr/>
          <p:nvPr/>
        </p:nvGrpSpPr>
        <p:grpSpPr>
          <a:xfrm>
            <a:off x="3081240" y="2209680"/>
            <a:ext cx="400320" cy="355320"/>
            <a:chOff x="3081240" y="2209680"/>
            <a:chExt cx="400320" cy="355320"/>
          </a:xfrm>
        </p:grpSpPr>
        <p:grpSp>
          <p:nvGrpSpPr>
            <p:cNvPr id="2083" name=""/>
            <p:cNvGrpSpPr/>
            <p:nvPr/>
          </p:nvGrpSpPr>
          <p:grpSpPr>
            <a:xfrm>
              <a:off x="3119400" y="2209680"/>
              <a:ext cx="323640" cy="264960"/>
              <a:chOff x="3119400" y="2209680"/>
              <a:chExt cx="323640" cy="264960"/>
            </a:xfrm>
          </p:grpSpPr>
          <p:grpSp>
            <p:nvGrpSpPr>
              <p:cNvPr id="2084" name=""/>
              <p:cNvGrpSpPr/>
              <p:nvPr/>
            </p:nvGrpSpPr>
            <p:grpSpPr>
              <a:xfrm>
                <a:off x="3119400" y="2209680"/>
                <a:ext cx="153000" cy="264960"/>
                <a:chOff x="3119400" y="2209680"/>
                <a:chExt cx="153000" cy="264960"/>
              </a:xfrm>
            </p:grpSpPr>
            <p:grpSp>
              <p:nvGrpSpPr>
                <p:cNvPr id="2085" name=""/>
                <p:cNvGrpSpPr/>
                <p:nvPr/>
              </p:nvGrpSpPr>
              <p:grpSpPr>
                <a:xfrm>
                  <a:off x="3119400" y="2209680"/>
                  <a:ext cx="152280" cy="264960"/>
                  <a:chOff x="3119400" y="2209680"/>
                  <a:chExt cx="152280" cy="264960"/>
                </a:xfrm>
              </p:grpSpPr>
              <p:sp>
                <p:nvSpPr>
                  <p:cNvPr id="2086" name=""/>
                  <p:cNvSpPr/>
                  <p:nvPr/>
                </p:nvSpPr>
                <p:spPr>
                  <a:xfrm>
                    <a:off x="3138480" y="2209680"/>
                    <a:ext cx="113760" cy="11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3119400" y="2323440"/>
                    <a:ext cx="152280" cy="15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3119400" y="2398680"/>
                    <a:ext cx="151200" cy="7596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9" name=""/>
                <p:cNvGrpSpPr/>
                <p:nvPr/>
              </p:nvGrpSpPr>
              <p:grpSpPr>
                <a:xfrm>
                  <a:off x="3120120" y="2209680"/>
                  <a:ext cx="152280" cy="264960"/>
                  <a:chOff x="3120120" y="2209680"/>
                  <a:chExt cx="152280" cy="26496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3139200" y="2209680"/>
                    <a:ext cx="113760" cy="1137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3120120" y="2323440"/>
                    <a:ext cx="152280" cy="151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3120120" y="2398680"/>
                    <a:ext cx="151200" cy="759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93" name=""/>
              <p:cNvGrpSpPr/>
              <p:nvPr/>
            </p:nvGrpSpPr>
            <p:grpSpPr>
              <a:xfrm>
                <a:off x="3290040" y="2209680"/>
                <a:ext cx="153000" cy="264960"/>
                <a:chOff x="3290040" y="2209680"/>
                <a:chExt cx="153000" cy="264960"/>
              </a:xfrm>
            </p:grpSpPr>
            <p:grpSp>
              <p:nvGrpSpPr>
                <p:cNvPr id="2094" name=""/>
                <p:cNvGrpSpPr/>
                <p:nvPr/>
              </p:nvGrpSpPr>
              <p:grpSpPr>
                <a:xfrm>
                  <a:off x="3290040" y="2209680"/>
                  <a:ext cx="151920" cy="264960"/>
                  <a:chOff x="3290040" y="2209680"/>
                  <a:chExt cx="151920" cy="264960"/>
                </a:xfrm>
              </p:grpSpPr>
              <p:sp>
                <p:nvSpPr>
                  <p:cNvPr id="2095" name=""/>
                  <p:cNvSpPr/>
                  <p:nvPr/>
                </p:nvSpPr>
                <p:spPr>
                  <a:xfrm>
                    <a:off x="3309120" y="2209680"/>
                    <a:ext cx="113400" cy="113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3290040" y="2323440"/>
                    <a:ext cx="151920" cy="15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3290040" y="2398680"/>
                    <a:ext cx="150840" cy="7596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8" name=""/>
                <p:cNvGrpSpPr/>
                <p:nvPr/>
              </p:nvGrpSpPr>
              <p:grpSpPr>
                <a:xfrm>
                  <a:off x="3290760" y="2209680"/>
                  <a:ext cx="152280" cy="264960"/>
                  <a:chOff x="3290760" y="2209680"/>
                  <a:chExt cx="152280" cy="264960"/>
                </a:xfrm>
              </p:grpSpPr>
              <p:sp>
                <p:nvSpPr>
                  <p:cNvPr id="2099" name=""/>
                  <p:cNvSpPr/>
                  <p:nvPr/>
                </p:nvSpPr>
                <p:spPr>
                  <a:xfrm>
                    <a:off x="3309840" y="2209680"/>
                    <a:ext cx="113760" cy="11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3290760" y="2323440"/>
                    <a:ext cx="152280" cy="1512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3290760" y="2398680"/>
                    <a:ext cx="151200" cy="75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02" name=""/>
            <p:cNvGrpSpPr/>
            <p:nvPr/>
          </p:nvGrpSpPr>
          <p:grpSpPr>
            <a:xfrm>
              <a:off x="3081240" y="2415960"/>
              <a:ext cx="400320" cy="149040"/>
              <a:chOff x="3081240" y="2415960"/>
              <a:chExt cx="400320" cy="149040"/>
            </a:xfrm>
          </p:grpSpPr>
          <p:sp>
            <p:nvSpPr>
              <p:cNvPr id="2103" name=""/>
              <p:cNvSpPr txBox="1"/>
              <p:nvPr/>
            </p:nvSpPr>
            <p:spPr>
              <a:xfrm>
                <a:off x="3081240" y="241596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打合せ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104" name=""/>
              <p:cNvSpPr txBox="1"/>
              <p:nvPr/>
            </p:nvSpPr>
            <p:spPr>
              <a:xfrm>
                <a:off x="3081240" y="241596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打合せ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105" name=""/>
          <p:cNvGrpSpPr/>
          <p:nvPr/>
        </p:nvGrpSpPr>
        <p:grpSpPr>
          <a:xfrm>
            <a:off x="4305240" y="2205000"/>
            <a:ext cx="402840" cy="360360"/>
            <a:chOff x="4305240" y="2205000"/>
            <a:chExt cx="402840" cy="360360"/>
          </a:xfrm>
        </p:grpSpPr>
        <p:grpSp>
          <p:nvGrpSpPr>
            <p:cNvPr id="2106" name=""/>
            <p:cNvGrpSpPr/>
            <p:nvPr/>
          </p:nvGrpSpPr>
          <p:grpSpPr>
            <a:xfrm>
              <a:off x="4311360" y="2205000"/>
              <a:ext cx="390600" cy="266040"/>
              <a:chOff x="4311360" y="2205000"/>
              <a:chExt cx="390600" cy="266040"/>
            </a:xfrm>
          </p:grpSpPr>
          <p:grpSp>
            <p:nvGrpSpPr>
              <p:cNvPr id="2107" name=""/>
              <p:cNvGrpSpPr/>
              <p:nvPr/>
            </p:nvGrpSpPr>
            <p:grpSpPr>
              <a:xfrm>
                <a:off x="4377240" y="2205000"/>
                <a:ext cx="120600" cy="206280"/>
                <a:chOff x="4377240" y="2205000"/>
                <a:chExt cx="120600" cy="206280"/>
              </a:xfrm>
            </p:grpSpPr>
            <p:grpSp>
              <p:nvGrpSpPr>
                <p:cNvPr id="2108" name=""/>
                <p:cNvGrpSpPr/>
                <p:nvPr/>
              </p:nvGrpSpPr>
              <p:grpSpPr>
                <a:xfrm>
                  <a:off x="4377240" y="2205000"/>
                  <a:ext cx="120240" cy="206280"/>
                  <a:chOff x="4377240" y="2205000"/>
                  <a:chExt cx="120240" cy="206280"/>
                </a:xfrm>
              </p:grpSpPr>
              <p:sp>
                <p:nvSpPr>
                  <p:cNvPr id="2109" name=""/>
                  <p:cNvSpPr/>
                  <p:nvPr/>
                </p:nvSpPr>
                <p:spPr>
                  <a:xfrm>
                    <a:off x="4392360" y="2205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>
                    <a:off x="4377240" y="2293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4377240" y="2352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2" name=""/>
                <p:cNvGrpSpPr/>
                <p:nvPr/>
              </p:nvGrpSpPr>
              <p:grpSpPr>
                <a:xfrm>
                  <a:off x="4377600" y="2205000"/>
                  <a:ext cx="120240" cy="206280"/>
                  <a:chOff x="4377600" y="2205000"/>
                  <a:chExt cx="120240" cy="20628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>
                    <a:off x="4392720" y="2205000"/>
                    <a:ext cx="90000" cy="885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4377600" y="2293560"/>
                    <a:ext cx="120240" cy="1177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4377600" y="2352240"/>
                    <a:ext cx="119520" cy="5904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6" name=""/>
              <p:cNvGrpSpPr/>
              <p:nvPr/>
            </p:nvGrpSpPr>
            <p:grpSpPr>
              <a:xfrm>
                <a:off x="4512240" y="2205000"/>
                <a:ext cx="120960" cy="206280"/>
                <a:chOff x="4512240" y="2205000"/>
                <a:chExt cx="120960" cy="206280"/>
              </a:xfrm>
            </p:grpSpPr>
            <p:grpSp>
              <p:nvGrpSpPr>
                <p:cNvPr id="2117" name=""/>
                <p:cNvGrpSpPr/>
                <p:nvPr/>
              </p:nvGrpSpPr>
              <p:grpSpPr>
                <a:xfrm>
                  <a:off x="4512240" y="2205000"/>
                  <a:ext cx="120240" cy="206280"/>
                  <a:chOff x="4512240" y="2205000"/>
                  <a:chExt cx="120240" cy="206280"/>
                </a:xfrm>
              </p:grpSpPr>
              <p:sp>
                <p:nvSpPr>
                  <p:cNvPr id="2118" name=""/>
                  <p:cNvSpPr/>
                  <p:nvPr/>
                </p:nvSpPr>
                <p:spPr>
                  <a:xfrm>
                    <a:off x="4527360" y="2205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>
                    <a:off x="4512240" y="2293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>
                    <a:off x="4512240" y="2352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1" name=""/>
                <p:cNvGrpSpPr/>
                <p:nvPr/>
              </p:nvGrpSpPr>
              <p:grpSpPr>
                <a:xfrm>
                  <a:off x="4512960" y="2205000"/>
                  <a:ext cx="120240" cy="206280"/>
                  <a:chOff x="4512960" y="2205000"/>
                  <a:chExt cx="120240" cy="206280"/>
                </a:xfrm>
              </p:grpSpPr>
              <p:sp>
                <p:nvSpPr>
                  <p:cNvPr id="2122" name=""/>
                  <p:cNvSpPr/>
                  <p:nvPr/>
                </p:nvSpPr>
                <p:spPr>
                  <a:xfrm>
                    <a:off x="4528080" y="2205000"/>
                    <a:ext cx="90000" cy="8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>
                    <a:off x="4512960" y="2293560"/>
                    <a:ext cx="12024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4512960" y="2352240"/>
                    <a:ext cx="119520" cy="59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25" name=""/>
              <p:cNvGrpSpPr/>
              <p:nvPr/>
            </p:nvGrpSpPr>
            <p:grpSpPr>
              <a:xfrm>
                <a:off x="4311360" y="2264760"/>
                <a:ext cx="120600" cy="206280"/>
                <a:chOff x="4311360" y="2264760"/>
                <a:chExt cx="120600" cy="206280"/>
              </a:xfrm>
            </p:grpSpPr>
            <p:grpSp>
              <p:nvGrpSpPr>
                <p:cNvPr id="2126" name=""/>
                <p:cNvGrpSpPr/>
                <p:nvPr/>
              </p:nvGrpSpPr>
              <p:grpSpPr>
                <a:xfrm>
                  <a:off x="4311360" y="2264760"/>
                  <a:ext cx="120240" cy="206280"/>
                  <a:chOff x="4311360" y="2264760"/>
                  <a:chExt cx="120240" cy="206280"/>
                </a:xfrm>
              </p:grpSpPr>
              <p:sp>
                <p:nvSpPr>
                  <p:cNvPr id="2127" name=""/>
                  <p:cNvSpPr/>
                  <p:nvPr/>
                </p:nvSpPr>
                <p:spPr>
                  <a:xfrm>
                    <a:off x="4326480" y="226476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4311360" y="235332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4311360" y="241200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0" name=""/>
                <p:cNvGrpSpPr/>
                <p:nvPr/>
              </p:nvGrpSpPr>
              <p:grpSpPr>
                <a:xfrm>
                  <a:off x="4311720" y="2264760"/>
                  <a:ext cx="120240" cy="206280"/>
                  <a:chOff x="4311720" y="2264760"/>
                  <a:chExt cx="120240" cy="206280"/>
                </a:xfrm>
              </p:grpSpPr>
              <p:sp>
                <p:nvSpPr>
                  <p:cNvPr id="2131" name=""/>
                  <p:cNvSpPr/>
                  <p:nvPr/>
                </p:nvSpPr>
                <p:spPr>
                  <a:xfrm>
                    <a:off x="4326840" y="2264760"/>
                    <a:ext cx="90000" cy="88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4311720" y="2353320"/>
                    <a:ext cx="120240" cy="11772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>
                    <a:off x="4311720" y="2412000"/>
                    <a:ext cx="119520" cy="590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4" name=""/>
              <p:cNvGrpSpPr/>
              <p:nvPr/>
            </p:nvGrpSpPr>
            <p:grpSpPr>
              <a:xfrm>
                <a:off x="4446000" y="2264760"/>
                <a:ext cx="120600" cy="206280"/>
                <a:chOff x="4446000" y="2264760"/>
                <a:chExt cx="120600" cy="206280"/>
              </a:xfrm>
            </p:grpSpPr>
            <p:grpSp>
              <p:nvGrpSpPr>
                <p:cNvPr id="2135" name=""/>
                <p:cNvGrpSpPr/>
                <p:nvPr/>
              </p:nvGrpSpPr>
              <p:grpSpPr>
                <a:xfrm>
                  <a:off x="4446000" y="2264760"/>
                  <a:ext cx="120240" cy="206280"/>
                  <a:chOff x="4446000" y="2264760"/>
                  <a:chExt cx="120240" cy="206280"/>
                </a:xfrm>
              </p:grpSpPr>
              <p:sp>
                <p:nvSpPr>
                  <p:cNvPr id="2136" name=""/>
                  <p:cNvSpPr/>
                  <p:nvPr/>
                </p:nvSpPr>
                <p:spPr>
                  <a:xfrm>
                    <a:off x="4461120" y="226476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4446000" y="235332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4446000" y="241200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9" name=""/>
                <p:cNvGrpSpPr/>
                <p:nvPr/>
              </p:nvGrpSpPr>
              <p:grpSpPr>
                <a:xfrm>
                  <a:off x="4446360" y="2264760"/>
                  <a:ext cx="120240" cy="206280"/>
                  <a:chOff x="4446360" y="2264760"/>
                  <a:chExt cx="120240" cy="206280"/>
                </a:xfrm>
              </p:grpSpPr>
              <p:sp>
                <p:nvSpPr>
                  <p:cNvPr id="2140" name=""/>
                  <p:cNvSpPr/>
                  <p:nvPr/>
                </p:nvSpPr>
                <p:spPr>
                  <a:xfrm>
                    <a:off x="4461480" y="2264760"/>
                    <a:ext cx="90000" cy="88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4446360" y="2353320"/>
                    <a:ext cx="120240" cy="117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4446360" y="2412000"/>
                    <a:ext cx="119520" cy="5904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3" name=""/>
              <p:cNvGrpSpPr/>
              <p:nvPr/>
            </p:nvGrpSpPr>
            <p:grpSpPr>
              <a:xfrm>
                <a:off x="4581000" y="2264760"/>
                <a:ext cx="120960" cy="206280"/>
                <a:chOff x="4581000" y="2264760"/>
                <a:chExt cx="120960" cy="206280"/>
              </a:xfrm>
            </p:grpSpPr>
            <p:grpSp>
              <p:nvGrpSpPr>
                <p:cNvPr id="2144" name=""/>
                <p:cNvGrpSpPr/>
                <p:nvPr/>
              </p:nvGrpSpPr>
              <p:grpSpPr>
                <a:xfrm>
                  <a:off x="4581000" y="2264760"/>
                  <a:ext cx="120240" cy="206280"/>
                  <a:chOff x="4581000" y="2264760"/>
                  <a:chExt cx="120240" cy="206280"/>
                </a:xfrm>
              </p:grpSpPr>
              <p:sp>
                <p:nvSpPr>
                  <p:cNvPr id="2145" name=""/>
                  <p:cNvSpPr/>
                  <p:nvPr/>
                </p:nvSpPr>
                <p:spPr>
                  <a:xfrm>
                    <a:off x="4596120" y="226476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4581000" y="235332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4581000" y="241200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8" name=""/>
                <p:cNvGrpSpPr/>
                <p:nvPr/>
              </p:nvGrpSpPr>
              <p:grpSpPr>
                <a:xfrm>
                  <a:off x="4581720" y="2264760"/>
                  <a:ext cx="120240" cy="206280"/>
                  <a:chOff x="4581720" y="2264760"/>
                  <a:chExt cx="120240" cy="206280"/>
                </a:xfrm>
              </p:grpSpPr>
              <p:sp>
                <p:nvSpPr>
                  <p:cNvPr id="2149" name=""/>
                  <p:cNvSpPr/>
                  <p:nvPr/>
                </p:nvSpPr>
                <p:spPr>
                  <a:xfrm>
                    <a:off x="4596840" y="2264760"/>
                    <a:ext cx="90000" cy="885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4581720" y="2353320"/>
                    <a:ext cx="120240" cy="1177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4581720" y="2412000"/>
                    <a:ext cx="119520" cy="59040"/>
                  </a:xfrm>
                  <a:prstGeom prst="rect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2" name=""/>
            <p:cNvGrpSpPr/>
            <p:nvPr/>
          </p:nvGrpSpPr>
          <p:grpSpPr>
            <a:xfrm>
              <a:off x="4305240" y="2415960"/>
              <a:ext cx="402840" cy="149400"/>
              <a:chOff x="4305240" y="2415960"/>
              <a:chExt cx="402840" cy="149400"/>
            </a:xfrm>
          </p:grpSpPr>
          <p:sp>
            <p:nvSpPr>
              <p:cNvPr id="2153" name=""/>
              <p:cNvSpPr txBox="1"/>
              <p:nvPr/>
            </p:nvSpPr>
            <p:spPr>
              <a:xfrm>
                <a:off x="4308120" y="2415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報告会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154" name=""/>
              <p:cNvSpPr txBox="1"/>
              <p:nvPr/>
            </p:nvSpPr>
            <p:spPr>
              <a:xfrm>
                <a:off x="4305240" y="2415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報告会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155" name=""/>
          <p:cNvGrpSpPr/>
          <p:nvPr/>
        </p:nvGrpSpPr>
        <p:grpSpPr>
          <a:xfrm>
            <a:off x="7296480" y="3113280"/>
            <a:ext cx="461160" cy="480960"/>
            <a:chOff x="7296480" y="3113280"/>
            <a:chExt cx="461160" cy="480960"/>
          </a:xfrm>
        </p:grpSpPr>
        <p:grpSp>
          <p:nvGrpSpPr>
            <p:cNvPr id="2156" name=""/>
            <p:cNvGrpSpPr/>
            <p:nvPr/>
          </p:nvGrpSpPr>
          <p:grpSpPr>
            <a:xfrm>
              <a:off x="7296480" y="3113280"/>
              <a:ext cx="442440" cy="367920"/>
              <a:chOff x="7296480" y="3113280"/>
              <a:chExt cx="442440" cy="367920"/>
            </a:xfrm>
          </p:grpSpPr>
          <p:grpSp>
            <p:nvGrpSpPr>
              <p:cNvPr id="2157" name=""/>
              <p:cNvGrpSpPr/>
              <p:nvPr/>
            </p:nvGrpSpPr>
            <p:grpSpPr>
              <a:xfrm>
                <a:off x="7296480" y="3114000"/>
                <a:ext cx="442080" cy="367200"/>
                <a:chOff x="7296480" y="3114000"/>
                <a:chExt cx="442080" cy="367200"/>
              </a:xfrm>
            </p:grpSpPr>
            <p:sp>
              <p:nvSpPr>
                <p:cNvPr id="2158" name=""/>
                <p:cNvSpPr/>
                <p:nvPr/>
              </p:nvSpPr>
              <p:spPr>
                <a:xfrm rot="18240600">
                  <a:off x="7345440" y="3162240"/>
                  <a:ext cx="250200" cy="2512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rot="18240600">
                  <a:off x="7586640" y="3324960"/>
                  <a:ext cx="35280" cy="107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rot="18240600">
                  <a:off x="7644240" y="3360960"/>
                  <a:ext cx="53640" cy="1256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1" name=""/>
              <p:cNvGrpSpPr/>
              <p:nvPr/>
            </p:nvGrpSpPr>
            <p:grpSpPr>
              <a:xfrm>
                <a:off x="7296480" y="3113280"/>
                <a:ext cx="442440" cy="367920"/>
                <a:chOff x="7296480" y="3113280"/>
                <a:chExt cx="442440" cy="367920"/>
              </a:xfrm>
            </p:grpSpPr>
            <p:sp>
              <p:nvSpPr>
                <p:cNvPr id="2162" name=""/>
                <p:cNvSpPr/>
                <p:nvPr/>
              </p:nvSpPr>
              <p:spPr>
                <a:xfrm rot="18240600">
                  <a:off x="7587360" y="3324240"/>
                  <a:ext cx="35280" cy="107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rot="18240600">
                  <a:off x="7363440" y="3180240"/>
                  <a:ext cx="214920" cy="21528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rot="18240600">
                  <a:off x="7345080" y="3161880"/>
                  <a:ext cx="250920" cy="251280"/>
                </a:xfrm>
                <a:prstGeom prst="donut">
                  <a:avLst>
                    <a:gd name="adj" fmla="val 12731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rot="18240600">
                  <a:off x="7644600" y="3360960"/>
                  <a:ext cx="53640" cy="12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6" name=""/>
            <p:cNvGrpSpPr/>
            <p:nvPr/>
          </p:nvGrpSpPr>
          <p:grpSpPr>
            <a:xfrm>
              <a:off x="7357680" y="3444840"/>
              <a:ext cx="399960" cy="149400"/>
              <a:chOff x="7357680" y="3444840"/>
              <a:chExt cx="399960" cy="149400"/>
            </a:xfrm>
          </p:grpSpPr>
          <p:sp>
            <p:nvSpPr>
              <p:cNvPr id="2167" name=""/>
              <p:cNvSpPr txBox="1"/>
              <p:nvPr/>
            </p:nvSpPr>
            <p:spPr>
              <a:xfrm>
                <a:off x="7357680" y="34448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納品検査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168" name=""/>
              <p:cNvSpPr txBox="1"/>
              <p:nvPr/>
            </p:nvSpPr>
            <p:spPr>
              <a:xfrm>
                <a:off x="7357680" y="34448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納品検査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169" name=""/>
          <p:cNvGrpSpPr/>
          <p:nvPr/>
        </p:nvGrpSpPr>
        <p:grpSpPr>
          <a:xfrm>
            <a:off x="2409840" y="2201400"/>
            <a:ext cx="433440" cy="392400"/>
            <a:chOff x="2409840" y="2201400"/>
            <a:chExt cx="433440" cy="392400"/>
          </a:xfrm>
        </p:grpSpPr>
        <p:grpSp>
          <p:nvGrpSpPr>
            <p:cNvPr id="2170" name=""/>
            <p:cNvGrpSpPr/>
            <p:nvPr/>
          </p:nvGrpSpPr>
          <p:grpSpPr>
            <a:xfrm>
              <a:off x="2409840" y="2201400"/>
              <a:ext cx="433440" cy="266040"/>
              <a:chOff x="2409840" y="2201400"/>
              <a:chExt cx="433440" cy="266040"/>
            </a:xfrm>
          </p:grpSpPr>
          <p:grpSp>
            <p:nvGrpSpPr>
              <p:cNvPr id="2171" name=""/>
              <p:cNvGrpSpPr/>
              <p:nvPr/>
            </p:nvGrpSpPr>
            <p:grpSpPr>
              <a:xfrm>
                <a:off x="2523240" y="2201400"/>
                <a:ext cx="320040" cy="266040"/>
                <a:chOff x="2523240" y="2201400"/>
                <a:chExt cx="320040" cy="266040"/>
              </a:xfrm>
            </p:grpSpPr>
            <p:grpSp>
              <p:nvGrpSpPr>
                <p:cNvPr id="2172" name=""/>
                <p:cNvGrpSpPr/>
                <p:nvPr/>
              </p:nvGrpSpPr>
              <p:grpSpPr>
                <a:xfrm>
                  <a:off x="2523240" y="2201400"/>
                  <a:ext cx="320040" cy="266040"/>
                  <a:chOff x="2523240" y="2201400"/>
                  <a:chExt cx="320040" cy="266040"/>
                </a:xfrm>
              </p:grpSpPr>
              <p:sp>
                <p:nvSpPr>
                  <p:cNvPr id="2173" name=""/>
                  <p:cNvSpPr/>
                  <p:nvPr/>
                </p:nvSpPr>
                <p:spPr>
                  <a:xfrm rot="2700000">
                    <a:off x="2620800" y="22478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 rot="20700000">
                    <a:off x="2545200" y="23151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 rot="20700000">
                    <a:off x="2524320" y="2354400"/>
                    <a:ext cx="18972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 rot="20700000">
                    <a:off x="2565000" y="23893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 rot="20700000">
                    <a:off x="2620080" y="24145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 rot="20700000">
                    <a:off x="2648160" y="2284920"/>
                    <a:ext cx="17856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9" name=""/>
                <p:cNvGrpSpPr/>
                <p:nvPr/>
              </p:nvGrpSpPr>
              <p:grpSpPr>
                <a:xfrm>
                  <a:off x="2523240" y="2201400"/>
                  <a:ext cx="320040" cy="266040"/>
                  <a:chOff x="2523240" y="2201400"/>
                  <a:chExt cx="320040" cy="266040"/>
                </a:xfrm>
              </p:grpSpPr>
              <p:sp>
                <p:nvSpPr>
                  <p:cNvPr id="2180" name=""/>
                  <p:cNvSpPr/>
                  <p:nvPr/>
                </p:nvSpPr>
                <p:spPr>
                  <a:xfrm rot="2700000">
                    <a:off x="2620800" y="22478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 rot="20700000">
                    <a:off x="2545200" y="23151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 rot="20700000">
                    <a:off x="2524320" y="2354400"/>
                    <a:ext cx="18972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 rot="20700000">
                    <a:off x="2565000" y="23893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 rot="20700000">
                    <a:off x="2620080" y="241452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 rot="20700000">
                    <a:off x="2648160" y="2284920"/>
                    <a:ext cx="17856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86" name=""/>
              <p:cNvGrpSpPr/>
              <p:nvPr/>
            </p:nvGrpSpPr>
            <p:grpSpPr>
              <a:xfrm>
                <a:off x="2409840" y="2201400"/>
                <a:ext cx="319680" cy="265680"/>
                <a:chOff x="2409840" y="2201400"/>
                <a:chExt cx="319680" cy="265680"/>
              </a:xfrm>
            </p:grpSpPr>
            <p:grpSp>
              <p:nvGrpSpPr>
                <p:cNvPr id="2187" name=""/>
                <p:cNvGrpSpPr/>
                <p:nvPr/>
              </p:nvGrpSpPr>
              <p:grpSpPr>
                <a:xfrm>
                  <a:off x="2409840" y="2201400"/>
                  <a:ext cx="319680" cy="265680"/>
                  <a:chOff x="2409840" y="2201400"/>
                  <a:chExt cx="319680" cy="265680"/>
                </a:xfrm>
              </p:grpSpPr>
              <p:sp>
                <p:nvSpPr>
                  <p:cNvPr id="2188" name=""/>
                  <p:cNvSpPr/>
                  <p:nvPr/>
                </p:nvSpPr>
                <p:spPr>
                  <a:xfrm flipH="1" rot="18900000">
                    <a:off x="2481480" y="22478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 flipH="1" rot="900000">
                    <a:off x="2562120" y="23151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 flipH="1" rot="900000">
                    <a:off x="2538360" y="2354400"/>
                    <a:ext cx="18972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 flipH="1" rot="900000">
                    <a:off x="2542320" y="23893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 flipH="1" rot="900000">
                    <a:off x="2487240" y="24145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 flipH="1" rot="900000">
                    <a:off x="2426040" y="2284920"/>
                    <a:ext cx="178560" cy="14940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4" name=""/>
                <p:cNvGrpSpPr/>
                <p:nvPr/>
              </p:nvGrpSpPr>
              <p:grpSpPr>
                <a:xfrm>
                  <a:off x="2409840" y="2201400"/>
                  <a:ext cx="319680" cy="265680"/>
                  <a:chOff x="2409840" y="2201400"/>
                  <a:chExt cx="319680" cy="265680"/>
                </a:xfrm>
              </p:grpSpPr>
              <p:sp>
                <p:nvSpPr>
                  <p:cNvPr id="2195" name=""/>
                  <p:cNvSpPr/>
                  <p:nvPr/>
                </p:nvSpPr>
                <p:spPr>
                  <a:xfrm flipH="1" rot="18900000">
                    <a:off x="2481480" y="224784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 flipH="1" rot="900000">
                    <a:off x="2562120" y="23151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 flipH="1" rot="900000">
                    <a:off x="2538360" y="2354400"/>
                    <a:ext cx="18972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 flipH="1" rot="900000">
                    <a:off x="2542320" y="23893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 flipH="1" rot="900000">
                    <a:off x="2487240" y="241452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 flipH="1" rot="900000">
                    <a:off x="2426040" y="2284920"/>
                    <a:ext cx="178560" cy="14940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01" name=""/>
            <p:cNvGrpSpPr/>
            <p:nvPr/>
          </p:nvGrpSpPr>
          <p:grpSpPr>
            <a:xfrm>
              <a:off x="2432160" y="2444760"/>
              <a:ext cx="403200" cy="149040"/>
              <a:chOff x="2432160" y="2444760"/>
              <a:chExt cx="403200" cy="149040"/>
            </a:xfrm>
          </p:grpSpPr>
          <p:sp>
            <p:nvSpPr>
              <p:cNvPr id="2202" name=""/>
              <p:cNvSpPr txBox="1"/>
              <p:nvPr/>
            </p:nvSpPr>
            <p:spPr>
              <a:xfrm>
                <a:off x="2435400" y="24447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契約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203" name=""/>
              <p:cNvSpPr txBox="1"/>
              <p:nvPr/>
            </p:nvSpPr>
            <p:spPr>
              <a:xfrm>
                <a:off x="2432160" y="24447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契約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204" name=""/>
          <p:cNvGrpSpPr/>
          <p:nvPr/>
        </p:nvGrpSpPr>
        <p:grpSpPr>
          <a:xfrm>
            <a:off x="4737240" y="3500280"/>
            <a:ext cx="402840" cy="293760"/>
            <a:chOff x="4737240" y="3500280"/>
            <a:chExt cx="402840" cy="293760"/>
          </a:xfrm>
        </p:grpSpPr>
        <p:grpSp>
          <p:nvGrpSpPr>
            <p:cNvPr id="2205" name=""/>
            <p:cNvGrpSpPr/>
            <p:nvPr/>
          </p:nvGrpSpPr>
          <p:grpSpPr>
            <a:xfrm>
              <a:off x="4757760" y="3500280"/>
              <a:ext cx="363600" cy="123840"/>
              <a:chOff x="4757760" y="3500280"/>
              <a:chExt cx="363600" cy="123840"/>
            </a:xfrm>
          </p:grpSpPr>
          <p:grpSp>
            <p:nvGrpSpPr>
              <p:cNvPr id="2206" name=""/>
              <p:cNvGrpSpPr/>
              <p:nvPr/>
            </p:nvGrpSpPr>
            <p:grpSpPr>
              <a:xfrm>
                <a:off x="4757760" y="3500280"/>
                <a:ext cx="363600" cy="123840"/>
                <a:chOff x="4757760" y="3500280"/>
                <a:chExt cx="363600" cy="123840"/>
              </a:xfrm>
            </p:grpSpPr>
            <p:sp>
              <p:nvSpPr>
                <p:cNvPr id="2207" name=""/>
                <p:cNvSpPr/>
                <p:nvPr/>
              </p:nvSpPr>
              <p:spPr>
                <a:xfrm>
                  <a:off x="4819320" y="3546720"/>
                  <a:ext cx="219600" cy="309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rot="16200000">
                  <a:off x="4757040" y="3522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rot="5400000">
                  <a:off x="4996440" y="3522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101560" y="3500280"/>
                  <a:ext cx="19800" cy="123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4757760" y="3500280"/>
                  <a:ext cx="19800" cy="123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"/>
              <p:cNvGrpSpPr/>
              <p:nvPr/>
            </p:nvGrpSpPr>
            <p:grpSpPr>
              <a:xfrm>
                <a:off x="4757760" y="3500280"/>
                <a:ext cx="363600" cy="123840"/>
                <a:chOff x="4757760" y="3500280"/>
                <a:chExt cx="363600" cy="123840"/>
              </a:xfrm>
            </p:grpSpPr>
            <p:sp>
              <p:nvSpPr>
                <p:cNvPr id="2213" name=""/>
                <p:cNvSpPr/>
                <p:nvPr/>
              </p:nvSpPr>
              <p:spPr>
                <a:xfrm>
                  <a:off x="4819320" y="3546720"/>
                  <a:ext cx="219600" cy="30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 rot="16200000">
                  <a:off x="4757040" y="3522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rot="5400000">
                  <a:off x="4996440" y="3522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101560" y="3500280"/>
                  <a:ext cx="19800" cy="12384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4757760" y="3500280"/>
                  <a:ext cx="19800" cy="12384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8" name=""/>
            <p:cNvGrpSpPr/>
            <p:nvPr/>
          </p:nvGrpSpPr>
          <p:grpSpPr>
            <a:xfrm>
              <a:off x="4737240" y="3644640"/>
              <a:ext cx="402840" cy="149400"/>
              <a:chOff x="4737240" y="3644640"/>
              <a:chExt cx="402840" cy="149400"/>
            </a:xfrm>
          </p:grpSpPr>
          <p:sp>
            <p:nvSpPr>
              <p:cNvPr id="2219" name=""/>
              <p:cNvSpPr txBox="1"/>
              <p:nvPr/>
            </p:nvSpPr>
            <p:spPr>
              <a:xfrm>
                <a:off x="4740120" y="3644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開発期間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220" name=""/>
              <p:cNvSpPr txBox="1"/>
              <p:nvPr/>
            </p:nvSpPr>
            <p:spPr>
              <a:xfrm>
                <a:off x="4737240" y="364464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開発期間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221" name=""/>
          <p:cNvGrpSpPr/>
          <p:nvPr/>
        </p:nvGrpSpPr>
        <p:grpSpPr>
          <a:xfrm>
            <a:off x="7473960" y="3645000"/>
            <a:ext cx="399960" cy="438120"/>
            <a:chOff x="7473960" y="3645000"/>
            <a:chExt cx="399960" cy="438120"/>
          </a:xfrm>
        </p:grpSpPr>
        <p:grpSp>
          <p:nvGrpSpPr>
            <p:cNvPr id="2222" name=""/>
            <p:cNvGrpSpPr/>
            <p:nvPr/>
          </p:nvGrpSpPr>
          <p:grpSpPr>
            <a:xfrm>
              <a:off x="7497720" y="3645000"/>
              <a:ext cx="354960" cy="355680"/>
              <a:chOff x="7497720" y="3645000"/>
              <a:chExt cx="354960" cy="355680"/>
            </a:xfrm>
          </p:grpSpPr>
          <p:sp>
            <p:nvSpPr>
              <p:cNvPr id="2223" name=""/>
              <p:cNvSpPr/>
              <p:nvPr/>
            </p:nvSpPr>
            <p:spPr>
              <a:xfrm>
                <a:off x="7497720" y="3645000"/>
                <a:ext cx="354960" cy="355680"/>
              </a:xfrm>
              <a:custGeom>
                <a:avLst/>
                <a:gdLst/>
                <a:ahLst/>
                <a:rect l="l" t="t" r="r" b="b"/>
                <a:pathLst>
                  <a:path w="317" h="317">
                    <a:moveTo>
                      <a:pt x="249" y="0"/>
                    </a:moveTo>
                    <a:lnTo>
                      <a:pt x="208" y="29"/>
                    </a:lnTo>
                    <a:lnTo>
                      <a:pt x="239" y="47"/>
                    </a:lnTo>
                    <a:lnTo>
                      <a:pt x="272" y="23"/>
                    </a:lnTo>
                    <a:lnTo>
                      <a:pt x="317" y="91"/>
                    </a:lnTo>
                    <a:lnTo>
                      <a:pt x="317" y="204"/>
                    </a:lnTo>
                    <a:lnTo>
                      <a:pt x="158" y="317"/>
                    </a:lnTo>
                    <a:lnTo>
                      <a:pt x="0" y="227"/>
                    </a:lnTo>
                    <a:lnTo>
                      <a:pt x="0" y="113"/>
                    </a:lnTo>
                    <a:lnTo>
                      <a:pt x="158" y="0"/>
                    </a:lnTo>
                    <a:lnTo>
                      <a:pt x="249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497720" y="3645000"/>
                <a:ext cx="177840" cy="253440"/>
              </a:xfrm>
              <a:custGeom>
                <a:avLst/>
                <a:gdLst/>
                <a:ahLst/>
                <a:rect l="l" t="t" r="r" b="b"/>
                <a:pathLst>
                  <a:path w="159" h="226">
                    <a:moveTo>
                      <a:pt x="0" y="226"/>
                    </a:moveTo>
                    <a:lnTo>
                      <a:pt x="159" y="113"/>
                    </a:lnTo>
                    <a:lnTo>
                      <a:pt x="159" y="0"/>
                    </a:lnTo>
                    <a:lnTo>
                      <a:pt x="0" y="113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674480" y="3747240"/>
                <a:ext cx="177840" cy="253440"/>
              </a:xfrm>
              <a:custGeom>
                <a:avLst/>
                <a:gdLst/>
                <a:ahLst/>
                <a:rect l="l" t="t" r="r" b="b"/>
                <a:pathLst>
                  <a:path w="159" h="226">
                    <a:moveTo>
                      <a:pt x="0" y="226"/>
                    </a:moveTo>
                    <a:lnTo>
                      <a:pt x="159" y="113"/>
                    </a:lnTo>
                    <a:lnTo>
                      <a:pt x="159" y="0"/>
                    </a:lnTo>
                    <a:lnTo>
                      <a:pt x="0" y="113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497720" y="3645000"/>
                <a:ext cx="354960" cy="228960"/>
              </a:xfrm>
              <a:custGeom>
                <a:avLst/>
                <a:gdLst/>
                <a:ahLst/>
                <a:rect l="l" t="t" r="r" b="b"/>
                <a:pathLst>
                  <a:path w="317" h="204">
                    <a:moveTo>
                      <a:pt x="317" y="91"/>
                    </a:moveTo>
                    <a:lnTo>
                      <a:pt x="158" y="0"/>
                    </a:lnTo>
                    <a:lnTo>
                      <a:pt x="0" y="113"/>
                    </a:lnTo>
                    <a:lnTo>
                      <a:pt x="158" y="204"/>
                    </a:lnTo>
                    <a:lnTo>
                      <a:pt x="317" y="91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497720" y="3645000"/>
                <a:ext cx="176760" cy="254520"/>
              </a:xfrm>
              <a:custGeom>
                <a:avLst/>
                <a:gdLst/>
                <a:ahLst/>
                <a:rect l="l" t="t" r="r" b="b"/>
                <a:pathLst>
                  <a:path w="158" h="227">
                    <a:moveTo>
                      <a:pt x="158" y="0"/>
                    </a:moveTo>
                    <a:lnTo>
                      <a:pt x="158" y="113"/>
                    </a:lnTo>
                    <a:lnTo>
                      <a:pt x="0" y="227"/>
                    </a:lnTo>
                    <a:lnTo>
                      <a:pt x="0" y="113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497720" y="3771720"/>
                <a:ext cx="176760" cy="228600"/>
              </a:xfrm>
              <a:custGeom>
                <a:avLst/>
                <a:gdLst/>
                <a:ahLst/>
                <a:rect l="l" t="t" r="r" b="b"/>
                <a:pathLst>
                  <a:path w="158" h="204">
                    <a:moveTo>
                      <a:pt x="158" y="91"/>
                    </a:moveTo>
                    <a:lnTo>
                      <a:pt x="0" y="0"/>
                    </a:lnTo>
                    <a:lnTo>
                      <a:pt x="0" y="114"/>
                    </a:lnTo>
                    <a:lnTo>
                      <a:pt x="158" y="204"/>
                    </a:lnTo>
                    <a:lnTo>
                      <a:pt x="158" y="9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624440" y="3670920"/>
                <a:ext cx="228240" cy="203040"/>
              </a:xfrm>
              <a:custGeom>
                <a:avLst/>
                <a:gdLst/>
                <a:ahLst/>
                <a:rect l="l" t="t" r="r" b="b"/>
                <a:pathLst>
                  <a:path w="204" h="181">
                    <a:moveTo>
                      <a:pt x="45" y="181"/>
                    </a:moveTo>
                    <a:lnTo>
                      <a:pt x="204" y="68"/>
                    </a:lnTo>
                    <a:lnTo>
                      <a:pt x="159" y="0"/>
                    </a:lnTo>
                    <a:lnTo>
                      <a:pt x="0" y="113"/>
                    </a:lnTo>
                    <a:lnTo>
                      <a:pt x="45" y="18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497720" y="3645000"/>
                <a:ext cx="278640" cy="126720"/>
              </a:xfrm>
              <a:custGeom>
                <a:avLst/>
                <a:gdLst/>
                <a:ahLst/>
                <a:rect l="l" t="t" r="r" b="b"/>
                <a:pathLst>
                  <a:path w="249" h="113">
                    <a:moveTo>
                      <a:pt x="0" y="113"/>
                    </a:moveTo>
                    <a:lnTo>
                      <a:pt x="158" y="0"/>
                    </a:lnTo>
                    <a:lnTo>
                      <a:pt x="249" y="0"/>
                    </a:lnTo>
                    <a:lnTo>
                      <a:pt x="90" y="11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1" name=""/>
            <p:cNvGrpSpPr/>
            <p:nvPr/>
          </p:nvGrpSpPr>
          <p:grpSpPr>
            <a:xfrm>
              <a:off x="7473960" y="3933720"/>
              <a:ext cx="399960" cy="149400"/>
              <a:chOff x="7473960" y="3933720"/>
              <a:chExt cx="399960" cy="149400"/>
            </a:xfrm>
          </p:grpSpPr>
          <p:sp>
            <p:nvSpPr>
              <p:cNvPr id="2232" name=""/>
              <p:cNvSpPr txBox="1"/>
              <p:nvPr/>
            </p:nvSpPr>
            <p:spPr>
              <a:xfrm>
                <a:off x="7473960" y="39337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納品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233" name=""/>
              <p:cNvSpPr txBox="1"/>
              <p:nvPr/>
            </p:nvSpPr>
            <p:spPr>
              <a:xfrm>
                <a:off x="7473960" y="393372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納品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234" name=""/>
          <p:cNvGrpSpPr/>
          <p:nvPr/>
        </p:nvGrpSpPr>
        <p:grpSpPr>
          <a:xfrm>
            <a:off x="8008920" y="2781360"/>
            <a:ext cx="399960" cy="433440"/>
            <a:chOff x="8008920" y="2781360"/>
            <a:chExt cx="399960" cy="433440"/>
          </a:xfrm>
        </p:grpSpPr>
        <p:grpSp>
          <p:nvGrpSpPr>
            <p:cNvPr id="2235" name=""/>
            <p:cNvGrpSpPr/>
            <p:nvPr/>
          </p:nvGrpSpPr>
          <p:grpSpPr>
            <a:xfrm>
              <a:off x="8018280" y="2781360"/>
              <a:ext cx="379080" cy="316080"/>
              <a:chOff x="8018280" y="2781360"/>
              <a:chExt cx="379080" cy="316080"/>
            </a:xfrm>
          </p:grpSpPr>
          <p:grpSp>
            <p:nvGrpSpPr>
              <p:cNvPr id="2236" name=""/>
              <p:cNvGrpSpPr/>
              <p:nvPr/>
            </p:nvGrpSpPr>
            <p:grpSpPr>
              <a:xfrm>
                <a:off x="8018280" y="2781360"/>
                <a:ext cx="379080" cy="316080"/>
                <a:chOff x="8018280" y="2781360"/>
                <a:chExt cx="379080" cy="316080"/>
              </a:xfrm>
            </p:grpSpPr>
            <p:sp>
              <p:nvSpPr>
                <p:cNvPr id="2237" name=""/>
                <p:cNvSpPr/>
                <p:nvPr/>
              </p:nvSpPr>
              <p:spPr>
                <a:xfrm>
                  <a:off x="8175960" y="2813400"/>
                  <a:ext cx="221400" cy="2836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8145360" y="2845440"/>
                  <a:ext cx="221400" cy="25200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8145360" y="2814480"/>
                  <a:ext cx="221400" cy="320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8233200" y="2781360"/>
                  <a:ext cx="44280" cy="4464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8018280" y="2845440"/>
                  <a:ext cx="348480" cy="189360"/>
                </a:xfrm>
                <a:custGeom>
                  <a:avLst/>
                  <a:gdLst/>
                  <a:ahLst/>
                  <a:rect l="l" t="t" r="r" b="b"/>
                  <a:pathLst>
                    <a:path w="250" h="136">
                      <a:moveTo>
                        <a:pt x="250" y="0"/>
                      </a:moveTo>
                      <a:lnTo>
                        <a:pt x="250" y="22"/>
                      </a:lnTo>
                      <a:lnTo>
                        <a:pt x="204" y="113"/>
                      </a:lnTo>
                      <a:lnTo>
                        <a:pt x="159" y="136"/>
                      </a:lnTo>
                      <a:lnTo>
                        <a:pt x="0" y="136"/>
                      </a:lnTo>
                      <a:lnTo>
                        <a:pt x="45" y="113"/>
                      </a:lnTo>
                      <a:lnTo>
                        <a:pt x="91" y="22"/>
                      </a:lnTo>
                      <a:lnTo>
                        <a:pt x="91" y="0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2" name=""/>
              <p:cNvGrpSpPr/>
              <p:nvPr/>
            </p:nvGrpSpPr>
            <p:grpSpPr>
              <a:xfrm>
                <a:off x="8018280" y="2781360"/>
                <a:ext cx="379080" cy="316080"/>
                <a:chOff x="8018280" y="2781360"/>
                <a:chExt cx="379080" cy="316080"/>
              </a:xfrm>
            </p:grpSpPr>
            <p:sp>
              <p:nvSpPr>
                <p:cNvPr id="2243" name=""/>
                <p:cNvSpPr/>
                <p:nvPr/>
              </p:nvSpPr>
              <p:spPr>
                <a:xfrm>
                  <a:off x="8175600" y="2813400"/>
                  <a:ext cx="221760" cy="2836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8145000" y="2845440"/>
                  <a:ext cx="221760" cy="2520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8145000" y="2814480"/>
                  <a:ext cx="221760" cy="3168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8232840" y="2781360"/>
                  <a:ext cx="44280" cy="4428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 txBox="1"/>
                <p:nvPr/>
              </p:nvSpPr>
              <p:spPr>
                <a:xfrm>
                  <a:off x="8208000" y="2907720"/>
                  <a:ext cx="86040" cy="155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0">
                        <a:noFill/>
                      </a:ln>
                      <a:solidFill>
                        <a:srgbClr val="969696"/>
                      </a:solidFill>
                      <a:latin typeface="Arial Black"/>
                    </a:rPr>
                    <a:t>1</a:t>
                  </a:r>
                  <a:endParaRPr b="0" lang="en-US" sz="1800" spc="1" strike="noStrike">
                    <a:ln w="0">
                      <a:noFill/>
                    </a:ln>
                    <a:solidFill>
                      <a:srgbClr val="969696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8018280" y="2845440"/>
                  <a:ext cx="348480" cy="189360"/>
                </a:xfrm>
                <a:custGeom>
                  <a:avLst/>
                  <a:gdLst/>
                  <a:ahLst/>
                  <a:rect l="l" t="t" r="r" b="b"/>
                  <a:pathLst>
                    <a:path w="250" h="136">
                      <a:moveTo>
                        <a:pt x="250" y="0"/>
                      </a:moveTo>
                      <a:lnTo>
                        <a:pt x="250" y="22"/>
                      </a:lnTo>
                      <a:lnTo>
                        <a:pt x="204" y="113"/>
                      </a:lnTo>
                      <a:lnTo>
                        <a:pt x="159" y="136"/>
                      </a:lnTo>
                      <a:lnTo>
                        <a:pt x="0" y="136"/>
                      </a:lnTo>
                      <a:lnTo>
                        <a:pt x="45" y="113"/>
                      </a:lnTo>
                      <a:lnTo>
                        <a:pt x="91" y="22"/>
                      </a:lnTo>
                      <a:lnTo>
                        <a:pt x="91" y="0"/>
                      </a:lnTo>
                      <a:lnTo>
                        <a:pt x="2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9" name=""/>
            <p:cNvGrpSpPr/>
            <p:nvPr/>
          </p:nvGrpSpPr>
          <p:grpSpPr>
            <a:xfrm>
              <a:off x="8008920" y="3065760"/>
              <a:ext cx="399960" cy="149040"/>
              <a:chOff x="8008920" y="3065760"/>
              <a:chExt cx="399960" cy="149040"/>
            </a:xfrm>
          </p:grpSpPr>
          <p:sp>
            <p:nvSpPr>
              <p:cNvPr id="2250" name=""/>
              <p:cNvSpPr txBox="1"/>
              <p:nvPr/>
            </p:nvSpPr>
            <p:spPr>
              <a:xfrm>
                <a:off x="8008920" y="30657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納期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251" name=""/>
              <p:cNvSpPr txBox="1"/>
              <p:nvPr/>
            </p:nvSpPr>
            <p:spPr>
              <a:xfrm>
                <a:off x="8008920" y="30657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納期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252" name=""/>
          <p:cNvGrpSpPr/>
          <p:nvPr/>
        </p:nvGrpSpPr>
        <p:grpSpPr>
          <a:xfrm>
            <a:off x="2127240" y="1625040"/>
            <a:ext cx="433080" cy="392400"/>
            <a:chOff x="2127240" y="1625040"/>
            <a:chExt cx="433080" cy="392400"/>
          </a:xfrm>
        </p:grpSpPr>
        <p:grpSp>
          <p:nvGrpSpPr>
            <p:cNvPr id="2253" name=""/>
            <p:cNvGrpSpPr/>
            <p:nvPr/>
          </p:nvGrpSpPr>
          <p:grpSpPr>
            <a:xfrm>
              <a:off x="2127240" y="1625040"/>
              <a:ext cx="433080" cy="266040"/>
              <a:chOff x="2127240" y="1625040"/>
              <a:chExt cx="433080" cy="266040"/>
            </a:xfrm>
          </p:grpSpPr>
          <p:grpSp>
            <p:nvGrpSpPr>
              <p:cNvPr id="2254" name=""/>
              <p:cNvGrpSpPr/>
              <p:nvPr/>
            </p:nvGrpSpPr>
            <p:grpSpPr>
              <a:xfrm>
                <a:off x="2240640" y="1625040"/>
                <a:ext cx="319680" cy="266040"/>
                <a:chOff x="2240640" y="1625040"/>
                <a:chExt cx="319680" cy="266040"/>
              </a:xfrm>
            </p:grpSpPr>
            <p:grpSp>
              <p:nvGrpSpPr>
                <p:cNvPr id="2255" name=""/>
                <p:cNvGrpSpPr/>
                <p:nvPr/>
              </p:nvGrpSpPr>
              <p:grpSpPr>
                <a:xfrm>
                  <a:off x="2240640" y="1625040"/>
                  <a:ext cx="319680" cy="266040"/>
                  <a:chOff x="2240640" y="1625040"/>
                  <a:chExt cx="319680" cy="266040"/>
                </a:xfrm>
              </p:grpSpPr>
              <p:sp>
                <p:nvSpPr>
                  <p:cNvPr id="2256" name=""/>
                  <p:cNvSpPr/>
                  <p:nvPr/>
                </p:nvSpPr>
                <p:spPr>
                  <a:xfrm rot="2700000">
                    <a:off x="2337840" y="167148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 rot="20700000">
                    <a:off x="2262600" y="173880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 rot="20700000">
                    <a:off x="2241720" y="1778040"/>
                    <a:ext cx="18972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 rot="20700000">
                    <a:off x="2282400" y="18129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 rot="20700000">
                    <a:off x="2337480" y="18381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 rot="20700000">
                    <a:off x="2365560" y="1708560"/>
                    <a:ext cx="17820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2" name=""/>
                <p:cNvGrpSpPr/>
                <p:nvPr/>
              </p:nvGrpSpPr>
              <p:grpSpPr>
                <a:xfrm>
                  <a:off x="2240640" y="1625040"/>
                  <a:ext cx="319680" cy="266040"/>
                  <a:chOff x="2240640" y="1625040"/>
                  <a:chExt cx="319680" cy="266040"/>
                </a:xfrm>
              </p:grpSpPr>
              <p:sp>
                <p:nvSpPr>
                  <p:cNvPr id="2263" name=""/>
                  <p:cNvSpPr/>
                  <p:nvPr/>
                </p:nvSpPr>
                <p:spPr>
                  <a:xfrm rot="2700000">
                    <a:off x="2337840" y="167148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 rot="20700000">
                    <a:off x="2262600" y="173880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 rot="20700000">
                    <a:off x="2241720" y="1778040"/>
                    <a:ext cx="18972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 rot="20700000">
                    <a:off x="2282400" y="18129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 rot="20700000">
                    <a:off x="2337480" y="1838160"/>
                    <a:ext cx="145080" cy="34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 rot="20700000">
                    <a:off x="2365560" y="1708560"/>
                    <a:ext cx="17820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9" name=""/>
              <p:cNvGrpSpPr/>
              <p:nvPr/>
            </p:nvGrpSpPr>
            <p:grpSpPr>
              <a:xfrm>
                <a:off x="2127240" y="1625040"/>
                <a:ext cx="319680" cy="265680"/>
                <a:chOff x="2127240" y="1625040"/>
                <a:chExt cx="319680" cy="265680"/>
              </a:xfrm>
            </p:grpSpPr>
            <p:grpSp>
              <p:nvGrpSpPr>
                <p:cNvPr id="2270" name=""/>
                <p:cNvGrpSpPr/>
                <p:nvPr/>
              </p:nvGrpSpPr>
              <p:grpSpPr>
                <a:xfrm>
                  <a:off x="2127240" y="1625040"/>
                  <a:ext cx="319680" cy="265680"/>
                  <a:chOff x="2127240" y="1625040"/>
                  <a:chExt cx="319680" cy="265680"/>
                </a:xfrm>
              </p:grpSpPr>
              <p:sp>
                <p:nvSpPr>
                  <p:cNvPr id="2271" name=""/>
                  <p:cNvSpPr/>
                  <p:nvPr/>
                </p:nvSpPr>
                <p:spPr>
                  <a:xfrm flipH="1" rot="18900000">
                    <a:off x="2199240" y="167148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 flipH="1" rot="900000">
                    <a:off x="2279520" y="173880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 flipH="1" rot="900000">
                    <a:off x="2255760" y="1778040"/>
                    <a:ext cx="18972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 flipH="1" rot="900000">
                    <a:off x="2259720" y="18129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 flipH="1" rot="900000">
                    <a:off x="2204640" y="18381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 flipH="1" rot="900000">
                    <a:off x="2143440" y="1708560"/>
                    <a:ext cx="17820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7" name=""/>
                <p:cNvGrpSpPr/>
                <p:nvPr/>
              </p:nvGrpSpPr>
              <p:grpSpPr>
                <a:xfrm>
                  <a:off x="2127240" y="1625040"/>
                  <a:ext cx="319680" cy="265680"/>
                  <a:chOff x="2127240" y="1625040"/>
                  <a:chExt cx="319680" cy="265680"/>
                </a:xfrm>
              </p:grpSpPr>
              <p:sp>
                <p:nvSpPr>
                  <p:cNvPr id="2278" name=""/>
                  <p:cNvSpPr/>
                  <p:nvPr/>
                </p:nvSpPr>
                <p:spPr>
                  <a:xfrm flipH="1" rot="18900000">
                    <a:off x="2199240" y="1671480"/>
                    <a:ext cx="149760" cy="44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 flipH="1" rot="900000">
                    <a:off x="2279520" y="173880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 flipH="1" rot="900000">
                    <a:off x="2255760" y="1778040"/>
                    <a:ext cx="18972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 flipH="1" rot="900000">
                    <a:off x="2259720" y="18129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 flipH="1" rot="900000">
                    <a:off x="2204640" y="1838160"/>
                    <a:ext cx="145080" cy="342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H="1" rot="900000">
                    <a:off x="2143440" y="1708560"/>
                    <a:ext cx="178200" cy="149760"/>
                  </a:xfrm>
                  <a:prstGeom prst="roundRect">
                    <a:avLst>
                      <a:gd name="adj" fmla="val 34236"/>
                    </a:avLst>
                  </a:prstGeom>
                  <a:solidFill>
                    <a:srgbClr val="ff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4" name=""/>
            <p:cNvGrpSpPr/>
            <p:nvPr/>
          </p:nvGrpSpPr>
          <p:grpSpPr>
            <a:xfrm>
              <a:off x="2144880" y="1868400"/>
              <a:ext cx="402840" cy="149040"/>
              <a:chOff x="2144880" y="1868400"/>
              <a:chExt cx="402840" cy="149040"/>
            </a:xfrm>
          </p:grpSpPr>
          <p:sp>
            <p:nvSpPr>
              <p:cNvPr id="2285" name=""/>
              <p:cNvSpPr txBox="1"/>
              <p:nvPr/>
            </p:nvSpPr>
            <p:spPr>
              <a:xfrm>
                <a:off x="2147760" y="186840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仮契約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286" name=""/>
              <p:cNvSpPr txBox="1"/>
              <p:nvPr/>
            </p:nvSpPr>
            <p:spPr>
              <a:xfrm>
                <a:off x="2144880" y="186840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仮契約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287" name=""/>
          <p:cNvGrpSpPr/>
          <p:nvPr/>
        </p:nvGrpSpPr>
        <p:grpSpPr>
          <a:xfrm>
            <a:off x="6824520" y="3641040"/>
            <a:ext cx="402840" cy="441720"/>
            <a:chOff x="6824520" y="3641040"/>
            <a:chExt cx="402840" cy="441720"/>
          </a:xfrm>
        </p:grpSpPr>
        <p:grpSp>
          <p:nvGrpSpPr>
            <p:cNvPr id="2288" name=""/>
            <p:cNvGrpSpPr/>
            <p:nvPr/>
          </p:nvGrpSpPr>
          <p:grpSpPr>
            <a:xfrm>
              <a:off x="6883200" y="3645000"/>
              <a:ext cx="283680" cy="379080"/>
              <a:chOff x="6883200" y="3645000"/>
              <a:chExt cx="283680" cy="379080"/>
            </a:xfrm>
          </p:grpSpPr>
          <p:sp>
            <p:nvSpPr>
              <p:cNvPr id="2289" name=""/>
              <p:cNvSpPr/>
              <p:nvPr/>
            </p:nvSpPr>
            <p:spPr>
              <a:xfrm>
                <a:off x="6883200" y="3645000"/>
                <a:ext cx="283680" cy="379080"/>
              </a:xfrm>
              <a:custGeom>
                <a:avLst/>
                <a:gdLst/>
                <a:ahLst/>
                <a:rect l="l" t="t" r="r" b="b"/>
                <a:pathLst>
                  <a:path w="408" h="544">
                    <a:moveTo>
                      <a:pt x="318" y="544"/>
                    </a:moveTo>
                    <a:lnTo>
                      <a:pt x="408" y="453"/>
                    </a:lnTo>
                    <a:lnTo>
                      <a:pt x="408" y="0"/>
                    </a:lnTo>
                    <a:lnTo>
                      <a:pt x="0" y="0"/>
                    </a:lnTo>
                    <a:lnTo>
                      <a:pt x="0" y="544"/>
                    </a:lnTo>
                    <a:lnTo>
                      <a:pt x="318" y="544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0" name=""/>
              <p:cNvGrpSpPr/>
              <p:nvPr/>
            </p:nvGrpSpPr>
            <p:grpSpPr>
              <a:xfrm>
                <a:off x="6883200" y="3645000"/>
                <a:ext cx="283680" cy="379080"/>
                <a:chOff x="6883200" y="3645000"/>
                <a:chExt cx="283680" cy="379080"/>
              </a:xfrm>
            </p:grpSpPr>
            <p:sp>
              <p:nvSpPr>
                <p:cNvPr id="2291" name=""/>
                <p:cNvSpPr/>
                <p:nvPr/>
              </p:nvSpPr>
              <p:spPr>
                <a:xfrm>
                  <a:off x="6883200" y="3645000"/>
                  <a:ext cx="283680" cy="3790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318" y="544"/>
                      </a:moveTo>
                      <a:lnTo>
                        <a:pt x="408" y="453"/>
                      </a:lnTo>
                      <a:lnTo>
                        <a:pt x="408" y="0"/>
                      </a:lnTo>
                      <a:lnTo>
                        <a:pt x="0" y="0"/>
                      </a:lnTo>
                      <a:lnTo>
                        <a:pt x="0" y="544"/>
                      </a:lnTo>
                      <a:lnTo>
                        <a:pt x="318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cf6f6"/>
                    </a:gs>
                    <a:gs pos="100000">
                      <a:srgbClr val="bbe0e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6914160" y="3677040"/>
                  <a:ext cx="221040" cy="3096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93" name=""/>
                <p:cNvGrpSpPr/>
                <p:nvPr/>
              </p:nvGrpSpPr>
              <p:grpSpPr>
                <a:xfrm>
                  <a:off x="6914160" y="3739680"/>
                  <a:ext cx="221040" cy="253080"/>
                  <a:chOff x="6914160" y="3739680"/>
                  <a:chExt cx="221040" cy="253080"/>
                </a:xfrm>
              </p:grpSpPr>
              <p:sp>
                <p:nvSpPr>
                  <p:cNvPr id="2294" name=""/>
                  <p:cNvSpPr/>
                  <p:nvPr/>
                </p:nvSpPr>
                <p:spPr>
                  <a:xfrm>
                    <a:off x="6914160" y="376812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6914160" y="378288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6914160" y="379728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6914160" y="381204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6914160" y="373968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6914160" y="375372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6914160" y="385596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6914160" y="387036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6914160" y="388512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6914160" y="389988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6914160" y="382680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6914160" y="384120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6914160" y="394380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6914160" y="395820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6914160" y="397296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6914160" y="398736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6914160" y="391428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6914160" y="3929040"/>
                    <a:ext cx="221040" cy="5400"/>
                  </a:xfrm>
                  <a:prstGeom prst="rect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2" name=""/>
                <p:cNvSpPr/>
                <p:nvPr/>
              </p:nvSpPr>
              <p:spPr>
                <a:xfrm>
                  <a:off x="7104240" y="3961440"/>
                  <a:ext cx="62640" cy="62640"/>
                </a:xfrm>
                <a:custGeom>
                  <a:avLst/>
                  <a:gdLst/>
                  <a:ahLst/>
                  <a:rect l="l" t="t" r="r" b="b"/>
                  <a:pathLst>
                    <a:path w="90" h="90">
                      <a:moveTo>
                        <a:pt x="9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3" name=""/>
            <p:cNvGrpSpPr/>
            <p:nvPr/>
          </p:nvGrpSpPr>
          <p:grpSpPr>
            <a:xfrm>
              <a:off x="6870600" y="3641040"/>
              <a:ext cx="277560" cy="230400"/>
              <a:chOff x="6870600" y="3641040"/>
              <a:chExt cx="277560" cy="230400"/>
            </a:xfrm>
          </p:grpSpPr>
          <p:grpSp>
            <p:nvGrpSpPr>
              <p:cNvPr id="2314" name=""/>
              <p:cNvGrpSpPr/>
              <p:nvPr/>
            </p:nvGrpSpPr>
            <p:grpSpPr>
              <a:xfrm>
                <a:off x="6870600" y="3641400"/>
                <a:ext cx="277560" cy="230040"/>
                <a:chOff x="6870600" y="3641400"/>
                <a:chExt cx="277560" cy="230040"/>
              </a:xfrm>
            </p:grpSpPr>
            <p:sp>
              <p:nvSpPr>
                <p:cNvPr id="2315" name=""/>
                <p:cNvSpPr/>
                <p:nvPr/>
              </p:nvSpPr>
              <p:spPr>
                <a:xfrm rot="18240600">
                  <a:off x="6901200" y="3671280"/>
                  <a:ext cx="156240" cy="15768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rot="18240600">
                  <a:off x="7052400" y="3773160"/>
                  <a:ext cx="21960" cy="6732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rot="18240600">
                  <a:off x="7089120" y="3796200"/>
                  <a:ext cx="33480" cy="78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8" name=""/>
              <p:cNvGrpSpPr/>
              <p:nvPr/>
            </p:nvGrpSpPr>
            <p:grpSpPr>
              <a:xfrm>
                <a:off x="6870600" y="3641040"/>
                <a:ext cx="277560" cy="230400"/>
                <a:chOff x="6870600" y="3641040"/>
                <a:chExt cx="277560" cy="230400"/>
              </a:xfrm>
            </p:grpSpPr>
            <p:sp>
              <p:nvSpPr>
                <p:cNvPr id="2319" name=""/>
                <p:cNvSpPr/>
                <p:nvPr/>
              </p:nvSpPr>
              <p:spPr>
                <a:xfrm rot="18240600">
                  <a:off x="7053120" y="3773160"/>
                  <a:ext cx="21960" cy="67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rot="18240600">
                  <a:off x="6912720" y="3682440"/>
                  <a:ext cx="134280" cy="13536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rot="18240600">
                  <a:off x="6901560" y="3670920"/>
                  <a:ext cx="156600" cy="158040"/>
                </a:xfrm>
                <a:prstGeom prst="donut">
                  <a:avLst>
                    <a:gd name="adj" fmla="val 12731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rot="18240600">
                  <a:off x="7089120" y="3796200"/>
                  <a:ext cx="33480" cy="7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3" name=""/>
            <p:cNvGrpSpPr/>
            <p:nvPr/>
          </p:nvGrpSpPr>
          <p:grpSpPr>
            <a:xfrm>
              <a:off x="6824520" y="3933720"/>
              <a:ext cx="402840" cy="149040"/>
              <a:chOff x="6824520" y="3933720"/>
              <a:chExt cx="402840" cy="149040"/>
            </a:xfrm>
          </p:grpSpPr>
          <p:sp>
            <p:nvSpPr>
              <p:cNvPr id="2324" name=""/>
              <p:cNvSpPr txBox="1"/>
              <p:nvPr/>
            </p:nvSpPr>
            <p:spPr>
              <a:xfrm>
                <a:off x="6827400" y="393372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審査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325" name=""/>
              <p:cNvSpPr txBox="1"/>
              <p:nvPr/>
            </p:nvSpPr>
            <p:spPr>
              <a:xfrm>
                <a:off x="6824520" y="393372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審査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sp>
        <p:nvSpPr>
          <p:cNvPr id="2326" name=""/>
          <p:cNvSpPr/>
          <p:nvPr/>
        </p:nvSpPr>
        <p:spPr>
          <a:xfrm>
            <a:off x="3944880" y="3860640"/>
            <a:ext cx="1800360" cy="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7" name=""/>
          <p:cNvGrpSpPr/>
          <p:nvPr/>
        </p:nvGrpSpPr>
        <p:grpSpPr>
          <a:xfrm>
            <a:off x="5486400" y="2205000"/>
            <a:ext cx="402840" cy="360360"/>
            <a:chOff x="5486400" y="2205000"/>
            <a:chExt cx="402840" cy="360360"/>
          </a:xfrm>
        </p:grpSpPr>
        <p:grpSp>
          <p:nvGrpSpPr>
            <p:cNvPr id="2328" name=""/>
            <p:cNvGrpSpPr/>
            <p:nvPr/>
          </p:nvGrpSpPr>
          <p:grpSpPr>
            <a:xfrm>
              <a:off x="5492520" y="2205000"/>
              <a:ext cx="390600" cy="266040"/>
              <a:chOff x="5492520" y="2205000"/>
              <a:chExt cx="390600" cy="266040"/>
            </a:xfrm>
          </p:grpSpPr>
          <p:grpSp>
            <p:nvGrpSpPr>
              <p:cNvPr id="2329" name=""/>
              <p:cNvGrpSpPr/>
              <p:nvPr/>
            </p:nvGrpSpPr>
            <p:grpSpPr>
              <a:xfrm>
                <a:off x="5558400" y="2205000"/>
                <a:ext cx="120600" cy="206280"/>
                <a:chOff x="5558400" y="2205000"/>
                <a:chExt cx="120600" cy="206280"/>
              </a:xfrm>
            </p:grpSpPr>
            <p:grpSp>
              <p:nvGrpSpPr>
                <p:cNvPr id="2330" name=""/>
                <p:cNvGrpSpPr/>
                <p:nvPr/>
              </p:nvGrpSpPr>
              <p:grpSpPr>
                <a:xfrm>
                  <a:off x="5558400" y="2205000"/>
                  <a:ext cx="120240" cy="206280"/>
                  <a:chOff x="5558400" y="2205000"/>
                  <a:chExt cx="120240" cy="206280"/>
                </a:xfrm>
              </p:grpSpPr>
              <p:sp>
                <p:nvSpPr>
                  <p:cNvPr id="2331" name=""/>
                  <p:cNvSpPr/>
                  <p:nvPr/>
                </p:nvSpPr>
                <p:spPr>
                  <a:xfrm>
                    <a:off x="5573520" y="2205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5558400" y="2293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5558400" y="2352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4" name=""/>
                <p:cNvGrpSpPr/>
                <p:nvPr/>
              </p:nvGrpSpPr>
              <p:grpSpPr>
                <a:xfrm>
                  <a:off x="5558760" y="2205000"/>
                  <a:ext cx="120240" cy="206280"/>
                  <a:chOff x="5558760" y="2205000"/>
                  <a:chExt cx="120240" cy="206280"/>
                </a:xfrm>
              </p:grpSpPr>
              <p:sp>
                <p:nvSpPr>
                  <p:cNvPr id="2335" name=""/>
                  <p:cNvSpPr/>
                  <p:nvPr/>
                </p:nvSpPr>
                <p:spPr>
                  <a:xfrm>
                    <a:off x="5573880" y="2205000"/>
                    <a:ext cx="90000" cy="885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5558760" y="2293560"/>
                    <a:ext cx="120240" cy="1177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5558760" y="2352240"/>
                    <a:ext cx="119520" cy="5904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8" name=""/>
              <p:cNvGrpSpPr/>
              <p:nvPr/>
            </p:nvGrpSpPr>
            <p:grpSpPr>
              <a:xfrm>
                <a:off x="5693400" y="2205000"/>
                <a:ext cx="120960" cy="206280"/>
                <a:chOff x="5693400" y="2205000"/>
                <a:chExt cx="120960" cy="206280"/>
              </a:xfrm>
            </p:grpSpPr>
            <p:grpSp>
              <p:nvGrpSpPr>
                <p:cNvPr id="2339" name=""/>
                <p:cNvGrpSpPr/>
                <p:nvPr/>
              </p:nvGrpSpPr>
              <p:grpSpPr>
                <a:xfrm>
                  <a:off x="5693400" y="2205000"/>
                  <a:ext cx="120240" cy="206280"/>
                  <a:chOff x="5693400" y="2205000"/>
                  <a:chExt cx="120240" cy="206280"/>
                </a:xfrm>
              </p:grpSpPr>
              <p:sp>
                <p:nvSpPr>
                  <p:cNvPr id="2340" name=""/>
                  <p:cNvSpPr/>
                  <p:nvPr/>
                </p:nvSpPr>
                <p:spPr>
                  <a:xfrm>
                    <a:off x="5708520" y="220500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5693400" y="229356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5693400" y="235224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3" name=""/>
                <p:cNvGrpSpPr/>
                <p:nvPr/>
              </p:nvGrpSpPr>
              <p:grpSpPr>
                <a:xfrm>
                  <a:off x="5694120" y="2205000"/>
                  <a:ext cx="120240" cy="206280"/>
                  <a:chOff x="5694120" y="2205000"/>
                  <a:chExt cx="120240" cy="206280"/>
                </a:xfrm>
              </p:grpSpPr>
              <p:sp>
                <p:nvSpPr>
                  <p:cNvPr id="2344" name=""/>
                  <p:cNvSpPr/>
                  <p:nvPr/>
                </p:nvSpPr>
                <p:spPr>
                  <a:xfrm>
                    <a:off x="5709240" y="2205000"/>
                    <a:ext cx="90000" cy="8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5694120" y="2293560"/>
                    <a:ext cx="12024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5694120" y="2352240"/>
                    <a:ext cx="119520" cy="59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47" name=""/>
              <p:cNvGrpSpPr/>
              <p:nvPr/>
            </p:nvGrpSpPr>
            <p:grpSpPr>
              <a:xfrm>
                <a:off x="5492520" y="2264760"/>
                <a:ext cx="120600" cy="206280"/>
                <a:chOff x="5492520" y="2264760"/>
                <a:chExt cx="120600" cy="206280"/>
              </a:xfrm>
            </p:grpSpPr>
            <p:grpSp>
              <p:nvGrpSpPr>
                <p:cNvPr id="2348" name=""/>
                <p:cNvGrpSpPr/>
                <p:nvPr/>
              </p:nvGrpSpPr>
              <p:grpSpPr>
                <a:xfrm>
                  <a:off x="5492520" y="2264760"/>
                  <a:ext cx="120240" cy="206280"/>
                  <a:chOff x="5492520" y="2264760"/>
                  <a:chExt cx="120240" cy="206280"/>
                </a:xfrm>
              </p:grpSpPr>
              <p:sp>
                <p:nvSpPr>
                  <p:cNvPr id="2349" name=""/>
                  <p:cNvSpPr/>
                  <p:nvPr/>
                </p:nvSpPr>
                <p:spPr>
                  <a:xfrm>
                    <a:off x="5507640" y="226476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5492520" y="235332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5492520" y="241200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2" name=""/>
                <p:cNvGrpSpPr/>
                <p:nvPr/>
              </p:nvGrpSpPr>
              <p:grpSpPr>
                <a:xfrm>
                  <a:off x="5492880" y="2264760"/>
                  <a:ext cx="120240" cy="206280"/>
                  <a:chOff x="5492880" y="2264760"/>
                  <a:chExt cx="120240" cy="206280"/>
                </a:xfrm>
              </p:grpSpPr>
              <p:sp>
                <p:nvSpPr>
                  <p:cNvPr id="2353" name=""/>
                  <p:cNvSpPr/>
                  <p:nvPr/>
                </p:nvSpPr>
                <p:spPr>
                  <a:xfrm>
                    <a:off x="5508000" y="2264760"/>
                    <a:ext cx="90000" cy="88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5492880" y="2353320"/>
                    <a:ext cx="120240" cy="11772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5492880" y="2412000"/>
                    <a:ext cx="119520" cy="5904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56" name=""/>
              <p:cNvGrpSpPr/>
              <p:nvPr/>
            </p:nvGrpSpPr>
            <p:grpSpPr>
              <a:xfrm>
                <a:off x="5627160" y="2264760"/>
                <a:ext cx="120600" cy="206280"/>
                <a:chOff x="5627160" y="2264760"/>
                <a:chExt cx="120600" cy="206280"/>
              </a:xfrm>
            </p:grpSpPr>
            <p:grpSp>
              <p:nvGrpSpPr>
                <p:cNvPr id="2357" name=""/>
                <p:cNvGrpSpPr/>
                <p:nvPr/>
              </p:nvGrpSpPr>
              <p:grpSpPr>
                <a:xfrm>
                  <a:off x="5627160" y="2264760"/>
                  <a:ext cx="120240" cy="206280"/>
                  <a:chOff x="5627160" y="2264760"/>
                  <a:chExt cx="120240" cy="206280"/>
                </a:xfrm>
              </p:grpSpPr>
              <p:sp>
                <p:nvSpPr>
                  <p:cNvPr id="2358" name=""/>
                  <p:cNvSpPr/>
                  <p:nvPr/>
                </p:nvSpPr>
                <p:spPr>
                  <a:xfrm>
                    <a:off x="5642280" y="226476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5627160" y="235332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5627160" y="241200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1" name=""/>
                <p:cNvGrpSpPr/>
                <p:nvPr/>
              </p:nvGrpSpPr>
              <p:grpSpPr>
                <a:xfrm>
                  <a:off x="5627520" y="2264760"/>
                  <a:ext cx="120240" cy="206280"/>
                  <a:chOff x="5627520" y="2264760"/>
                  <a:chExt cx="120240" cy="206280"/>
                </a:xfrm>
              </p:grpSpPr>
              <p:sp>
                <p:nvSpPr>
                  <p:cNvPr id="2362" name=""/>
                  <p:cNvSpPr/>
                  <p:nvPr/>
                </p:nvSpPr>
                <p:spPr>
                  <a:xfrm>
                    <a:off x="5642640" y="2264760"/>
                    <a:ext cx="90000" cy="88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5627520" y="2353320"/>
                    <a:ext cx="120240" cy="117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5627520" y="2412000"/>
                    <a:ext cx="119520" cy="5904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65" name=""/>
              <p:cNvGrpSpPr/>
              <p:nvPr/>
            </p:nvGrpSpPr>
            <p:grpSpPr>
              <a:xfrm>
                <a:off x="5762160" y="2264760"/>
                <a:ext cx="120960" cy="206280"/>
                <a:chOff x="5762160" y="2264760"/>
                <a:chExt cx="120960" cy="206280"/>
              </a:xfrm>
            </p:grpSpPr>
            <p:grpSp>
              <p:nvGrpSpPr>
                <p:cNvPr id="2366" name=""/>
                <p:cNvGrpSpPr/>
                <p:nvPr/>
              </p:nvGrpSpPr>
              <p:grpSpPr>
                <a:xfrm>
                  <a:off x="5762160" y="2264760"/>
                  <a:ext cx="120240" cy="206280"/>
                  <a:chOff x="5762160" y="2264760"/>
                  <a:chExt cx="120240" cy="206280"/>
                </a:xfrm>
              </p:grpSpPr>
              <p:sp>
                <p:nvSpPr>
                  <p:cNvPr id="2367" name=""/>
                  <p:cNvSpPr/>
                  <p:nvPr/>
                </p:nvSpPr>
                <p:spPr>
                  <a:xfrm>
                    <a:off x="5777280" y="2264760"/>
                    <a:ext cx="9000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5762160" y="2353320"/>
                    <a:ext cx="120240" cy="117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5762160" y="2412000"/>
                    <a:ext cx="11952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0" name=""/>
                <p:cNvGrpSpPr/>
                <p:nvPr/>
              </p:nvGrpSpPr>
              <p:grpSpPr>
                <a:xfrm>
                  <a:off x="5762880" y="2264760"/>
                  <a:ext cx="120240" cy="206280"/>
                  <a:chOff x="5762880" y="2264760"/>
                  <a:chExt cx="120240" cy="206280"/>
                </a:xfrm>
              </p:grpSpPr>
              <p:sp>
                <p:nvSpPr>
                  <p:cNvPr id="2371" name=""/>
                  <p:cNvSpPr/>
                  <p:nvPr/>
                </p:nvSpPr>
                <p:spPr>
                  <a:xfrm>
                    <a:off x="5778000" y="2264760"/>
                    <a:ext cx="90000" cy="885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5762880" y="2353320"/>
                    <a:ext cx="120240" cy="1177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>
                    <a:off x="5762880" y="2412000"/>
                    <a:ext cx="119520" cy="59040"/>
                  </a:xfrm>
                  <a:prstGeom prst="rect">
                    <a:avLst/>
                  </a:pr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4" name=""/>
            <p:cNvGrpSpPr/>
            <p:nvPr/>
          </p:nvGrpSpPr>
          <p:grpSpPr>
            <a:xfrm>
              <a:off x="5486400" y="2415960"/>
              <a:ext cx="402840" cy="149400"/>
              <a:chOff x="5486400" y="2415960"/>
              <a:chExt cx="402840" cy="149400"/>
            </a:xfrm>
          </p:grpSpPr>
          <p:sp>
            <p:nvSpPr>
              <p:cNvPr id="2375" name=""/>
              <p:cNvSpPr txBox="1"/>
              <p:nvPr/>
            </p:nvSpPr>
            <p:spPr>
              <a:xfrm>
                <a:off x="5489280" y="2415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報告会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376" name=""/>
              <p:cNvSpPr txBox="1"/>
              <p:nvPr/>
            </p:nvSpPr>
            <p:spPr>
              <a:xfrm>
                <a:off x="5486400" y="2415960"/>
                <a:ext cx="399960" cy="149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報告会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377" name=""/>
          <p:cNvGrpSpPr/>
          <p:nvPr/>
        </p:nvGrpSpPr>
        <p:grpSpPr>
          <a:xfrm>
            <a:off x="8008920" y="2492280"/>
            <a:ext cx="215640" cy="287280"/>
            <a:chOff x="8008920" y="2492280"/>
            <a:chExt cx="215640" cy="287280"/>
          </a:xfrm>
        </p:grpSpPr>
        <p:sp>
          <p:nvSpPr>
            <p:cNvPr id="2378" name=""/>
            <p:cNvSpPr txBox="1"/>
            <p:nvPr/>
          </p:nvSpPr>
          <p:spPr>
            <a:xfrm>
              <a:off x="8008920" y="249228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30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79" name=""/>
            <p:cNvSpPr txBox="1"/>
            <p:nvPr/>
          </p:nvSpPr>
          <p:spPr>
            <a:xfrm>
              <a:off x="8008920" y="2492280"/>
              <a:ext cx="21564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latin typeface="Arial Black"/>
                </a:rPr>
                <a:t>30</a:t>
              </a:r>
              <a:endParaRPr b="1" lang="en-US" sz="18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6032520" y="3500280"/>
            <a:ext cx="403200" cy="288720"/>
            <a:chOff x="6032520" y="3500280"/>
            <a:chExt cx="403200" cy="288720"/>
          </a:xfrm>
        </p:grpSpPr>
        <p:grpSp>
          <p:nvGrpSpPr>
            <p:cNvPr id="2381" name=""/>
            <p:cNvGrpSpPr/>
            <p:nvPr/>
          </p:nvGrpSpPr>
          <p:grpSpPr>
            <a:xfrm>
              <a:off x="6051600" y="3500280"/>
              <a:ext cx="363600" cy="123840"/>
              <a:chOff x="6051600" y="3500280"/>
              <a:chExt cx="363600" cy="123840"/>
            </a:xfrm>
          </p:grpSpPr>
          <p:grpSp>
            <p:nvGrpSpPr>
              <p:cNvPr id="2382" name=""/>
              <p:cNvGrpSpPr/>
              <p:nvPr/>
            </p:nvGrpSpPr>
            <p:grpSpPr>
              <a:xfrm>
                <a:off x="6051600" y="3500280"/>
                <a:ext cx="363600" cy="123840"/>
                <a:chOff x="6051600" y="3500280"/>
                <a:chExt cx="363600" cy="12384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6113160" y="3546720"/>
                  <a:ext cx="219600" cy="3096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rot="16200000">
                  <a:off x="6050880" y="3522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rot="5400000">
                  <a:off x="6290280" y="3522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395400" y="3500280"/>
                  <a:ext cx="19800" cy="123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6051600" y="3500280"/>
                  <a:ext cx="19800" cy="12384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6051600" y="3500280"/>
                <a:ext cx="363600" cy="123840"/>
                <a:chOff x="6051600" y="3500280"/>
                <a:chExt cx="363600" cy="12384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6113160" y="3546720"/>
                  <a:ext cx="219600" cy="30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16200000">
                  <a:off x="6050880" y="3522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rot="5400000">
                  <a:off x="6290280" y="3522240"/>
                  <a:ext cx="123840" cy="7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6395400" y="3500280"/>
                  <a:ext cx="19800" cy="1238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6051600" y="3500280"/>
                  <a:ext cx="19800" cy="1238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4" name=""/>
            <p:cNvGrpSpPr/>
            <p:nvPr/>
          </p:nvGrpSpPr>
          <p:grpSpPr>
            <a:xfrm>
              <a:off x="6032520" y="3639960"/>
              <a:ext cx="403200" cy="149040"/>
              <a:chOff x="6032520" y="3639960"/>
              <a:chExt cx="403200" cy="149040"/>
            </a:xfrm>
          </p:grpSpPr>
          <p:sp>
            <p:nvSpPr>
              <p:cNvPr id="2395" name=""/>
              <p:cNvSpPr txBox="1"/>
              <p:nvPr/>
            </p:nvSpPr>
            <p:spPr>
              <a:xfrm>
                <a:off x="6035760" y="36399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予備期間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396" name=""/>
              <p:cNvSpPr txBox="1"/>
              <p:nvPr/>
            </p:nvSpPr>
            <p:spPr>
              <a:xfrm>
                <a:off x="6032520" y="3639960"/>
                <a:ext cx="40032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予備期間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grpSp>
        <p:nvGrpSpPr>
          <p:cNvPr id="2397" name=""/>
          <p:cNvGrpSpPr/>
          <p:nvPr/>
        </p:nvGrpSpPr>
        <p:grpSpPr>
          <a:xfrm>
            <a:off x="3335760" y="3195000"/>
            <a:ext cx="467280" cy="523080"/>
            <a:chOff x="3335760" y="3195000"/>
            <a:chExt cx="467280" cy="523080"/>
          </a:xfrm>
        </p:grpSpPr>
        <p:grpSp>
          <p:nvGrpSpPr>
            <p:cNvPr id="2398" name=""/>
            <p:cNvGrpSpPr/>
            <p:nvPr/>
          </p:nvGrpSpPr>
          <p:grpSpPr>
            <a:xfrm>
              <a:off x="3335760" y="3195000"/>
              <a:ext cx="467280" cy="467280"/>
              <a:chOff x="3335760" y="3195000"/>
              <a:chExt cx="467280" cy="467280"/>
            </a:xfrm>
          </p:grpSpPr>
          <p:sp>
            <p:nvSpPr>
              <p:cNvPr id="2399" name=""/>
              <p:cNvSpPr/>
              <p:nvPr/>
            </p:nvSpPr>
            <p:spPr>
              <a:xfrm rot="2700000">
                <a:off x="3425400" y="3241800"/>
                <a:ext cx="287640" cy="372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rot="2700000">
                <a:off x="3537000" y="3288240"/>
                <a:ext cx="287640" cy="57240"/>
              </a:xfrm>
              <a:custGeom>
                <a:avLst/>
                <a:gdLst>
                  <a:gd name="textAreaLeft" fmla="*/ 49320 w 287640"/>
                  <a:gd name="textAreaRight" fmla="*/ 238320 w 287640"/>
                  <a:gd name="textAreaTop" fmla="*/ 9720 h 57240"/>
                  <a:gd name="textAreaBottom" fmla="*/ 47520 h 5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80" y="21600"/>
                    </a:lnTo>
                    <a:lnTo>
                      <a:pt x="3520" y="2160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>
                <a:off x="3437640" y="3336480"/>
                <a:ext cx="222840" cy="22320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rot="2700000">
                <a:off x="3425400" y="3241800"/>
                <a:ext cx="287640" cy="372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3" name=""/>
            <p:cNvSpPr txBox="1"/>
            <p:nvPr/>
          </p:nvSpPr>
          <p:spPr>
            <a:xfrm>
              <a:off x="3368520" y="3569040"/>
              <a:ext cx="39996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</a:rPr>
                <a:t>デザイン提出</a:t>
              </a:r>
              <a:endPara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メイリオ"/>
                <a:ea typeface="メイリオ"/>
              </a:endParaRPr>
            </a:p>
          </p:txBody>
        </p:sp>
        <p:sp>
          <p:nvSpPr>
            <p:cNvPr id="2404" name=""/>
            <p:cNvSpPr txBox="1"/>
            <p:nvPr/>
          </p:nvSpPr>
          <p:spPr>
            <a:xfrm>
              <a:off x="3368520" y="3569040"/>
              <a:ext cx="399960" cy="14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</a:rPr>
                <a:t>デザイン提出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メイリオ"/>
                <a:ea typeface="メイリオ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8048520" y="5373720"/>
            <a:ext cx="432000" cy="501480"/>
            <a:chOff x="8048520" y="5373720"/>
            <a:chExt cx="432000" cy="501480"/>
          </a:xfrm>
        </p:grpSpPr>
        <p:grpSp>
          <p:nvGrpSpPr>
            <p:cNvPr id="2406" name=""/>
            <p:cNvGrpSpPr/>
            <p:nvPr/>
          </p:nvGrpSpPr>
          <p:grpSpPr>
            <a:xfrm>
              <a:off x="8048520" y="5373720"/>
              <a:ext cx="432000" cy="431640"/>
              <a:chOff x="8048520" y="5373720"/>
              <a:chExt cx="432000" cy="431640"/>
            </a:xfrm>
          </p:grpSpPr>
          <p:sp>
            <p:nvSpPr>
              <p:cNvPr id="2407" name=""/>
              <p:cNvSpPr/>
              <p:nvPr/>
            </p:nvSpPr>
            <p:spPr>
              <a:xfrm>
                <a:off x="8048520" y="5373720"/>
                <a:ext cx="432000" cy="43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8084880" y="5409720"/>
                <a:ext cx="358920" cy="3589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8103240" y="5427360"/>
                <a:ext cx="323280" cy="3232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6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8103240" y="5463000"/>
                <a:ext cx="323280" cy="251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103240" y="5535000"/>
                <a:ext cx="323280" cy="107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rot="5400000">
                <a:off x="8103240" y="5463000"/>
                <a:ext cx="323280" cy="2520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rot="5400000">
                <a:off x="8102520" y="5535000"/>
                <a:ext cx="323280" cy="107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8066160" y="5726160"/>
              <a:ext cx="399960" cy="149040"/>
              <a:chOff x="8066160" y="5726160"/>
              <a:chExt cx="399960" cy="149040"/>
            </a:xfrm>
          </p:grpSpPr>
          <p:sp>
            <p:nvSpPr>
              <p:cNvPr id="2415" name=""/>
              <p:cNvSpPr txBox="1"/>
              <p:nvPr/>
            </p:nvSpPr>
            <p:spPr>
              <a:xfrm>
                <a:off x="8066160" y="57261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381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メイリオ"/>
                  </a:rPr>
                  <a:t>配信</a:t>
                </a:r>
                <a:endParaRPr b="1" lang="en-US" sz="1800" spc="1" strike="noStrike">
                  <a:ln w="381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メイリオ"/>
                  <a:ea typeface="メイリオ"/>
                </a:endParaRPr>
              </a:p>
            </p:txBody>
          </p:sp>
          <p:sp>
            <p:nvSpPr>
              <p:cNvPr id="2416" name=""/>
              <p:cNvSpPr txBox="1"/>
              <p:nvPr/>
            </p:nvSpPr>
            <p:spPr>
              <a:xfrm>
                <a:off x="8066160" y="5726160"/>
                <a:ext cx="399960" cy="14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メイリオ"/>
                  </a:rPr>
                  <a:t>配信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メイリオ"/>
                  <a:ea typeface="メイリオ"/>
                </a:endParaRPr>
              </a:p>
            </p:txBody>
          </p:sp>
        </p:grpSp>
      </p:grpSp>
      <p:sp>
        <p:nvSpPr>
          <p:cNvPr id="2417" name=""/>
          <p:cNvSpPr/>
          <p:nvPr/>
        </p:nvSpPr>
        <p:spPr>
          <a:xfrm>
            <a:off x="5673600" y="3860640"/>
            <a:ext cx="1008360" cy="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3297240" y="3860640"/>
            <a:ext cx="576360" cy="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8553600" y="5661000"/>
            <a:ext cx="1008000" cy="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0" name=""/>
          <p:cNvGraphicFramePr/>
          <p:nvPr/>
        </p:nvGraphicFramePr>
        <p:xfrm>
          <a:off x="344520" y="836640"/>
          <a:ext cx="9217080" cy="5616720"/>
        </p:xfrm>
        <a:graphic>
          <a:graphicData uri="http://schemas.openxmlformats.org/drawingml/2006/table">
            <a:tbl>
              <a:tblPr/>
              <a:tblGrid>
                <a:gridCol w="1666800"/>
                <a:gridCol w="628560"/>
                <a:gridCol w="630360"/>
                <a:gridCol w="628560"/>
                <a:gridCol w="628920"/>
                <a:gridCol w="630000"/>
                <a:gridCol w="628560"/>
                <a:gridCol w="628920"/>
                <a:gridCol w="630000"/>
                <a:gridCol w="628920"/>
                <a:gridCol w="628560"/>
                <a:gridCol w="630360"/>
                <a:gridCol w="62856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営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開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運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21" name=""/>
          <p:cNvSpPr/>
          <p:nvPr/>
        </p:nvSpPr>
        <p:spPr>
          <a:xfrm>
            <a:off x="515520" y="260280"/>
            <a:ext cx="9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■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１年サンプ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2" name=""/>
          <p:cNvGraphicFramePr/>
          <p:nvPr/>
        </p:nvGraphicFramePr>
        <p:xfrm>
          <a:off x="344520" y="836640"/>
          <a:ext cx="9217080" cy="5616720"/>
        </p:xfrm>
        <a:graphic>
          <a:graphicData uri="http://schemas.openxmlformats.org/drawingml/2006/table">
            <a:tbl>
              <a:tblPr/>
              <a:tblGrid>
                <a:gridCol w="1665360"/>
                <a:gridCol w="1258920"/>
                <a:gridCol w="1258920"/>
                <a:gridCol w="1257120"/>
                <a:gridCol w="1258920"/>
                <a:gridCol w="1258920"/>
                <a:gridCol w="1258920"/>
              </a:tblGrid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23" name=""/>
          <p:cNvSpPr/>
          <p:nvPr/>
        </p:nvSpPr>
        <p:spPr>
          <a:xfrm>
            <a:off x="393480" y="260280"/>
            <a:ext cx="5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■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半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4" name=""/>
          <p:cNvGraphicFramePr/>
          <p:nvPr/>
        </p:nvGraphicFramePr>
        <p:xfrm>
          <a:off x="344520" y="836640"/>
          <a:ext cx="9217080" cy="5532480"/>
        </p:xfrm>
        <a:graphic>
          <a:graphicData uri="http://schemas.openxmlformats.org/drawingml/2006/table">
            <a:tbl>
              <a:tblPr/>
              <a:tblGrid>
                <a:gridCol w="1703520"/>
                <a:gridCol w="241200"/>
                <a:gridCol w="243000"/>
                <a:gridCol w="242640"/>
                <a:gridCol w="241200"/>
                <a:gridCol w="243000"/>
                <a:gridCol w="243000"/>
                <a:gridCol w="243000"/>
                <a:gridCol w="241200"/>
                <a:gridCol w="243000"/>
                <a:gridCol w="242640"/>
                <a:gridCol w="241200"/>
                <a:gridCol w="243000"/>
                <a:gridCol w="243000"/>
                <a:gridCol w="241200"/>
                <a:gridCol w="243000"/>
                <a:gridCol w="242640"/>
                <a:gridCol w="241560"/>
                <a:gridCol w="242640"/>
                <a:gridCol w="243000"/>
                <a:gridCol w="241200"/>
                <a:gridCol w="243000"/>
                <a:gridCol w="243000"/>
                <a:gridCol w="242640"/>
                <a:gridCol w="241560"/>
                <a:gridCol w="242640"/>
                <a:gridCol w="243000"/>
                <a:gridCol w="241200"/>
                <a:gridCol w="243000"/>
                <a:gridCol w="243000"/>
                <a:gridCol w="241200"/>
                <a:gridCol w="243000"/>
              </a:tblGrid>
              <a:tr h="28872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71746"/>
                        </a:gs>
                      </a:gsLst>
                      <a:lin ang="5400000"/>
                    </a:gradFill>
                  </a:tcPr>
                </a:tc>
              </a:tr>
              <a:tr h="174816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780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4780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メイリオ"/>
                        </a:rPr>
                        <a:t>項目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00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25" name=""/>
          <p:cNvSpPr/>
          <p:nvPr/>
        </p:nvSpPr>
        <p:spPr>
          <a:xfrm>
            <a:off x="418680" y="260280"/>
            <a:ext cx="5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ヶ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0:53:18Z</dcterms:created>
  <dc:creator>http://www.digipot.net</dc:creator>
  <dc:description/>
  <dc:language>en-US</dc:language>
  <cp:lastModifiedBy>http://www.digipot.net</cp:lastModifiedBy>
  <dcterms:modified xsi:type="dcterms:W3CDTF">2012-11-07T07:31:47Z</dcterms:modified>
  <cp:revision>1</cp:revision>
  <dc:subject>PPT197_ビジュアル重視の計画表</dc:subject>
  <dc:title>PPT197_ビジュアル重視の計画表</dc:title>
</cp:coreProperties>
</file>